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172-11F8-4D59-AFC2-2666A227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ACC-0A39-4F6D-AD44-E6FD841E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7C4-9C0C-44A0-AAAC-4BE2BEDE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C8E-6A1D-4395-986A-3DD6EE74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5CDC-9419-481D-880F-9EDB7D2C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680E-C586-4482-8F07-B96FB000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2244-FD3D-4D0F-9709-1AEF16BA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D36E-8424-42FF-9A5A-79F8CE85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36D0-744F-4950-8ED4-23B1ABB6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163D-59CF-4CD9-88A5-5B8F0CF9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E6C7-027A-4F5D-ABDA-D4419906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607-012D-4055-8B8C-AC56A9EA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C896-9642-4B23-ABC7-245CE6A0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EEC7-4679-4535-8A9F-5875B666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3C9A-3BD6-4978-854E-D54F7791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70E3-3223-4126-B6E4-8809DEF9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45C5-F6FA-43CF-A849-FD498EEA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5FF61-B7B5-4E2E-99DA-94D9D5A6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434F6-E81E-4885-B49F-D127C07E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46204-DBF0-4F76-8A6B-621C458E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C528C-8B96-420A-BCDC-2E4B141D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8CB3D-C3FE-47F2-9F2A-43A61534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9D3-597C-44DA-B6F8-8AD9A251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FCEEB-B290-40F9-A91F-985121AD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5E262-B0C9-4ADA-B90C-EC1557A3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C30C4-38F7-42D0-8C79-B61EC901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90D7-9D0D-46BA-B1CC-2B9A6EDE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C5C64-FF14-4785-B9B0-13B718F5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BF5AF-ACD1-45F8-92FC-18C83163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E369F-C369-4729-8298-364B8ED5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C752A-650E-47A6-ACCF-BE2BE206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6452E-FB06-456B-98AB-634939C3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25398-B602-42B0-89A9-5C45A558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1C8-5014-4BDB-8D67-5ED156F6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B699E-49E3-4468-8B37-EEE437AD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C6815-006A-49BA-ABEA-1F59DB29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FBC60-247A-43D6-80E8-E2556AFE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0AA04-E4BF-474C-A3FB-3F640513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CE14F-A15A-467C-A778-BEA50C18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5DBFE-37DB-4B5E-BF26-A1A66684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A3C85-2BA7-4A18-AEE0-1D1AAC0F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AA543-18EE-47EE-835A-DE6403AE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91AFE-1C9C-4C59-A644-5C49C19E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0D450-1747-4A82-9E7D-D4A59A18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AF6-9FE1-4FF4-8DBB-4E63AF5F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2CBC4-D27F-4341-BB73-F85B4686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ED7DE-99DD-4DFE-83B7-A978AF56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A9BCC-E523-4ECF-9999-BD378877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34828-A1A6-468B-9F37-FE33D626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16C088-3D65-4568-869D-1A5E64E0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9C275-6A8C-4468-9B2E-04684102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19437-7BFD-447B-B645-CF9567C0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B1489-CD55-4B42-AD77-F8F12F0C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2BA17D-725E-46AD-A97D-E18E0912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D17D2-2A5A-4D47-BE7D-5AED795E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440-4DFB-4AC6-90E9-BCBBC7A7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4216D-3776-4F3B-B21E-3B161B23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7C4-5621-4928-97FD-7FB6CE86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25E-F7A5-47FF-AD32-3B07FFA3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719-4900-49C8-B169-A4B74925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A35E-7EB2-46A9-B8F0-63D12D36339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4A85-AA01-4004-95E1-C4C2E651EFE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33CF-9A2F-42F6-ABF2-E888A434999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577A-3B2D-4AE3-91CC-2BC452D1EAD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AB9B-CFA0-434E-A02A-4984DA82237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822240" y="255600"/>
            <a:ext cx="8120160" cy="25066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5240" cy="2952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За  веру и Отечество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Picture 4" descr="image018"/>
          <p:cNvPicPr/>
          <p:nvPr/>
        </p:nvPicPr>
        <p:blipFill>
          <a:blip r:embed="rId1"/>
          <a:stretch/>
        </p:blipFill>
        <p:spPr>
          <a:xfrm>
            <a:off x="1440000" y="189000"/>
            <a:ext cx="6227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Чтобы спасти Отечеств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4000" y="1267920"/>
            <a:ext cx="8353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жарский делал своё ратное дело с умением, и в каком бы рискованном положении не оказывался, всегда оставался честным, преданным России полководце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т имени «Совета всей земли» Пожарский назначал воевод, рассылал грамоты, призывая в Нижегородское ополчение ратных люд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нязь вёл переговоры с Австрией, чтобы обезопасить от неё северо-восток России, в результате чего Польша была изолирована от вероятных союзник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ижний Новгород – центр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ционально-освободительного движен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Picture 4" descr="IMG_1064"/>
          <p:cNvPicPr/>
          <p:nvPr/>
        </p:nvPicPr>
        <p:blipFill>
          <a:blip r:embed="rId1"/>
          <a:stretch/>
        </p:blipFill>
        <p:spPr>
          <a:xfrm>
            <a:off x="971640" y="1484280"/>
            <a:ext cx="7056360" cy="5040360"/>
          </a:xfrm>
          <a:prstGeom prst="rect">
            <a:avLst/>
          </a:prstGeom>
          <a:ln w="31680">
            <a:solidFill>
              <a:srgbClr val="cc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68360" y="189000"/>
            <a:ext cx="822960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 всех концов в Нижний прибывали служилые дворяне, казаки, стрельцы, другой люд, желавший участвовать в ратном дел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Ковалихе и за Дмитровскими воротами ковали оружие и доспехи, на Зелейном дворе готовили порох, на Нижнем посаде шили одежду для ополченце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инин заботился о приобретении достаточного количества железа, меди, олова, древесного угля и прочих запас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 Благовещенской слободы был устроен пушечный двор, где к началу выступления ополчения из Нижнего Новгорода отлили первые пушк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155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Ядро Нижегородского ополчения составили ополченцы-нижегородцы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Первыми на зов Минина пришли в Нижний Новгород коломенские и рязанские ратники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За ними в конце октября подошли дорогобужские и вяземские ратники-дворян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В январе 1612 года в Нижний Новгород прибыли смоленские ратник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В ополчении находилось 3500 стрельцов и тысяча всадник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 пути к Ярославлю и Москве вливались новые добровольческие силы. Народ поднимался мощным, неудержимым валом на борьбу за освобождение Москвы, за полное изгнание интервентов с Русской земл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15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1612: хронология событ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765000"/>
            <a:ext cx="9010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евраль-март – движение Нижегородского ополчения  в направлении Костромы и Ярославл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арт-июль – подготовка к походу на Москв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0 августа – вступление в Москв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2-24 августа: разгром армии гетмана Ходкевич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2 октября – освобождение Китай-города (крепостной системы вокруг Кремл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6 октября – окончательное освобождение Москвы, капитуляция интервен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50920" y="189000"/>
            <a:ext cx="868680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Поток врагов был грозен и велик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Родимый край был мрачен и пустынен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Но спас его из Нижнего мясник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Хвала тебе, великодушный Минин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 тобою князь Пожарский. В вихре сеч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м спасена Московская держа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От Минина приняв народный меч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Он дал Руси спасенье. Слава! Слава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Хвала и честь героям старины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В четвёртое, на этот раз, столетье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Защитникам родной своей страны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В годину смут, тревог и лихолеть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Помнит благодарная Росс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1267920"/>
            <a:ext cx="8893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Бегут годы, шагают десятилетия, и каждое из них насыщается историческими событиями, подвигами, геройскими поступками, благородными делами, противостоящими злу, насилию, распрям и война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       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Но есть беспримерные факты и явления, которым нельзя найти аналогов в истории. К таким относится гражданский подвиг нижегородцев, создававших </a:t>
            </a: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I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опол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ти Православную веру…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1628280"/>
            <a:ext cx="449568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«И было тогда такое лютое время, что люди не чаяли впредь спасения себе, чуть 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е вся земля русская опустела;  прозвали стар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аши это время – лихолетьем, потому что была на русскую землю такая беда, какой не бывало от начала мира…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4" descr="image006"/>
          <p:cNvPicPr/>
          <p:nvPr/>
        </p:nvPicPr>
        <p:blipFill>
          <a:blip r:embed="rId1"/>
          <a:stretch/>
        </p:blipFill>
        <p:spPr>
          <a:xfrm>
            <a:off x="4648320" y="2446200"/>
            <a:ext cx="4038480" cy="283392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«Утвердимся в соединении, братья!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48392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Церковные иерархи составили грамоту, призвавшую народ к организованному сопротивлению полякам. Одна из грамот с призывом к борьбе за Русь и веру Православную была получена в октябре 1611 года  и в Нижнем Новгород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Известно письмо жителей Москвы, обращавшихся к нижегородцам за помощью: </a:t>
            </a: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«</a:t>
            </a:r>
            <a:r>
              <a:rPr b="1" i="1" lang="ru-RU" sz="2200" spc="-1" strike="noStrike">
                <a:solidFill>
                  <a:srgbClr val="002060"/>
                </a:solidFill>
                <a:latin typeface="Constantia"/>
              </a:rPr>
              <a:t>Гибнет Москва, а Москва есть основание России, не забудьте, что пока крепок корень, то и дерево крепко; не будет корня, на чём оно будет держаться?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nstantia"/>
              </a:rPr>
              <a:t>«Не утвердимся ли в соединении, и не станем ли до смерти стояти за веру Христианскую</a:t>
            </a: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»,-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бращались к своим землякам старейшины Нижнего Новгоро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Вставайте люди русские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Picture 5" descr="2005-44-01-01"/>
          <p:cNvPicPr/>
          <p:nvPr/>
        </p:nvPicPr>
        <p:blipFill>
          <a:blip r:embed="rId1"/>
          <a:stretch/>
        </p:blipFill>
        <p:spPr>
          <a:xfrm>
            <a:off x="179280" y="1700280"/>
            <a:ext cx="5077080" cy="4284720"/>
          </a:xfrm>
          <a:prstGeom prst="rect">
            <a:avLst/>
          </a:prstGeom>
          <a:ln w="34920">
            <a:solidFill>
              <a:srgbClr val="ff00ff"/>
            </a:solidFill>
            <a:miter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292720" y="1568520"/>
            <a:ext cx="38512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 борьбу с интервентами поднимаетс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род, и во главе Народного ополчени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стают истинные патриоты России – посадский староста </a:t>
            </a:r>
            <a:r>
              <a:rPr b="1" lang="ru-RU" sz="2800" spc="-1" strike="noStrike">
                <a:solidFill>
                  <a:srgbClr val="cc66ff"/>
                </a:solidFill>
                <a:latin typeface="Constantia"/>
              </a:rPr>
              <a:t>Кузьма Минин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и князь </a:t>
            </a:r>
            <a:r>
              <a:rPr b="1" lang="ru-RU" sz="2800" spc="-1" strike="noStrike">
                <a:solidFill>
                  <a:srgbClr val="cc66ff"/>
                </a:solidFill>
                <a:latin typeface="Constantia"/>
              </a:rPr>
              <a:t>Дмитрий Пожарский</a:t>
            </a:r>
            <a:r>
              <a:rPr b="0" lang="ru-RU" sz="2400" spc="-1" strike="noStrike">
                <a:solidFill>
                  <a:srgbClr val="cc66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Кузьма Минин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(1562 – 1616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одился на Волге, в городе Балахне, недалеко от Нижнего Новгорода, в семье соледобытчи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удучи младшим сыном, не получил наследства; перебрался в Нижний, купил двор и стал торговать мяс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ительность, честность и деловая хватка снискали Минину высокую репутацию среди купцов, которые избрали его посадским старост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Воззвание Мини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Picture 3" descr="http://elib.ispu.ru/library/history/05tema5/slovar5_files/image001.jpg"/>
          <p:cNvPicPr/>
          <p:nvPr/>
        </p:nvPicPr>
        <p:blipFill>
          <a:blip r:embed="rId1"/>
          <a:stretch/>
        </p:blipFill>
        <p:spPr>
          <a:xfrm>
            <a:off x="755640" y="1125360"/>
            <a:ext cx="7561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Picture 3" descr="image012"/>
          <p:cNvPicPr/>
          <p:nvPr/>
        </p:nvPicPr>
        <p:blipFill>
          <a:blip r:embed="rId1"/>
          <a:stretch/>
        </p:blipFill>
        <p:spPr>
          <a:xfrm>
            <a:off x="1547640" y="189000"/>
            <a:ext cx="6048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Чтобы спасти Отечеств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360" y="1268280"/>
            <a:ext cx="8229600" cy="50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инин поднял посадских тягловых людей на то, чтобы собрать средства для ополчения (сначала «третью», а потом «пятую» деньгу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лагодаря его пламенным речам  служилые люди стали охотнее собираться в ополч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н был выбран «миром» в казначеи ополчения и, кроме того, с начала и до победного конца похода на поляков выступал в звании «выборного человека всею землею». Во многом благодаря действиям Минина Нижний Новгород  ни разу не был захвачен антиправительственными войск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Дмитрий Пожарский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(1578 – 164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267920"/>
            <a:ext cx="822960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од Пожарских древен, но не бога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одовое гнездо – село Мугреево, недалеко от Суздаля; там прошло детство княз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зже Пожарские переезжают в Москву, где с 15 до 20 лет Дмитрий служит стряпчим при царском дворе и сопровождает государя в поход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1611 году, сражаясь в рядах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(Рязанского) ополчения против войск семибоярщины, получает серьёзное ран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правившись от ран в родном селе, при содействии Минина соглашается возглавить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(Нижегородское) ополч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2:23:41Z</dcterms:created>
  <dc:creator>Admin</dc:creator>
  <dc:description/>
  <dc:language>en-US</dc:language>
  <cp:lastModifiedBy>USER</cp:lastModifiedBy>
  <dcterms:modified xsi:type="dcterms:W3CDTF">2022-03-02T10:20:37Z</dcterms:modified>
  <cp:revision>8</cp:revision>
  <dc:subject/>
  <dc:title>Слайд 1</dc:title>
</cp:coreProperties>
</file>