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png" ContentType="image/png"/>
  <Override PartName="/ppt/media/image1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1B4B-2D18-4546-A20A-1C14844BEC0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F364-53C3-478F-9BB1-D9FDAB68F14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7C04-34E7-4E3F-BAE9-F853694F65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CB2C1-6787-4A43-9B9E-DD8633F7412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88CBF-89D4-4D02-A3D0-75C0B4E3A6A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3D09C-4641-4901-85F0-4D36487F3CB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2758A-5D6A-46A6-A2A5-7715921CDCE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6B599-0DF7-43E8-918C-20571E59FCF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C080A-E692-4751-9871-0D1CDF00091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90D6E-3F06-4EB6-8640-969A086262D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5742-195E-4D7E-8822-103D16C4E8F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2596-DAF8-4FEA-9B84-A8F814DEC9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2EB5-7259-4A63-9011-664ECA4326E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2E10-FE60-48DF-9A09-B841466B8DF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7059-41C9-4100-AEFF-4D87437FC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4A04-B15D-41FA-BEB7-7E088F9C4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6DB9-A590-4B90-974F-69B2A74A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BFEA-B91A-4D3C-A8CD-0B11CD5E3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16518-EB55-4CCD-8BB3-7B1D8DDFD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DB5F0-D450-4E89-8A9E-18A2C2163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600-DD9A-42F0-A948-9AA366CF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AB11-E4DF-4E26-BA2B-213A002CE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17761-CE84-4481-94F9-B538FEE47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BCAB5-0BDC-48DA-9932-B333E132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1E23E-1D80-42E6-AA72-D0C3A249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DF775-4A20-4855-9B36-B94405CD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7907-490F-4664-86D4-F43EBB91D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E7FD-EF38-4AEE-AB9E-BD034C1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C31DA-3DCA-46E7-838F-B6A5CF9C7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CABD-B251-4E0D-BCA1-4BCA3F5B7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5F4F6-6447-40B2-A5C0-CD557A5FE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8D7CC8-D6A1-475C-9EF8-B712369D7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33663A-7788-451E-850D-4E5C31D4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262C62-5D1E-44CB-9710-17DD5F0CE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5E50B-E113-40D0-9238-4E6868DE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C270C-F6FC-4027-BF33-136639770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9F57-AD84-4152-8784-41C96CBE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1F182B-4141-4AEE-B998-C37C6B30E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F70BA-9D64-4612-A52B-06CB89C0D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ACF1A-F3C1-43EE-BDDE-CF436BACF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A0F6D-C528-404A-ABAC-DD96F998D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6C663-FA9A-4E9A-B3A9-BBC1CAA9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9B440-E221-4B4F-8E1B-03AD718EA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431F0-F2CC-467C-8FAE-58847A9BE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53276-B0C8-4C25-9836-6E984A22A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113DC-AD28-4CEE-842E-7D1DE25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B84140-D537-432D-B5F1-32DB6C626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BDE2-3E71-4416-9DB0-E4179A45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A2672C-926D-40C5-94DD-F3DFC7BFA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354AF-D309-421F-9BF0-CA49193A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F1997-D593-4347-BAE2-C1A563BD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3C94A7-2629-4221-8378-D169D0B5D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A1AEA-1DEE-4B08-A62B-3BD35CEA8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437639-6CFF-4ACD-AA00-FA8679E53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B09074-6111-4080-981F-FBB80E1D2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F75DD-3E0B-4F86-BD3A-39A004796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9AA19-25D0-476C-A954-0D2C66ADE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D8C9-8E11-47A2-B38D-636B23798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7543-79B2-4687-AADB-3AF906B50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1DB4F-C89E-410F-9A99-8F62D534C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5EBD4A-DBA2-40E5-952C-4B469F3F4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C49BCE-E206-4BE0-9F1A-309C36133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15BA-2FD2-477C-A06E-06F87E4F2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2501E-810E-487C-A49B-7D79F397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E6DC8-405E-49C4-9905-0395D2194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8EAA3F-EF1A-4A70-BC15-3A39DB3A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D742E6-0E37-4118-A620-C7DE70CE7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D1CD87-CF58-45F1-8B94-3A453A4B8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FEF75-873C-4EC8-AAF5-FB738820E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90FD-5DD2-4C1D-A49E-6CA183FEA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362938-ABF0-4D49-A0E3-ED9061931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C8EB5-D095-4571-A9F8-526639E70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BA731-3C89-4D79-9387-BE89B55A7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7033F0-C2DE-48D6-98DE-D3C39D4E9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3DE019-2906-4914-9183-EA846C91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0A5D66-40C2-4CCC-B6AA-D581CA8CE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99246-C13B-4479-BF9D-1771ECD59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CBF794-C1A8-4A91-BE8F-4DA7D5F30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B0DF3A-DCAB-4BE0-90E4-576417DA2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11EAF9-176C-4D70-A2A1-F271D3B33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065B-FBD2-491C-9279-DDE19FC59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F6C06-74CE-45D7-8DA5-EDCCF481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4800AF-38C3-44D7-B3EA-0B5F50C08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65F3F8-C165-4D28-B2B5-BDD834D7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EF8D90-6BEE-45AD-A83B-841EA002E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F8570B-D517-4BD5-BE78-6686675FE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F362E-7D99-4CF3-A384-F59C73D2B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0A8AAC-7998-4C10-920C-EFE3BB18E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16A15-8820-44D6-90D8-79841EB2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AE79A-682B-435D-AF11-8DEB5E21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76AD1-D430-4D31-9F1C-EDE8A9B5F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5ABB-FEDB-48F9-9480-01AD8E10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69E6D8-7562-4155-A1F8-4ADE52B6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D6598F-1A0C-47BD-8FF3-40B196225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4F0584-AD30-44F4-94B7-D3AD9733E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8F855-48EF-4A16-A295-0188D8730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57177-6663-410D-A233-8D95569E4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2652B-E460-425B-B92D-14F023EF3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A21244-D22A-4483-9072-11BC97D9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6EBF2E-D1FB-4E16-9B11-7D5426B06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FEAA81-AC9F-474F-AB91-333D4D1D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3EFBB-C72A-4E83-9026-6CE50BD33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35A6-9552-4788-8CD7-6B58DE60D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E79F-15F2-4909-A134-9CCE5EB4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4CD3A1-135A-4071-ADB1-26D7067D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0F67AF-FA0F-46E4-9262-39614F7F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B3222-5CD2-466D-A80F-9E8FF25C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2ACFD-B008-49F2-B70B-307CE297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541712-FE4F-49BF-8427-F7D3AD7C7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F3F662-483E-4865-8991-F1326DEE4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Прямоугольный треугольник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Прямая соединительная линия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56302-3E82-4B89-80A5-7F1B4171237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ый треугольник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Группа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Полилиния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Полилиния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Полилиния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Полилиния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Прямая соединительная линия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8C4E-22B9-4D8E-92FA-7DF8AA39A6B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Нашивка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Нашивка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5B378-9B02-43EB-820F-2952C6FF248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5B80-1040-4167-B567-22736D97D0B8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0E8D-2BA1-442E-970A-5B03B164150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олилиния 12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олилиния 11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Прямоугольный треугольник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Прямоугольный треугольник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Прямая соединительная линия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A790-65B2-40F6-AD5D-2E5A0594CC16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8E993-B458-4683-A733-6554BAF7545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олилиния 10"/>
          <p:cNvSpPr/>
          <p:nvPr/>
        </p:nvSpPr>
        <p:spPr>
          <a:xfrm>
            <a:off x="716040" y="5002200"/>
            <a:ext cx="3801960" cy="14428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1442880"/>
              <a:gd name="textAreaBottom" fmla="*/ 1443240 h 1442880"/>
            </a:gdLst>
            <a:ahLst/>
            <a:rect l="textAreaLeft" t="textAreaTop" r="textAreaRight" b="textAreaBottom"/>
            <a:pathLst>
              <a:path w="5760" h="528">
                <a:moveTo>
                  <a:pt x="-329" y="347"/>
                </a:moveTo>
                <a:lnTo>
                  <a:pt x="7156" y="682"/>
                </a:lnTo>
                <a:lnTo>
                  <a:pt x="5229" y="682"/>
                </a:lnTo>
                <a:lnTo>
                  <a:pt x="-328" y="345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Полилиния 15"/>
          <p:cNvSpPr/>
          <p:nvPr/>
        </p:nvSpPr>
        <p:spPr>
          <a:xfrm>
            <a:off x="-54000" y="5784840"/>
            <a:ext cx="3801960" cy="838080"/>
          </a:xfrm>
          <a:custGeom>
            <a:avLst/>
            <a:gdLst>
              <a:gd name="textAreaLeft" fmla="*/ 0 w 3801960"/>
              <a:gd name="textAreaRight" fmla="*/ 3802320 w 380196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5760" h="528">
                <a:moveTo>
                  <a:pt x="817" y="97"/>
                </a:moveTo>
                <a:lnTo>
                  <a:pt x="6408" y="682"/>
                </a:lnTo>
                <a:lnTo>
                  <a:pt x="5232" y="685"/>
                </a:lnTo>
                <a:lnTo>
                  <a:pt x="829" y="101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Прямоугольный треугольник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Прямоугольный треугольник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Нашивка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Нашивка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3E04-23EE-485C-9836-F43EB8DD8E04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Заголовок 1" descr=""/>
          <p:cNvPicPr/>
          <p:nvPr/>
        </p:nvPicPr>
        <p:blipFill>
          <a:blip r:embed="rId1"/>
          <a:stretch/>
        </p:blipFill>
        <p:spPr>
          <a:xfrm>
            <a:off x="682560" y="950760"/>
            <a:ext cx="7785000" cy="262764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93372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Зызыкина И.Ю., заместитель директора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МБОУ Афонинская СШ</a:t>
            </a:r>
            <a:br>
              <a:rPr sz="1800"/>
            </a:br>
            <a:r>
              <a:rPr b="0" lang="ru-RU" sz="1800" spc="-1" strike="noStrike">
                <a:solidFill>
                  <a:srgbClr val="464646"/>
                </a:solidFill>
                <a:latin typeface="Lucida Sans Unicode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357200"/>
            <a:ext cx="822960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ласти мотивации учебной деятельности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МРЦ «Организация психолого-педагогического сопровождения участников образовательного процесса» (МБОУ СШ № 6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работе Центра профориентации «Твой жизненный выбор» (МБУ ДО ЦВР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Участие в семинаре «Диагностика профессиональных дефицитов педагогов. Анализ соответствия результатов диагностик профессиональной компетентности учителей выявленным дефицитам обучающихся» (МБОУ Лицей №7 г. Кстово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Заголовок 2" descr=""/>
          <p:cNvPicPr/>
          <p:nvPr/>
        </p:nvPicPr>
        <p:blipFill>
          <a:blip r:embed="rId1"/>
          <a:stretch/>
        </p:blipFill>
        <p:spPr>
          <a:xfrm>
            <a:off x="450720" y="92160"/>
            <a:ext cx="824256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 txBox="1"/>
          <p:nvPr/>
        </p:nvSpPr>
        <p:spPr>
          <a:xfrm>
            <a:off x="457200" y="1714320"/>
            <a:ext cx="8229600" cy="42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беспечении достижения запланированных результатов в процессе проведения учебного занятия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дивидуальная познавательная деятельность педагогов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ндивидуальных образовательных маршрутов педагогов по формированию профессиональных компетенций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ен опытом по организации продуктивной и результативной деятельности обучающихся на учебном занятии (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первизии – взаимопосещение уроков с последующим анализом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изация наставничества молодых специалистов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4" name="Заголовок 2" descr=""/>
          <p:cNvPicPr/>
          <p:nvPr/>
        </p:nvPicPr>
        <p:blipFill>
          <a:blip r:embed="rId1"/>
          <a:stretch/>
        </p:blipFill>
        <p:spPr>
          <a:xfrm>
            <a:off x="426960" y="244440"/>
            <a:ext cx="8283600" cy="11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Заголовок 2" descr=""/>
          <p:cNvPicPr/>
          <p:nvPr/>
        </p:nvPicPr>
        <p:blipFill>
          <a:blip r:embed="rId1"/>
          <a:stretch/>
        </p:blipFill>
        <p:spPr>
          <a:xfrm>
            <a:off x="920880" y="146160"/>
            <a:ext cx="7802280" cy="146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"/>
          <p:cNvGraphicFramePr/>
          <p:nvPr/>
        </p:nvGraphicFramePr>
        <p:xfrm>
          <a:off x="428760" y="1785960"/>
          <a:ext cx="8501040" cy="4541760"/>
        </p:xfrm>
        <a:graphic>
          <a:graphicData uri="http://schemas.openxmlformats.org/drawingml/2006/table">
            <a:tbl>
              <a:tblPr/>
              <a:tblGrid>
                <a:gridCol w="515880"/>
                <a:gridCol w="2535120"/>
                <a:gridCol w="1525680"/>
                <a:gridCol w="1307880"/>
                <a:gridCol w="2616480"/>
              </a:tblGrid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тветственный исполнитель, ресурс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рок исполн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жидаемые результаты исполнения мероприя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2da2bf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дифференциации и индивидуального развития обучающихся для достижения образовательных результ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дидактический инструментарий, используемый для  дифференциации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бласти мотивации учебной деятель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создавать ситуации, обеспечивающие осознанное отношение к изучаемому предмету на основе  профессионального выбора обучающихся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f0f4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Г. Развитие компетентностей в осуществлении контроля и оценки учебных достижений, текущих и итоговых образовательных результа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меститель директо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уководитель П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нтябрь –май 2019-20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формировано умение осуществлять объективную оценку знаний обучающихся на основе различных методов контроля и диагност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e0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1.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Охват программой МР: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формальное обучение – 4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ешнее неформальное обучение – 7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Внутришкольное неформальное обучение – 100% педагогов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Информальное образование – 100% педагогов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2. Положительная динамика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профессиональной компетентности педагогов по выявленным дефицитам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– до </a:t>
            </a: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4 баллов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 (по шкале диагностической методики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Lucida Sans Unicode"/>
              </a:rPr>
              <a:t>3. Эффект от реализации программы МР– </a:t>
            </a: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ложительная динамика образовательных результатов обучающихс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ВПР;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Lucida Sans Unicode"/>
              </a:rPr>
              <a:t>по итогам ГИА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8" name="Заголовок 2" descr=""/>
          <p:cNvPicPr/>
          <p:nvPr/>
        </p:nvPicPr>
        <p:blipFill>
          <a:blip r:embed="rId1"/>
          <a:stretch/>
        </p:blipFill>
        <p:spPr>
          <a:xfrm>
            <a:off x="311040" y="195120"/>
            <a:ext cx="851544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500040" y="214272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Lucida Sans Unicode"/>
              </a:rPr>
              <a:t>Самооценка и экспертная оценка сформированности компетентности педагогов</a:t>
            </a: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Lucida Sans Unicode"/>
              </a:rPr>
              <a:t>Диагностическая методика лаборатории информационно-методического обеспечения выравнивания образовательных результатов ГБОУ ДПО НИРО</a:t>
            </a: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Заголовок 2" descr=""/>
          <p:cNvPicPr/>
          <p:nvPr/>
        </p:nvPicPr>
        <p:blipFill>
          <a:blip r:embed="rId1"/>
          <a:stretch/>
        </p:blipFill>
        <p:spPr>
          <a:xfrm>
            <a:off x="450720" y="158760"/>
            <a:ext cx="8242560" cy="547560"/>
          </a:xfrm>
          <a:prstGeom prst="rect">
            <a:avLst/>
          </a:prstGeom>
          <a:ln w="0">
            <a:noFill/>
          </a:ln>
        </p:spPr>
      </p:pic>
      <p:pic>
        <p:nvPicPr>
          <p:cNvPr id="382" name="Содержимое 3" descr=""/>
          <p:cNvPicPr/>
          <p:nvPr/>
        </p:nvPicPr>
        <p:blipFill>
          <a:blip r:embed="rId2"/>
          <a:stretch/>
        </p:blipFill>
        <p:spPr>
          <a:xfrm>
            <a:off x="-6480" y="0"/>
            <a:ext cx="9156960" cy="61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 txBox="1"/>
          <p:nvPr/>
        </p:nvSpPr>
        <p:spPr>
          <a:xfrm>
            <a:off x="179280" y="476280"/>
            <a:ext cx="896472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ucida Sans Unicode"/>
              </a:rPr>
              <a:t>Перечень дефицитов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1. Умение формировать цели и результаты программ учебных дисциплин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2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разработать собственные методические и дидактические материалы, обеспечивающие достижение планируемых результатов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1.3. Умение планировать педагогическую деятельность при реализации программ с учетом особенностей обучающихся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1. Умение учитывать образовательные предметные дефициты обучающихся при отборе содержания учебного материалы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дидактический инструментарий, используемый для дифференциации обучения 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создавать ситуации, обеспечивающие осознанное отношение к изучаемому предмету на основе профессионального выбора  (5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3.3. </a:t>
            </a:r>
            <a:r>
              <a:rPr b="0" lang="en-US" sz="1400" spc="-1" strike="noStrike">
                <a:solidFill>
                  <a:srgbClr val="232323"/>
                </a:solidFill>
                <a:latin typeface="Lucida Sans Unicode"/>
              </a:rPr>
              <a:t>Умение привлекать потенциал родителей к обеспечению необходимого уровня позитивной мотивации к учебной деятельности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4.3. Умение организовывать продуктивную и результативную деятельность обучающихся на учебном заняти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1. Умение использовать системные формы и методы контроля учебных достижений, текущих и итоговых образовательных результатов обучающихся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2. </a:t>
            </a:r>
            <a:r>
              <a:rPr b="1" lang="en-US" sz="1400" spc="-1" strike="noStrike">
                <a:solidFill>
                  <a:srgbClr val="990000"/>
                </a:solidFill>
                <a:latin typeface="Lucida Sans Unicode"/>
              </a:rPr>
              <a:t>Умение осуществлять объективную оценку знаний обучающихся на основе различных методов контроля и диагностики(40%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Sans Unicode"/>
              </a:rPr>
              <a:t>5.3. Умение осуществлять анализ образовательных результатов и корректировать образовательную деятельность в соответствии с его итогами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4" name="Заголовок 1" descr=""/>
          <p:cNvPicPr/>
          <p:nvPr/>
        </p:nvPicPr>
        <p:blipFill>
          <a:blip r:embed="rId1"/>
          <a:stretch/>
        </p:blipFill>
        <p:spPr>
          <a:xfrm>
            <a:off x="463680" y="-85680"/>
            <a:ext cx="8242200" cy="59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2"/>
          <p:cNvSpPr/>
          <p:nvPr/>
        </p:nvSpPr>
        <p:spPr>
          <a:xfrm>
            <a:off x="0" y="0"/>
            <a:ext cx="8978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Lucida Sans Unicode"/>
              </a:rPr>
              <a:t>Категории педагог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Прямая соединительная линия 8"/>
          <p:cNvSpPr/>
          <p:nvPr/>
        </p:nvSpPr>
        <p:spPr>
          <a:xfrm>
            <a:off x="1214280" y="5500800"/>
            <a:ext cx="6715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Прямая соединительная линия 11"/>
          <p:cNvSpPr/>
          <p:nvPr/>
        </p:nvSpPr>
        <p:spPr>
          <a:xfrm flipV="1">
            <a:off x="1143000" y="642960"/>
            <a:ext cx="1440" cy="485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Прямоугольник 18"/>
          <p:cNvSpPr/>
          <p:nvPr/>
        </p:nvSpPr>
        <p:spPr>
          <a:xfrm>
            <a:off x="3059280" y="5572080"/>
            <a:ext cx="4370400" cy="3571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сихологическая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9" name="Прямая со стрелкой 20"/>
          <p:cNvCxnSpPr/>
          <p:nvPr/>
        </p:nvCxnSpPr>
        <p:spPr>
          <a:xfrm>
            <a:off x="6643800" y="5857920"/>
            <a:ext cx="7149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0" name="Прямая со стрелкой 22"/>
          <p:cNvCxnSpPr/>
          <p:nvPr/>
        </p:nvCxnSpPr>
        <p:spPr>
          <a:xfrm flipH="1" flipV="1">
            <a:off x="1928520" y="5785560"/>
            <a:ext cx="71496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1" name="Прямоугольник 26"/>
          <p:cNvSpPr/>
          <p:nvPr/>
        </p:nvSpPr>
        <p:spPr>
          <a:xfrm>
            <a:off x="7715160" y="571500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Прямоугольник 27"/>
          <p:cNvSpPr/>
          <p:nvPr/>
        </p:nvSpPr>
        <p:spPr>
          <a:xfrm>
            <a:off x="500040" y="5643720"/>
            <a:ext cx="100008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Низ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Прямоугольник 28"/>
          <p:cNvSpPr/>
          <p:nvPr/>
        </p:nvSpPr>
        <p:spPr>
          <a:xfrm rot="16200000">
            <a:off x="-928440" y="2928600"/>
            <a:ext cx="3643200" cy="35748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Профессиональная готов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4" name="Прямая со стрелкой 29"/>
          <p:cNvCxnSpPr/>
          <p:nvPr/>
        </p:nvCxnSpPr>
        <p:spPr>
          <a:xfrm flipV="1">
            <a:off x="927720" y="999360"/>
            <a:ext cx="1080" cy="429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95" name="Прямая со стрелкой 30"/>
          <p:cNvCxnSpPr/>
          <p:nvPr/>
        </p:nvCxnSpPr>
        <p:spPr>
          <a:xfrm flipH="1">
            <a:off x="928440" y="5072040"/>
            <a:ext cx="2160" cy="427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96" name="Прямоугольник 31"/>
          <p:cNvSpPr/>
          <p:nvPr/>
        </p:nvSpPr>
        <p:spPr>
          <a:xfrm>
            <a:off x="142920" y="357120"/>
            <a:ext cx="1071360" cy="5000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Высокий  уровен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ая соединительная линия 50"/>
          <p:cNvSpPr/>
          <p:nvPr/>
        </p:nvSpPr>
        <p:spPr>
          <a:xfrm flipH="1">
            <a:off x="4642920" y="714240"/>
            <a:ext cx="1800" cy="478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Прямая соединительная линия 52"/>
          <p:cNvSpPr/>
          <p:nvPr/>
        </p:nvSpPr>
        <p:spPr>
          <a:xfrm>
            <a:off x="1143000" y="2928960"/>
            <a:ext cx="6357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Прямоугольник 62"/>
          <p:cNvSpPr/>
          <p:nvPr/>
        </p:nvSpPr>
        <p:spPr>
          <a:xfrm>
            <a:off x="4716360" y="692280"/>
            <a:ext cx="3959280" cy="216684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Comic Sans MS"/>
              </a:rPr>
              <a:t>Успешные: могут и хотя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Мотивированы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Comic Sans MS"/>
              </a:rPr>
              <a:t>-Успешны в  освоении образовательных технологий на основе личных убеждений, глубокого осмысления теоретических основ, опыта реальных ситуац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4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Прямоугольник 63"/>
          <p:cNvSpPr/>
          <p:nvPr/>
        </p:nvSpPr>
        <p:spPr>
          <a:xfrm>
            <a:off x="1285920" y="642960"/>
            <a:ext cx="3286080" cy="22147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Пассивные: могут, но не хот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Могут применять новые технологии в своей деятельности, но это зависит от формы стимул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-Изменения воспринимают как необходимость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Прямоугольник 64"/>
          <p:cNvSpPr/>
          <p:nvPr/>
        </p:nvSpPr>
        <p:spPr>
          <a:xfrm>
            <a:off x="4714920" y="3000240"/>
            <a:ext cx="3929040" cy="242892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9900"/>
                </a:solidFill>
                <a:uFillTx/>
                <a:latin typeface="Comic Sans MS"/>
              </a:rPr>
              <a:t>Активные: хотят, но не могу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Позитивно относятся к изменениям, изменения представляют личностную ц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Comic Sans MS"/>
              </a:rPr>
              <a:t>-Дублируют новые подходы в своей деятельности без теоретического их осмысления, не умеют их творчески перерабатыв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omic Sans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Прямоугольник 65"/>
          <p:cNvSpPr/>
          <p:nvPr/>
        </p:nvSpPr>
        <p:spPr>
          <a:xfrm>
            <a:off x="1285920" y="3357720"/>
            <a:ext cx="3286080" cy="2000160"/>
          </a:xfrm>
          <a:prstGeom prst="rect">
            <a:avLst/>
          </a:prstGeom>
          <a:solidFill>
            <a:srgbClr val="ffffff"/>
          </a:solidFill>
          <a:ln w="55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99"/>
                </a:solidFill>
                <a:uFillTx/>
                <a:latin typeface="Comic Sans MS"/>
              </a:rPr>
              <a:t>Инертные: не хотят и не могу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Используют старые формы и методы деятельности, имитируют процесс внедрения новог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99"/>
                </a:solidFill>
                <a:latin typeface="Comic Sans MS"/>
              </a:rPr>
              <a:t>-Не мотивированы на изменения, действуют только по требованию руковод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Comic Sans MS"/>
              </a:rPr>
              <a:t>(20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Lucida Sans Unicode"/>
              </a:rPr>
              <a:t>повышение уровня профессиональных компетентностей  учителей для достижения стабильно положительных образовательных результатов обучающихся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разработки и реализации образовательных программ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дифференциации и индивидуализации обучения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бласти мотивации учебной деятельности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 u="sng">
                <a:solidFill>
                  <a:srgbClr val="000000"/>
                </a:solidFill>
                <a:uFillTx/>
                <a:latin typeface="Lucida Sans Unicode"/>
              </a:rPr>
              <a:t>Компетентности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 в осуществлении контроля и оценки учебных достижений, текущих и итоговых образовательных результатов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Заголовок 2" descr=""/>
          <p:cNvPicPr/>
          <p:nvPr/>
        </p:nvPicPr>
        <p:blipFill>
          <a:blip r:embed="rId1"/>
          <a:stretch/>
        </p:blipFill>
        <p:spPr>
          <a:xfrm>
            <a:off x="450720" y="195120"/>
            <a:ext cx="8242560" cy="7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000080"/>
            <a:ext cx="8229600" cy="500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1. По целевым установкам: 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ддерживающее, обеспечивающее функционирование обучени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развивающее обучение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Lucida Sans Unicode"/>
              </a:rPr>
              <a:t>2. По формам организации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1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ешне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по программам ГБОУ ДПО НИРО (план-график 2019-2020) – на бюджетной основе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на территории учреждений-партнеров г. Кстово (МБОУ Лицей № 7, МБОУ СШ № 6, МБУ ДО ЦВР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2.2. </a:t>
            </a:r>
            <a:r>
              <a:rPr b="0" lang="ru-RU" sz="1900" spc="-1" strike="noStrike" u="sng">
                <a:solidFill>
                  <a:srgbClr val="000000"/>
                </a:solidFill>
                <a:uFillTx/>
                <a:latin typeface="Lucida Sans Unicode"/>
              </a:rPr>
              <a:t>Внутришкольное обучение: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с приглашением специалистов ГБОУ ДПО НИРО (по договору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ение в районе по плану ИМО департамента образования Кстовского муниципального района (занятия РМО, творческих и проблемных групп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Lucida Sans Unicode"/>
              </a:rPr>
              <a:t>обучающие семинары, практикумы (педагоги и руководители ОО)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Заголовок 2" descr=""/>
          <p:cNvPicPr/>
          <p:nvPr/>
        </p:nvPicPr>
        <p:blipFill>
          <a:blip r:embed="rId1"/>
          <a:stretch/>
        </p:blipFill>
        <p:spPr>
          <a:xfrm>
            <a:off x="450720" y="55440"/>
            <a:ext cx="8242560" cy="10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и в области дифференциации и индивидуализации обучения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русскому языку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Дифференцированный подход в подготовке учащихся к ЕГЭ по обществознанию 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Методика подготовки к ЕГЭ и ОГЭ по истории и обществознанию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Организация подготовки выпускников 11 классов к ГИА по математике", 18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"Проектирование учебного занятия по предметам естественнонаучного цикла в условиях реализации ФГОС", 36 часов – 1 чел.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8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 txBox="1"/>
          <p:nvPr/>
        </p:nvSpPr>
        <p:spPr>
          <a:xfrm>
            <a:off x="357120" y="1571760"/>
            <a:ext cx="8329680" cy="44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2060"/>
                </a:solidFill>
                <a:latin typeface="Lucida Sans Unicode"/>
              </a:rPr>
              <a:t>Повышение профессиональной компетентности в осуществлении контроля и оценки учебных достижений, текущих и итоговых образовательных результатов обучающихся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Заявка на обучение педагогов и руководителей ОО на внебюджетной основе (ГБОУ ДПО НИРО)</a:t>
            </a: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  <a:p>
            <a:pPr marL="623880" indent="-514440">
              <a:spcBef>
                <a:spcPts val="400"/>
              </a:spcBef>
              <a:buClr>
                <a:srgbClr val="2da2bf"/>
              </a:buClr>
              <a:buSzPct val="68000"/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0" name="Заголовок 2" descr=""/>
          <p:cNvPicPr/>
          <p:nvPr/>
        </p:nvPicPr>
        <p:blipFill>
          <a:blip r:embed="rId1"/>
          <a:stretch/>
        </p:blipFill>
        <p:spPr>
          <a:xfrm>
            <a:off x="420840" y="201600"/>
            <a:ext cx="8242200" cy="102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3T08:03:20Z</dcterms:created>
  <dc:creator>Владелец</dc:creator>
  <dc:description/>
  <dc:language>en-US</dc:language>
  <cp:lastModifiedBy>*</cp:lastModifiedBy>
  <dcterms:modified xsi:type="dcterms:W3CDTF">2019-12-09T07:31:41Z</dcterms:modified>
  <cp:revision>98</cp:revision>
  <dc:subject/>
  <dc:title>Программа методической работы</dc:title>
</cp:coreProperties>
</file>