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.png" ContentType="image/png"/>
  <Override PartName="/ppt/media/image25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png" ContentType="image/png"/>
  <Override PartName="/ppt/media/image42.jpeg" ContentType="image/jpeg"/>
  <Override PartName="/ppt/media/image43.wmf" ContentType="image/x-wmf"/>
  <Override PartName="/ppt/media/image23.png" ContentType="image/png"/>
  <Override PartName="/ppt/media/image45.png" ContentType="image/png"/>
  <Override PartName="/ppt/media/image44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4.png" ContentType="image/png"/>
  <Override PartName="/ppt/media/image46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F32-C923-4F3F-894F-C6884BF4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0D4-06B4-4A8F-BE76-ADD2C67E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1F7-145E-4660-8D9B-A766BB3C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EE9-B88A-45FF-9357-D84AEB5E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F73-8AB5-4D39-A076-B9971320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26E-9F54-4495-B05D-E67B9A7C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657-3D2C-4B5F-98CC-EAC5191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839-D3A7-49C9-8654-146F5380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5EB-C1AD-4C4A-B630-D15094BF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EE4-5F25-4D5C-99A7-8D2ECF3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EA3-CD87-4898-8334-FB4B6253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BEA-26BC-41D3-82A0-1532F0AA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E009-8A0C-4211-B70F-1866F3558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ites.google.com/site/projectniro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304920" y="304920"/>
            <a:ext cx="8610480" cy="6324480"/>
          </a:xfrm>
          <a:prstGeom prst="foldedCorner">
            <a:avLst>
              <a:gd name="adj" fmla="val 9069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378080" y="542880"/>
            <a:ext cx="6375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МНАЗИЯ №14, ГОРОД ВЫ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099120" y="2389320"/>
            <a:ext cx="2403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зина Мар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нтелеева Наталь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линкина Валер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харова Екатер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синская Ири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лисеева Елизаве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зова Анастас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рисов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цы 6 класса «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Руководитель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: М.М.Воронецкая, учитель информатики и И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992320" y="600408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477800" y="1639800"/>
            <a:ext cx="61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effbd"/>
                </a:solidFill>
                <a:latin typeface="Arial"/>
              </a:rPr>
              <a:t>КРАСОТА СПАСЕТ 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022400" y="2509920"/>
            <a:ext cx="4597200" cy="338112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Весь мир - любовь.mp3" descr=""/>
          <p:cNvPicPr/>
          <p:nvPr/>
        </p:nvPicPr>
        <p:blipFill>
          <a:blip r:embed="rId2"/>
          <a:stretch/>
        </p:blipFill>
        <p:spPr>
          <a:xfrm>
            <a:off x="311040" y="7116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23920" y="401760"/>
            <a:ext cx="8610480" cy="6324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932200" y="422280"/>
            <a:ext cx="32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вет отц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19200" y="5005440"/>
            <a:ext cx="792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«Совете отцов» мы выступили со своей «проблемой», рассказали о целях, задачах проекта, который могут помочь осуществить, только наши умные и сильные папы. Они не остались равнодушными к нашей проблеме и дело пош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286000" y="1125360"/>
            <a:ext cx="4518000" cy="600120"/>
          </a:xfrm>
          <a:custGeom>
            <a:avLst/>
            <a:gdLst>
              <a:gd name="textAreaLeft" fmla="*/ 1129320 w 4518000"/>
              <a:gd name="textAreaRight" fmla="*/ 3388680 w 451800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нтябрь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760320" y="1782720"/>
            <a:ext cx="3899160" cy="327672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5141880" y="2122560"/>
            <a:ext cx="317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5"/>
          <p:cNvSpPr/>
          <p:nvPr/>
        </p:nvSpPr>
        <p:spPr>
          <a:xfrm>
            <a:off x="247680" y="266760"/>
            <a:ext cx="8610480" cy="6324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95360" y="30636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74720" y="42552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277920" y="1631880"/>
            <a:ext cx="5424480" cy="43228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549680" y="4257720"/>
            <a:ext cx="3795840" cy="2663640"/>
          </a:xfrm>
          <a:prstGeom prst="flowChartMultidocumen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5919840" y="2576520"/>
            <a:ext cx="28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дители, ученики, учителя работали не покладая рук 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2498760" y="1173240"/>
            <a:ext cx="3938400" cy="600120"/>
          </a:xfrm>
          <a:custGeom>
            <a:avLst/>
            <a:gdLst>
              <a:gd name="textAreaLeft" fmla="*/ 984600 w 3938400"/>
              <a:gd name="textAreaRight" fmla="*/ 2953800 w 393840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ябрь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93560" y="0"/>
            <a:ext cx="8156880" cy="6629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95360" y="30636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74720" y="42552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987800" y="1938240"/>
            <a:ext cx="343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бята нашего класса продавали ежемесячно (300экз.) гимназическую газету «Гели+Я». На вырученные деньги мы приобрели семена цветов и посадили их для расс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595440" y="1204920"/>
            <a:ext cx="7902360" cy="600120"/>
          </a:xfrm>
          <a:custGeom>
            <a:avLst/>
            <a:gdLst>
              <a:gd name="textAreaLeft" fmla="*/ 1975680 w 7902360"/>
              <a:gd name="textAreaRight" fmla="*/ 5927040 w 790236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ЯБРЬ2008 – МАРТ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673200" y="1914480"/>
            <a:ext cx="4244760" cy="36892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3948120" y="4086360"/>
            <a:ext cx="3146400" cy="2369880"/>
          </a:xfrm>
          <a:prstGeom prst="flowChartMultidocumen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 rot="7722600">
            <a:off x="5936040" y="4406040"/>
            <a:ext cx="1944720" cy="5302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132480 h 530280"/>
              <a:gd name="textAreaBottom" fmla="*/ 397800 h 53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93560" y="114480"/>
            <a:ext cx="8156880" cy="6629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95360" y="30636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74720" y="42552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1757520" y="1697040"/>
            <a:ext cx="2547720" cy="196992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572000" y="1486080"/>
            <a:ext cx="3898800" cy="295416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004760" y="3637080"/>
            <a:ext cx="3868920" cy="298116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146560" y="4548240"/>
            <a:ext cx="2938680" cy="190980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с большим интересом, во время группы продленного дня, высаживали тюльпаны, нарцисс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705040" y="1173240"/>
            <a:ext cx="3732120" cy="600120"/>
          </a:xfrm>
          <a:custGeom>
            <a:avLst/>
            <a:gdLst>
              <a:gd name="textAreaLeft" fmla="*/ 933120 w 3732120"/>
              <a:gd name="textAreaRight" fmla="*/ 2799360 w 373212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рель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93560" y="114480"/>
            <a:ext cx="8156880" cy="6629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95360" y="14940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774720" y="22536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2705040" y="1173240"/>
            <a:ext cx="3732120" cy="600120"/>
          </a:xfrm>
          <a:custGeom>
            <a:avLst/>
            <a:gdLst>
              <a:gd name="textAreaLeft" fmla="*/ 933120 w 3732120"/>
              <a:gd name="textAreaRight" fmla="*/ 2799360 w 373212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й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89040" y="2139840"/>
            <a:ext cx="4303800" cy="336888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5472000" y="1832040"/>
            <a:ext cx="2955960" cy="246996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024520" y="4002120"/>
            <a:ext cx="2832120" cy="237816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650880" y="5270400"/>
            <a:ext cx="4276800" cy="1371600"/>
          </a:xfrm>
          <a:custGeom>
            <a:avLst/>
            <a:gdLst>
              <a:gd name="textAreaLeft" fmla="*/ 43920 w 4276800"/>
              <a:gd name="textAreaRight" fmla="*/ 4232880 w 4276800"/>
              <a:gd name="textAreaTop" fmla="*/ 177840 h 1371600"/>
              <a:gd name="textAreaBottom" fmla="*/ 1193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089" y="-3560"/>
                  <a:pt x="14289" y="6360"/>
                  <a:pt x="21378" y="1400"/>
                </a:cubicBezTo>
                <a:lnTo>
                  <a:pt x="21600" y="20200"/>
                </a:lnTo>
                <a:cubicBezTo>
                  <a:pt x="14511" y="25160"/>
                  <a:pt x="7311" y="15240"/>
                  <a:pt x="222" y="20200"/>
                </a:cubicBez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 на наш сквер из окна нашей гимназии. Красота, не правда 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93560" y="114480"/>
            <a:ext cx="8156880" cy="6629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95360" y="14940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774720" y="22536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705040" y="1173240"/>
            <a:ext cx="3732120" cy="600120"/>
          </a:xfrm>
          <a:custGeom>
            <a:avLst/>
            <a:gdLst>
              <a:gd name="textAreaLeft" fmla="*/ 933120 w 3732120"/>
              <a:gd name="textAreaRight" fmla="*/ 2799360 w 373212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й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084640" y="2119320"/>
            <a:ext cx="3502080" cy="3754440"/>
          </a:xfrm>
          <a:custGeom>
            <a:avLst/>
            <a:gdLst>
              <a:gd name="textAreaLeft" fmla="*/ 35640 w 3502080"/>
              <a:gd name="textAreaRight" fmla="*/ 3466440 w 3502080"/>
              <a:gd name="textAreaTop" fmla="*/ 266400 h 3754440"/>
              <a:gd name="textAreaBottom" fmla="*/ 3488040 h 3754440"/>
            </a:gdLst>
            <a:ahLst/>
            <a:rect l="textAreaLeft" t="textAreaTop" r="textAreaRight" b="textAreaBottom"/>
            <a:pathLst>
              <a:path w="21600" h="21600">
                <a:moveTo>
                  <a:pt x="0" y="767"/>
                </a:moveTo>
                <a:cubicBezTo>
                  <a:pt x="7089" y="-1950"/>
                  <a:pt x="14289" y="3484"/>
                  <a:pt x="21378" y="767"/>
                </a:cubicBezTo>
                <a:lnTo>
                  <a:pt x="21600" y="20833"/>
                </a:lnTo>
                <a:cubicBezTo>
                  <a:pt x="14511" y="23550"/>
                  <a:pt x="7311" y="18116"/>
                  <a:pt x="222" y="20833"/>
                </a:cubicBez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тели окрестных домов не оставили без внимания наши старания. В теплые весенние дни они помогают нам облагораживать наш сквер. Прохожим приятно видеть такую красоту, а бабушки и дедушки отметили, что им очень радостно, что растут такие достойные и очень любящие СВОЮ РОДИНУ ДЕТИ!!!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611280" y="1855800"/>
            <a:ext cx="4303800" cy="336852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 rot="20414400">
            <a:off x="3303720" y="1725120"/>
            <a:ext cx="2746080" cy="831960"/>
          </a:xfrm>
          <a:custGeom>
            <a:avLst/>
            <a:gdLst>
              <a:gd name="textAreaLeft" fmla="*/ 480600 w 2746080"/>
              <a:gd name="textAreaRight" fmla="*/ 1991160 w 2746080"/>
              <a:gd name="textAreaTop" fmla="*/ 111240 h 831960"/>
              <a:gd name="textAreaBottom" fmla="*/ 7207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806400" y="5099040"/>
            <a:ext cx="3176640" cy="1022400"/>
          </a:xfrm>
          <a:custGeom>
            <a:avLst/>
            <a:gdLst>
              <a:gd name="textAreaLeft" fmla="*/ 32400 w 3176640"/>
              <a:gd name="textAreaRight" fmla="*/ 3144240 w 3176640"/>
              <a:gd name="textAreaTop" fmla="*/ 132480 h 1022400"/>
              <a:gd name="textAreaBottom" fmla="*/ 88992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089" y="-3560"/>
                  <a:pt x="14289" y="6360"/>
                  <a:pt x="21378" y="1400"/>
                </a:cubicBezTo>
                <a:lnTo>
                  <a:pt x="21600" y="20200"/>
                </a:lnTo>
                <a:cubicBezTo>
                  <a:pt x="14511" y="25160"/>
                  <a:pt x="7311" y="15240"/>
                  <a:pt x="222" y="20200"/>
                </a:cubicBez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Ш. Ежова (пенсионерка, жительница дома №23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93560" y="114480"/>
            <a:ext cx="8156880" cy="6629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495360" y="30636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74720" y="42552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4883040" y="1959120"/>
            <a:ext cx="3481560" cy="409572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теперь, главное… Как организовать уход за нашим сквером, во внеурочное время, летом? Эту проблему нам помогла решить администрация в лице С.В.Матчиной (зам.директора по ВР). Создан и утвержден график летней практики учащихся 5-8 классов в сквере, под руководством наши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890720" y="1204920"/>
            <a:ext cx="5335560" cy="600120"/>
          </a:xfrm>
          <a:custGeom>
            <a:avLst/>
            <a:gdLst>
              <a:gd name="textAreaLeft" fmla="*/ 1333800 w 5335560"/>
              <a:gd name="textAreaRight" fmla="*/ 4001760 w 533556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юнь-август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1825560" y="4289400"/>
            <a:ext cx="2765520" cy="226368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657360" y="1917720"/>
            <a:ext cx="3325680" cy="257796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93560" y="114480"/>
            <a:ext cx="8156880" cy="6629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495360" y="14940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774720" y="22536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705040" y="1173240"/>
            <a:ext cx="3732120" cy="600120"/>
          </a:xfrm>
          <a:custGeom>
            <a:avLst/>
            <a:gdLst>
              <a:gd name="textAreaLeft" fmla="*/ 933120 w 3732120"/>
              <a:gd name="textAreaRight" fmla="*/ 2799360 w 373212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й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577800" y="2817720"/>
            <a:ext cx="2354400" cy="23018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563400" y="1289160"/>
            <a:ext cx="1714680" cy="14634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189000" y="5138640"/>
            <a:ext cx="2724120" cy="1212840"/>
          </a:xfrm>
          <a:custGeom>
            <a:avLst/>
            <a:gdLst>
              <a:gd name="textAreaLeft" fmla="*/ 27720 w 2724120"/>
              <a:gd name="textAreaRight" fmla="*/ 2696400 w 2724120"/>
              <a:gd name="textAreaTop" fmla="*/ 156960 h 1212840"/>
              <a:gd name="textAreaBottom" fmla="*/ 10558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089" y="-3560"/>
                  <a:pt x="14289" y="6360"/>
                  <a:pt x="21378" y="1400"/>
                </a:cubicBezTo>
                <a:lnTo>
                  <a:pt x="21600" y="20200"/>
                </a:lnTo>
                <a:cubicBezTo>
                  <a:pt x="14511" y="25160"/>
                  <a:pt x="7311" y="15240"/>
                  <a:pt x="222" y="20200"/>
                </a:cubicBez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8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2865600" y="1989000"/>
          <a:ext cx="609120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5600" y="19890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63480" y="466560"/>
            <a:ext cx="8007480" cy="63914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0" bIns="108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19040" y="4800600"/>
            <a:ext cx="8305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11360" y="4363920"/>
            <a:ext cx="7434000" cy="230364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м, гимназистам, не страшен никакой МИРОВОЙ КРИЗИС, с такими замечательными жителями нашего города, родителями, учителями, одноклассниками,.. Потому что вместе мы сила. Мы знаем, что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РА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ЕТ НАС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3029040" y="463680"/>
            <a:ext cx="3146400" cy="40338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95400" y="111240"/>
            <a:ext cx="8942400" cy="6553080"/>
          </a:xfrm>
          <a:prstGeom prst="foldedCorner">
            <a:avLst>
              <a:gd name="adj" fmla="val 4865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120680" y="4696920"/>
            <a:ext cx="26956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РАСОТ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АСЕТ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С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04760" y="104760"/>
            <a:ext cx="4503600" cy="43718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4405320" y="108000"/>
            <a:ext cx="4738680" cy="751356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, гимназисты МОУ гимназии №14, благодарим Программу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l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уть к успеху», за то что она помогла нам посмотреть на  мир другими глазами. Умение решать проблемы в сотрудничестве и применять эти решения на практике, не главное ли в нашем обществе. Мы стали более внимательны к местам, где мы живем, к окружающим… За любое дело мы теперь беремся все вместе. Успеваемость нашего класса выросла к концу года (конец прошлого года 72%, на конец этого года планируется 88%). Конфликтов в классе между нами стало гораздо меньше. Взаимоотношения с родителями стали более прочными. Мы бежим в гимназию с радостью встреться друг с другом в прекрасном сквере, с мыслью, что мы сделали этот мир, хоть чуточку, н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РАСИВЕЕ!!!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03040" y="37972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слеслови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3"/>
          <p:cNvSpPr/>
          <p:nvPr/>
        </p:nvSpPr>
        <p:spPr>
          <a:xfrm>
            <a:off x="4078440" y="4275000"/>
            <a:ext cx="4389120" cy="37497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80960" y="152280"/>
            <a:ext cx="81424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53920" y="322200"/>
            <a:ext cx="79725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ш красивый город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5578560" y="1486080"/>
            <a:ext cx="3386160" cy="3047760"/>
          </a:xfrm>
          <a:prstGeom prst="flowChartMultidocumen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-257040" y="1452600"/>
            <a:ext cx="4829040" cy="466704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2166840" y="4167720"/>
            <a:ext cx="585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ект представлен на ресурсе кафедры информационных технологий ГОУ ДПО НИРО «Через проект в будущее»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sites.google.com/site/projectniro/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амках реализации проекта «Развитие информационно-образовательной среды О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228600" y="152280"/>
            <a:ext cx="868680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100019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100022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191120" y="3924360"/>
            <a:ext cx="3504960" cy="263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1000212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33520" y="3276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1000228"/>
          <p:cNvPicPr/>
          <p:nvPr/>
        </p:nvPicPr>
        <p:blipFill>
          <a:blip r:embed="rId4"/>
          <a:stretch/>
        </p:blipFill>
        <p:spPr>
          <a:xfrm>
            <a:off x="3809880" y="190512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1000220"/>
          <p:cNvPicPr/>
          <p:nvPr/>
        </p:nvPicPr>
        <p:blipFill>
          <a:blip r:embed="rId5"/>
          <a:stretch/>
        </p:blipFill>
        <p:spPr>
          <a:xfrm>
            <a:off x="5562720" y="2590920"/>
            <a:ext cx="1676160" cy="1257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5264280" y="730080"/>
            <a:ext cx="372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ши любимые м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685800" y="152280"/>
            <a:ext cx="8153280" cy="1143000"/>
          </a:xfrm>
          <a:prstGeom prst="foldedCorner">
            <a:avLst>
              <a:gd name="adj" fmla="val 8662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38080" y="425520"/>
            <a:ext cx="7613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ш родной до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523880" y="1600200"/>
            <a:ext cx="6248520" cy="4800600"/>
          </a:xfrm>
          <a:prstGeom prst="foldedCorner">
            <a:avLst>
              <a:gd name="adj" fmla="val 7291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101030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828800" y="182880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0" y="1596960"/>
            <a:ext cx="2417760" cy="2216160"/>
          </a:xfrm>
          <a:prstGeom prst="flowChartMultidocumen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0" y="4641840"/>
            <a:ext cx="2417760" cy="221616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6508800" y="1471680"/>
            <a:ext cx="2635200" cy="2216160"/>
          </a:xfrm>
          <a:prstGeom prst="flowChartMultidocumen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6726240" y="4641840"/>
            <a:ext cx="2417760" cy="22161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266760" y="79200"/>
            <a:ext cx="8610480" cy="754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30640" y="19044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и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297000" y="933480"/>
            <a:ext cx="8501040" cy="67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живем в самом красивом городе на земле. У нас много чудесных мест, которые мы посещаем с друзьями в выходные д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ентябре 2008 года мы присутствовали на защите проектов семиклассников посвященных нашему городу. Один проект нас особенно потряс. Он назывался «Наша жизнь, как розы». Мы задумалис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территории гимназии есть много свободного места для творчества и осуществления новых идей. Мы учимся в режиме полного дня. Зимой большую часть времени мы находимся в стенах гимназии. А осенью и весной, когда солнышко ярко светит, хочется отдыхать на свежем воздухе. У нас есть спортивные площадки, асфальтированные прогулочные  дорожки, где проходят различные конкурсы «Рисуем на асфальте»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, дети 21 века, тянемся к прекрасному…Когда каждый из нас видит цветы, то испытываешь радость, наслаждение, при этом повышается настроение. Вкушая такую красоту впитываешь много положительных эмо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66760" y="266760"/>
            <a:ext cx="8610480" cy="1033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32240" y="673200"/>
            <a:ext cx="22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125280" y="1724040"/>
            <a:ext cx="3584880" cy="287496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3800520" y="1406520"/>
            <a:ext cx="5168880" cy="331956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ый отдых – это главное средство для  учащегос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ка. Ведь от того как мы будет отдыхать зависит наше здоровье, наша успеваемость, а значит и наша будущая профессия, следовательно, будущее нашего любимого города. Каждый день мы имеем возможность на прогулки во время академического часа, продленки. Поэтому мы решили создать «СКВЕР КРАС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162000" y="4884840"/>
            <a:ext cx="8815320" cy="194472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аясь по программе «Путь к успеху», на занятиях, мы, в сотрудничестве, постарались составить план решения этой  проблемы. В графическом редактор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int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разработали проект будущего «сквера  красоты». Лучшей работой стала , по мнению всех ребят, работа Марины Куз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66760" y="266760"/>
            <a:ext cx="8610480" cy="6324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35400" y="1085760"/>
            <a:ext cx="42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МОУ гимназии №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«сквера красо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452600" y="5003640"/>
            <a:ext cx="271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втор: Марин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547560" y="2560680"/>
            <a:ext cx="3227400" cy="253368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сквер"/>
          <p:cNvPicPr/>
          <p:nvPr/>
        </p:nvPicPr>
        <p:blipFill>
          <a:blip r:embed="rId2"/>
          <a:stretch/>
        </p:blipFill>
        <p:spPr>
          <a:xfrm>
            <a:off x="4095720" y="2368440"/>
            <a:ext cx="4686480" cy="3859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 rot="2526600">
            <a:off x="5132160" y="2610000"/>
            <a:ext cx="2876400" cy="398160"/>
          </a:xfrm>
          <a:custGeom>
            <a:avLst/>
            <a:gdLst>
              <a:gd name="textAreaLeft" fmla="*/ 359280 w 2876400"/>
              <a:gd name="textAreaRight" fmla="*/ 2517120 w 2876400"/>
              <a:gd name="textAreaTop" fmla="*/ 99360 h 398160"/>
              <a:gd name="textAreaBottom" fmla="*/ 298800 h 398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403360" y="338040"/>
            <a:ext cx="4518000" cy="600120"/>
          </a:xfrm>
          <a:custGeom>
            <a:avLst/>
            <a:gdLst>
              <a:gd name="textAreaLeft" fmla="*/ 1129320 w 4518000"/>
              <a:gd name="textAreaRight" fmla="*/ 3388680 w 451800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нтябрь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409680" y="2001960"/>
            <a:ext cx="538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533520" y="266760"/>
            <a:ext cx="8610480" cy="6324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 милый сквер, наш сквер чуд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зеленеет скоро 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любоваться все им буд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 сказка и не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хожие любу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дети смотрят всл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сквер наш самый луч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чно, спора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даже зайчик солне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аве с росой игр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а перел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квер наш украш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если даже дождь поль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 все ребята зн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н ничуть не портит скв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0848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только украша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74720" y="44280"/>
            <a:ext cx="761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946160" y="4822920"/>
            <a:ext cx="2716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втор: Екатерин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х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500120" y="957240"/>
            <a:ext cx="6116760" cy="7034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катерина Захарова, на занятии, сочинила стихотворение о будущем сквере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944640" y="2041560"/>
            <a:ext cx="3836880" cy="298116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325440" y="5765760"/>
            <a:ext cx="4518000" cy="600120"/>
          </a:xfrm>
          <a:custGeom>
            <a:avLst/>
            <a:gdLst>
              <a:gd name="textAreaLeft" fmla="*/ 1129320 w 4518000"/>
              <a:gd name="textAreaRight" fmla="*/ 3388680 w 4518000"/>
              <a:gd name="textAreaTop" fmla="*/ 150120 h 600120"/>
              <a:gd name="textAreaBottom" fmla="*/ 582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нтябрь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66760" y="162000"/>
            <a:ext cx="8610480" cy="6324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50000">
                <a:srgbClr val="99cc00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341520" y="2055960"/>
            <a:ext cx="50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красивого уголка отдыха для гимназистов и 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3520" y="197964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ек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92200" y="2681280"/>
            <a:ext cx="18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374840" y="3139920"/>
            <a:ext cx="76420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амый лучший «СКВЕР КРАСОТЫ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овать  досуг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динить учащихся класса, гимназии; родителей; педагогов; жителей гор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хранить созданный «СКВЕР КРАСОТЫ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ксимально использовать умения и навыки, приобретенные при обучении, по программ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l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уть к успеху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95360" y="583884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оки выпол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429080" y="5962680"/>
            <a:ext cx="14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ИН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717480" y="318960"/>
            <a:ext cx="761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ОЕКТ: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расота спасет на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21T04:38:00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