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2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10.png" ContentType="image/pn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2432-8393-4B3C-8A19-27AA0EE18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7D99-9F7E-4A08-A182-0EC1BEB19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9E91-A9E0-4F46-8E8B-54512D286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33D0-1760-412F-8FEF-B67C7F7BC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4C41-4B14-43B0-925F-6F17A5F8F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59F7-ED4D-490B-A83C-42EC635F7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5121-828A-474F-BF82-62671061B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39E3-EC35-486B-A8BF-0EE0119EC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5957-9076-482A-B0A7-AB8FE8F56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D5CB-BAAA-479E-A461-7FFC95FC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22DC-4952-4C6C-B1E6-C8DF8095C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A2A7-3F52-4EE4-BC32-69A4F7634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053F9-B7C9-4544-934D-F92CF27028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33cc"/>
                </a:solidFill>
                <a:latin typeface="Times New Roman"/>
              </a:rPr>
              <a:t>Центральная улица села Карпова: прошлое и настояще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1624320" y="333000"/>
            <a:ext cx="610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Муниципальное обще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Карповская средняя общеобразовательная ш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Уренского района Нижегород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395280" y="3784680"/>
            <a:ext cx="8537760" cy="26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364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364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Выполнили: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364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творческая группа учащих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364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4,6 классов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364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                                             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Руководитель кружка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364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«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Intel 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Путь к успеху»: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364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                                             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Голубева Нина Гурье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64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                                                            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Адрес: Нижегородская область Уренский рай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64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                                                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Село Карпово улица Центральная дом 17, 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64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         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Тел. 8 903 052 03 4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06 Miss Clare Remembers.mp3" descr=""/>
          <p:cNvPicPr/>
          <p:nvPr/>
        </p:nvPicPr>
        <p:blipFill>
          <a:blip r:embed="rId1"/>
          <a:stretch/>
        </p:blipFill>
        <p:spPr>
          <a:xfrm>
            <a:off x="853272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119827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Школьный краеведческий муз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DSC02476"/>
          <p:cNvPicPr/>
          <p:nvPr/>
        </p:nvPicPr>
        <p:blipFill>
          <a:blip r:embed="rId1"/>
          <a:stretch/>
        </p:blipFill>
        <p:spPr>
          <a:xfrm>
            <a:off x="1042920" y="1343160"/>
            <a:ext cx="7353360" cy="5038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Здание, в котором располагалась школа с 1922 по 1972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DSC09105"/>
          <p:cNvPicPr/>
          <p:nvPr/>
        </p:nvPicPr>
        <p:blipFill>
          <a:blip r:embed="rId1"/>
          <a:stretch/>
        </p:blipFill>
        <p:spPr>
          <a:xfrm>
            <a:off x="900000" y="1557360"/>
            <a:ext cx="7177320" cy="4525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Вот на этом самом месте стояла когда-то старая шк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DSC02478"/>
          <p:cNvPicPr/>
          <p:nvPr/>
        </p:nvPicPr>
        <p:blipFill>
          <a:blip r:embed="rId1"/>
          <a:stretch/>
        </p:blipFill>
        <p:spPr>
          <a:xfrm>
            <a:off x="1116000" y="1197000"/>
            <a:ext cx="7066080" cy="5299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Школьный пар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DSC00284"/>
          <p:cNvPicPr/>
          <p:nvPr/>
        </p:nvPicPr>
        <p:blipFill>
          <a:blip r:embed="rId1"/>
          <a:stretch/>
        </p:blipFill>
        <p:spPr>
          <a:xfrm>
            <a:off x="1116000" y="1125360"/>
            <a:ext cx="7175520" cy="4896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Дом уч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DSC02479"/>
          <p:cNvPicPr/>
          <p:nvPr/>
        </p:nvPicPr>
        <p:blipFill>
          <a:blip r:embed="rId1"/>
          <a:stretch/>
        </p:blipFill>
        <p:spPr>
          <a:xfrm>
            <a:off x="755640" y="1073160"/>
            <a:ext cx="7713720" cy="516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Раньше в нём располагался фельдшерский пун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DSC09104"/>
          <p:cNvPicPr/>
          <p:nvPr/>
        </p:nvPicPr>
        <p:blipFill>
          <a:blip r:embed="rId1"/>
          <a:stretch/>
        </p:blipFill>
        <p:spPr>
          <a:xfrm>
            <a:off x="1509840" y="1600200"/>
            <a:ext cx="6122880" cy="4525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Дом куль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DSC00282"/>
          <p:cNvPicPr/>
          <p:nvPr/>
        </p:nvPicPr>
        <p:blipFill>
          <a:blip r:embed="rId1"/>
          <a:stretch/>
        </p:blipFill>
        <p:spPr>
          <a:xfrm>
            <a:off x="971640" y="1557360"/>
            <a:ext cx="7149960" cy="4824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DSC02455"/>
          <p:cNvPicPr/>
          <p:nvPr/>
        </p:nvPicPr>
        <p:blipFill>
          <a:blip r:embed="rId1"/>
          <a:stretch/>
        </p:blipFill>
        <p:spPr>
          <a:xfrm>
            <a:off x="1979640" y="620640"/>
            <a:ext cx="4817880" cy="5948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Памятники погибшим воинам-карповчан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DSC00279"/>
          <p:cNvPicPr/>
          <p:nvPr/>
        </p:nvPicPr>
        <p:blipFill>
          <a:blip r:embed="rId2"/>
          <a:stretch/>
        </p:blipFill>
        <p:spPr>
          <a:xfrm>
            <a:off x="1187280" y="1268280"/>
            <a:ext cx="7104240" cy="4824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87" name="Picture 6" descr="DSC09106"/>
          <p:cNvPicPr/>
          <p:nvPr/>
        </p:nvPicPr>
        <p:blipFill>
          <a:blip r:embed="rId3"/>
          <a:stretch/>
        </p:blipFill>
        <p:spPr>
          <a:xfrm>
            <a:off x="250920" y="1341360"/>
            <a:ext cx="8424720" cy="5481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7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Дом Милосерд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DSC02457"/>
          <p:cNvPicPr/>
          <p:nvPr/>
        </p:nvPicPr>
        <p:blipFill>
          <a:blip r:embed="rId1"/>
          <a:stretch/>
        </p:blipFill>
        <p:spPr>
          <a:xfrm>
            <a:off x="900000" y="1268280"/>
            <a:ext cx="7426440" cy="5185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На месте ДМ стояла когда-то церковь Пресвятой Тро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DSC09100"/>
          <p:cNvPicPr/>
          <p:nvPr/>
        </p:nvPicPr>
        <p:blipFill>
          <a:blip r:embed="rId1"/>
          <a:stretch/>
        </p:blipFill>
        <p:spPr>
          <a:xfrm>
            <a:off x="888840" y="1600200"/>
            <a:ext cx="7364520" cy="4525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42560" y="1600200"/>
            <a:ext cx="85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99"/>
              </a:spcBef>
              <a:buClr>
                <a:srgbClr val="262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Узнать как можно больше о прошлом улицы Централь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2. Восстановить облик улицы Центральной в прошлом с помощью фотоархива и краеведческого матер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4"/>
          <p:cNvSpPr txBox="1"/>
          <p:nvPr/>
        </p:nvSpPr>
        <p:spPr>
          <a:xfrm>
            <a:off x="2916360" y="549360"/>
            <a:ext cx="2663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99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Цели:</a:t>
            </a:r>
            <a:endParaRPr b="1" i="1" lang="en-US" sz="1800" spc="1" strike="noStrike">
              <a:ln w="9360">
                <a:solidFill>
                  <a:srgbClr val="99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Дом Белинских (жил Деньгин Н.Д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DSC02454"/>
          <p:cNvPicPr/>
          <p:nvPr/>
        </p:nvPicPr>
        <p:blipFill>
          <a:blip r:embed="rId1"/>
          <a:stretch/>
        </p:blipFill>
        <p:spPr>
          <a:xfrm>
            <a:off x="900000" y="1268280"/>
            <a:ext cx="7642440" cy="49658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Дом Чебан Марии Павлов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DSC02453"/>
          <p:cNvPicPr/>
          <p:nvPr/>
        </p:nvPicPr>
        <p:blipFill>
          <a:blip r:embed="rId1"/>
          <a:stretch/>
        </p:blipFill>
        <p:spPr>
          <a:xfrm>
            <a:off x="1042920" y="1197000"/>
            <a:ext cx="7072560" cy="5303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Детский с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DSC00283"/>
          <p:cNvPicPr/>
          <p:nvPr/>
        </p:nvPicPr>
        <p:blipFill>
          <a:blip r:embed="rId1"/>
          <a:stretch/>
        </p:blipFill>
        <p:spPr>
          <a:xfrm>
            <a:off x="826920" y="1366920"/>
            <a:ext cx="7702560" cy="5157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Двухэтажные деревянные до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DSC02452"/>
          <p:cNvPicPr/>
          <p:nvPr/>
        </p:nvPicPr>
        <p:blipFill>
          <a:blip r:embed="rId1"/>
          <a:stretch/>
        </p:blipFill>
        <p:spPr>
          <a:xfrm>
            <a:off x="539640" y="1413000"/>
            <a:ext cx="7929720" cy="5110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00" name="Picture 5" descr="DSC02451"/>
          <p:cNvPicPr/>
          <p:nvPr/>
        </p:nvPicPr>
        <p:blipFill>
          <a:blip r:embed="rId2"/>
          <a:stretch/>
        </p:blipFill>
        <p:spPr>
          <a:xfrm>
            <a:off x="1116000" y="1341360"/>
            <a:ext cx="6913440" cy="5184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1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Дом учителей, в котором когда-то жил управляющий винокуренным заводом ЛугининА.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DSC02480"/>
          <p:cNvPicPr/>
          <p:nvPr/>
        </p:nvPicPr>
        <p:blipFill>
          <a:blip r:embed="rId1"/>
          <a:stretch/>
        </p:blipFill>
        <p:spPr>
          <a:xfrm>
            <a:off x="684360" y="1341360"/>
            <a:ext cx="7713360" cy="4897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94920" y="907560"/>
            <a:ext cx="83739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Garamond"/>
              </a:rPr>
              <a:t>Мы, карповчане, любим своё родное село и верим, что настанут добрые времена, и счастье, и радость, достаток и благополучие войдут в каждый дом. Верим </a:t>
            </a:r>
            <a:r>
              <a:rPr b="0" i="1" lang="ru-RU" sz="3200" spc="-1" strike="noStrike">
                <a:solidFill>
                  <a:srgbClr val="000099"/>
                </a:solidFill>
                <a:latin typeface="Arial"/>
              </a:rPr>
              <a:t>в</a:t>
            </a:r>
            <a:r>
              <a:rPr b="1" i="1" lang="ru-RU" sz="3200" spc="-1" strike="noStrike">
                <a:solidFill>
                  <a:srgbClr val="000099"/>
                </a:solidFill>
                <a:latin typeface="Garamond"/>
              </a:rPr>
              <a:t> силу добрых традиций, складывающихся десятилетиями. Верим и в наших талантливых людей, которые своим трудом поднимут село, и любовь к родному Карпову будет передаваться от поколения к поколе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Прямоугольник 2" descr=""/>
          <p:cNvPicPr/>
          <p:nvPr/>
        </p:nvPicPr>
        <p:blipFill>
          <a:blip r:embed="rId1"/>
          <a:stretch/>
        </p:blipFill>
        <p:spPr>
          <a:xfrm>
            <a:off x="1957320" y="-19080"/>
            <a:ext cx="3211560" cy="9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8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Литератур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«История села Карпова» М.П.Чебан, С.И.Смир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«Через года, через века…» М.П.Чеб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«Энциклопедия Урень-кра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0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2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8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0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1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4"/>
          <p:cNvSpPr txBox="1"/>
          <p:nvPr/>
        </p:nvSpPr>
        <p:spPr>
          <a:xfrm>
            <a:off x="2050920" y="333360"/>
            <a:ext cx="4392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Этапы работ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971640" y="1989000"/>
            <a:ext cx="734544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Узнать, на какой улице села Карпова находится больше достопримечательностей. Экспедиция по селу (опрос сельчан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Выявить архитектурные и исторические особенности улицы в прошлом и настоящ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Посещение школьного музе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Изучение собранного матери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Оформление исследования в электронном ви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Проведение экскурсии по селу для учащихся школы и жителей се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Участие в районном конкурсе «Юный экскурсовод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5"/>
          <p:cNvSpPr/>
          <p:nvPr/>
        </p:nvSpPr>
        <p:spPr>
          <a:xfrm>
            <a:off x="539640" y="620640"/>
            <a:ext cx="81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- На какой улице села Карпова больше всего достопримечательносте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2000160" y="1643040"/>
            <a:ext cx="514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Этот вопрос мы задали жителям нашего се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DSC02851"/>
          <p:cNvPicPr/>
          <p:nvPr/>
        </p:nvPicPr>
        <p:blipFill>
          <a:blip r:embed="rId1"/>
          <a:stretch/>
        </p:blipFill>
        <p:spPr>
          <a:xfrm>
            <a:off x="357120" y="1214280"/>
            <a:ext cx="1397160" cy="1773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2" name="Picture 4" descr="DSC06979"/>
          <p:cNvPicPr/>
          <p:nvPr/>
        </p:nvPicPr>
        <p:blipFill>
          <a:blip r:embed="rId2"/>
          <a:stretch/>
        </p:blipFill>
        <p:spPr>
          <a:xfrm>
            <a:off x="2500200" y="2214720"/>
            <a:ext cx="1122480" cy="1579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3" name="Picture 5" descr="DSC09289"/>
          <p:cNvPicPr/>
          <p:nvPr/>
        </p:nvPicPr>
        <p:blipFill>
          <a:blip r:embed="rId3"/>
          <a:stretch/>
        </p:blipFill>
        <p:spPr>
          <a:xfrm>
            <a:off x="7215120" y="1143000"/>
            <a:ext cx="1579680" cy="1857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4" name="Picture 6" descr="DSC09292"/>
          <p:cNvPicPr/>
          <p:nvPr/>
        </p:nvPicPr>
        <p:blipFill>
          <a:blip r:embed="rId4"/>
          <a:stretch/>
        </p:blipFill>
        <p:spPr>
          <a:xfrm>
            <a:off x="357120" y="4143240"/>
            <a:ext cx="1590840" cy="2156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5" name="Picture 7" descr="Копия DSC03310"/>
          <p:cNvPicPr/>
          <p:nvPr/>
        </p:nvPicPr>
        <p:blipFill>
          <a:blip r:embed="rId5"/>
          <a:stretch/>
        </p:blipFill>
        <p:spPr>
          <a:xfrm>
            <a:off x="7143840" y="4143240"/>
            <a:ext cx="1671480" cy="2136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6" name="Picture 8" descr="17"/>
          <p:cNvPicPr/>
          <p:nvPr/>
        </p:nvPicPr>
        <p:blipFill>
          <a:blip r:embed="rId6"/>
          <a:stretch/>
        </p:blipFill>
        <p:spPr>
          <a:xfrm>
            <a:off x="3000240" y="4071960"/>
            <a:ext cx="3278160" cy="2286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7" name="Рисунок 9" descr="DSC00019.JPG"/>
          <p:cNvPicPr/>
          <p:nvPr/>
        </p:nvPicPr>
        <p:blipFill>
          <a:blip r:embed="rId7"/>
          <a:stretch/>
        </p:blipFill>
        <p:spPr>
          <a:xfrm>
            <a:off x="5200560" y="2090880"/>
            <a:ext cx="13464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4"/>
          <p:cNvSpPr txBox="1"/>
          <p:nvPr/>
        </p:nvSpPr>
        <p:spPr>
          <a:xfrm>
            <a:off x="1692360" y="404640"/>
            <a:ext cx="568800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зультаты опрос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1116000" y="2205000"/>
            <a:ext cx="712800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Было опрошено 123 человека – жителя села Карп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Улица Центральная – 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Улица Школьная – 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Улица Луговая –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Улица Набережная –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Улица Молодёжная –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Улица Новая –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Улица Полевая -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DSC03721"/>
          <p:cNvPicPr/>
          <p:nvPr/>
        </p:nvPicPr>
        <p:blipFill>
          <a:blip r:embed="rId1"/>
          <a:stretch/>
        </p:blipFill>
        <p:spPr>
          <a:xfrm>
            <a:off x="4714920" y="2857680"/>
            <a:ext cx="4176720" cy="3132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1" name="TextBox 4"/>
          <p:cNvSpPr/>
          <p:nvPr/>
        </p:nvSpPr>
        <p:spPr>
          <a:xfrm>
            <a:off x="5648760" y="6143760"/>
            <a:ext cx="231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лица Центра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78920" y="692280"/>
            <a:ext cx="85899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История села Карпова богата большими и малыми событиями, примечательна славными именами. Село наше большое и красивое. Имеет оно шесть улиц. Улицы имеют разные названия, которые связаны с историческими событиями, с именами знаменитых людей, с географическим положением. Названия улиц о многом могут рассказать любознательному и пытливому человеку. Сегодня мы с вами отправимся на экскурсию по Центральной улице села Карпова. Её не трудно найти, это самая длинная улица, она протянулась вдоль всего села. Названа улица так потому, что она действительно находится в центре села, она является глав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Arial"/>
              </a:rPr>
              <a:t>Архитектурные и исторические особенности улицы Центральной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Arial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142920" y="1291680"/>
            <a:ext cx="871524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Arial"/>
              </a:rPr>
              <a:t>- Карповская средняя общеобразовательная школа (</a:t>
            </a:r>
            <a:r>
              <a:rPr b="1" i="1" lang="ru-RU" sz="1400" spc="-1" strike="noStrike">
                <a:solidFill>
                  <a:srgbClr val="006600"/>
                </a:solidFill>
                <a:latin typeface="Arial"/>
              </a:rPr>
              <a:t>Раньше на этом месте находилось старое здание школы - двухэтажный   дом купца Колеватова</a:t>
            </a:r>
            <a:r>
              <a:rPr b="1" lang="ru-RU" sz="1400" spc="-1" strike="noStrike">
                <a:solidFill>
                  <a:srgbClr val="0066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Arial"/>
              </a:rPr>
              <a:t>- Учительский дом (Смирновы, Лебедевы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i="1" lang="ru-RU" sz="1400" spc="-1" strike="noStrike">
                <a:solidFill>
                  <a:srgbClr val="006600"/>
                </a:solidFill>
                <a:latin typeface="Arial"/>
              </a:rPr>
              <a:t>Раньше в этом доме располагался фельдшерский пунк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Arial"/>
              </a:rPr>
              <a:t>- Дом культу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i="1" lang="ru-RU" sz="1400" spc="-1" strike="noStrike">
                <a:solidFill>
                  <a:srgbClr val="006600"/>
                </a:solidFill>
                <a:latin typeface="Arial"/>
              </a:rPr>
              <a:t>Раньше на этом месте стоял небольшой деревянный дом, в котор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6600"/>
                </a:solidFill>
                <a:latin typeface="Arial"/>
              </a:rPr>
              <a:t>располагалась колхозная конто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Arial"/>
              </a:rPr>
              <a:t>- Памятники павшим воинам-карповчанам в В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Arial"/>
              </a:rPr>
              <a:t>- Дом милосерд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i="1" lang="ru-RU" sz="1400" spc="-1" strike="noStrike">
                <a:solidFill>
                  <a:srgbClr val="006600"/>
                </a:solidFill>
                <a:latin typeface="Arial"/>
              </a:rPr>
              <a:t>Раньше на этом месте находилось здание церкви Пресвятой Троиц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Arial"/>
              </a:rPr>
              <a:t>- Дом М.П.Чеб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Arial"/>
              </a:rPr>
              <a:t>- Дом Белински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00"/>
                </a:solidFill>
                <a:latin typeface="Arial"/>
              </a:rPr>
              <a:t>Раньше в этом доме жил Деньгин Николай Дмитриевич – отец Белинской</a:t>
            </a:r>
            <a:r>
              <a:rPr b="1" lang="ru-RU" sz="1400" spc="-1" strike="noStrike">
                <a:solidFill>
                  <a:srgbClr val="006600"/>
                </a:solidFill>
                <a:latin typeface="Arial"/>
              </a:rPr>
              <a:t> Л. 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Arial"/>
              </a:rPr>
              <a:t>- Детский сад «Родничок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6600"/>
                </a:solidFill>
                <a:latin typeface="Arial"/>
              </a:rPr>
              <a:t>Раньше на этом месте стоял  дом Введенских – первых учителей </a:t>
            </a:r>
            <a:r>
              <a:rPr b="1" lang="ru-RU" sz="1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6600"/>
                </a:solidFill>
                <a:latin typeface="Arial"/>
              </a:rPr>
              <a:t>Карповской школ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Arial"/>
              </a:rPr>
              <a:t>- Двухэтажные деревянные  до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00"/>
                </a:solidFill>
                <a:latin typeface="Arial"/>
              </a:rPr>
              <a:t>Раньше в них жили семьи Тарасовых и Чехов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Arial"/>
              </a:rPr>
              <a:t>- Учительский дом (Ходыревы, Кокурины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00"/>
                </a:solidFill>
                <a:latin typeface="Arial"/>
              </a:rPr>
              <a:t>Раньше в этом доме жил управляющий винокуренным заводом купца   Колеватова Лугинин Алексей Ильи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6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6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6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Карповская средняя общеобразовательная школа, построенная в1972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DSC02474"/>
          <p:cNvPicPr/>
          <p:nvPr/>
        </p:nvPicPr>
        <p:blipFill>
          <a:blip r:embed="rId1"/>
          <a:stretch/>
        </p:blipFill>
        <p:spPr>
          <a:xfrm>
            <a:off x="1187280" y="1413000"/>
            <a:ext cx="6985080" cy="5238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Пристрой к школе, построенный в 1984 году с помощью колхоза «Карповский»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DSC02475"/>
          <p:cNvPicPr/>
          <p:nvPr/>
        </p:nvPicPr>
        <p:blipFill>
          <a:blip r:embed="rId1"/>
          <a:stretch/>
        </p:blipFill>
        <p:spPr>
          <a:xfrm>
            <a:off x="971640" y="1343160"/>
            <a:ext cx="7353360" cy="5254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6T17:05:09Z</dcterms:created>
  <dc:creator>1</dc:creator>
  <dc:description/>
  <dc:language>en-US</dc:language>
  <cp:lastModifiedBy>User</cp:lastModifiedBy>
  <dcterms:modified xsi:type="dcterms:W3CDTF">2010-10-21T04:15:14Z</dcterms:modified>
  <cp:revision>27</cp:revision>
  <dc:subject/>
  <dc:title>Центральная улица села Карпова – прошлое и настоящее</dc:title>
</cp:coreProperties>
</file>