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</p:sldIdLst>
  <p:sldSz cx="6858000" cy="5145088"/>
  <p:notesSz cx="9144000" cy="5145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51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9625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9"/>
          </p:nvPr>
        </p:nvSpPr>
        <p:spPr>
          <a:xfrm>
            <a:off x="5179680" y="0"/>
            <a:ext cx="39625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20"/>
          </p:nvPr>
        </p:nvSpPr>
        <p:spPr>
          <a:xfrm>
            <a:off x="-360" y="4885920"/>
            <a:ext cx="396252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21"/>
          </p:nvPr>
        </p:nvSpPr>
        <p:spPr>
          <a:xfrm>
            <a:off x="5179680" y="4885920"/>
            <a:ext cx="396252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D592-733F-4AEA-AEA4-E0DE198A0B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5180040" y="4886280"/>
            <a:ext cx="3962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E776-5B88-4ADE-8676-E20B196F67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5180040" y="4886280"/>
            <a:ext cx="3962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A787-CE15-4FA8-9786-65CD00BB69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5180040" y="4886280"/>
            <a:ext cx="3962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D43E-8813-45B2-928E-2F31016733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5180040" y="4886280"/>
            <a:ext cx="3962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DE57-D0D4-46A6-8F54-C7E6F99D75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7E25-DB49-4589-94AD-4DD92CF3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1A8D-3E33-444C-98DD-B8293DE2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57F5-F1D9-44FE-BB30-DE303F96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93FE-CAA1-46A6-A8B7-F0159F59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FD22-2780-4D69-B101-C487BDD2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0919-1152-4721-BB29-35D2269E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077A-0681-439A-9455-9D0A1615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0045-DC15-4918-845D-76318D1A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D0A5-D32F-45CB-AF16-3A650F22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9A9D-485C-4678-AD7F-321B6CFD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F954-C27F-412D-8AE1-B3E1E4B8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4045-6311-4FD9-95C4-53B4CDBC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8213-0C39-4B36-A0FF-BC4BC124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28B0-721D-4ACC-87E6-3D23C854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9B3F-7285-4AB3-BD24-51458E28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EBA5-70FA-4625-8C99-09017E91B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8C2A-A730-46D0-8E50-FDBB9C70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0E0CC-E460-4CC0-A22E-EA9DDA3D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2E431-929D-4E46-AC7D-8C1051A2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DC930-EDA7-4355-99CE-E56865A6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4078F-1372-4A2A-BB91-6407CF4D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86E32-A7D9-47D4-A765-309E0D91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11A9-60F4-4927-A235-DB70E2BF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7C2A1-A956-4829-8942-81E5FD26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A6276-8B28-4F49-BD3C-2153EA0E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F202E-93C9-46C1-B642-49CA7360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2FFF0-34D7-4EB0-BC52-48E50954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158E9-D201-401D-ABD0-16234EFA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297AE-3F78-454C-81B5-17CF9C89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CAC85-A522-4B2C-A872-7F399958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4F67A-C9A0-4CA2-A159-67ECC4A8C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60934-B481-48D6-BFC1-31927538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4295C-9035-4AE8-A471-97BC880C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AFF3-ECD5-42C2-ADFD-FA732213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3A898-B8E3-4F7E-923E-7C3A0D91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7965E-244D-4B2B-9AF4-ECC15FD3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4CDA2-80B7-4236-81E8-76ADF768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1F121-2C35-42C4-9B95-5F0C4A82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1CC50-F703-4F45-A04A-A0B4CFDC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39FF4-38C6-4F93-B4CE-78C90179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652D1-E19B-41D7-BF65-E5E24EF7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0BC6D-C626-490D-9444-7713C732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CD52B-A76D-479B-AB9C-1114ACE1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F691A-8454-4A2B-ADCA-A7BAB5AC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F31E-9AB9-4A0F-AA7A-302A564E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E63B8-1D7D-4476-9418-60DDD52D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8A534-FA0E-42E7-9D89-E9A71239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91673-52D0-413A-A427-49092A09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51266-F42B-4E70-A02F-132F04CE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DC77B-BB29-455F-939E-272240FA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DF6A2-78CD-4F79-8D1D-10F0431B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9114D-EB1A-44D4-99DC-4D9A7A2E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67CE4-F709-4633-A27B-6FECB731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37F2B-7E76-4A12-9C51-3F7C284F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38D40-91BB-4C91-803F-CB5481A6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ED9F-5F22-41E2-91A9-D684333C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2662E-82B9-4353-A9A6-5590C41F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AD9D3-0C0D-4597-B1FE-AFD7489D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33449-8989-44C4-BEE3-8279D6AE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1E75A-8EA5-4DD7-8B9D-0486BA82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926DF-D001-443C-BF62-6F5FE28B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208C2-7900-4F05-8806-6594CDD4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89F8F-9DA3-40EE-9C55-D2900D64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C0BA7-936A-431B-A4D4-592EC261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5326B-C993-45B6-A702-458C2FF2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1C711-900D-4D10-9C02-9ABBB98A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A2AD-4E2C-4779-A807-E895726A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1FC99-AEA7-4882-92F7-4249C522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13235-BEC4-4E4D-9FAC-EF5A8DCE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088DD-11F3-4173-9B2F-7B7FA01F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6A17-5C9E-456E-B1AB-E3B08F40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4D3C-1C25-4D8A-8A5E-E9472A59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k object 16"/>
          <p:cNvSpPr/>
          <p:nvPr/>
        </p:nvSpPr>
        <p:spPr>
          <a:xfrm>
            <a:off x="0" y="0"/>
            <a:ext cx="6858000" cy="5143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DA3E-645F-4F96-8375-40F54318EDD4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E1F3-56B1-4F99-87EA-9EC7FCC432FF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8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6B69-0B83-4582-B48D-88E217DD9D3D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0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1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E24D-A85E-4557-AB76-106FF948A3F5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bk object 16"/>
          <p:cNvSpPr/>
          <p:nvPr/>
        </p:nvSpPr>
        <p:spPr>
          <a:xfrm>
            <a:off x="0" y="0"/>
            <a:ext cx="6858000" cy="5143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3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dt" idx="14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CA3E-011E-461E-8DF6-CEC9F37F9D25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6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dt" idx="17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CECD-A50E-4CD6-A621-A9210523E946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2240" y="1906560"/>
            <a:ext cx="6549840" cy="563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0" rIns="0" tIns="1008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54061"/>
                </a:solidFill>
                <a:latin typeface="Arial"/>
                <a:ea typeface="Arial"/>
              </a:rPr>
              <a:t>Рабочая программа дисциплины (Б1.В.ДВ.3) </a:t>
            </a:r>
            <a:br>
              <a:rPr sz="1800"/>
            </a:br>
            <a:r>
              <a:rPr b="0" lang="ru-RU" sz="1800" spc="-1" strike="noStrike">
                <a:solidFill>
                  <a:srgbClr val="254061"/>
                </a:solidFill>
                <a:latin typeface="Arial"/>
                <a:ea typeface="Arial"/>
              </a:rPr>
              <a:t>«Педагогическая инноватика»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6" name="Прямоугольник 4"/>
          <p:cNvSpPr/>
          <p:nvPr/>
        </p:nvSpPr>
        <p:spPr>
          <a:xfrm>
            <a:off x="2371680" y="115920"/>
            <a:ext cx="1943280" cy="1790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оугольник 5"/>
          <p:cNvSpPr/>
          <p:nvPr/>
        </p:nvSpPr>
        <p:spPr>
          <a:xfrm>
            <a:off x="2371680" y="2470320"/>
            <a:ext cx="1943280" cy="18396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Рисунок 2" descr=""/>
          <p:cNvPicPr/>
          <p:nvPr/>
        </p:nvPicPr>
        <p:blipFill>
          <a:blip r:embed="rId1"/>
          <a:stretch/>
        </p:blipFill>
        <p:spPr>
          <a:xfrm>
            <a:off x="2951280" y="2560680"/>
            <a:ext cx="779400" cy="9637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6"/>
          <p:cNvSpPr/>
          <p:nvPr/>
        </p:nvSpPr>
        <p:spPr>
          <a:xfrm>
            <a:off x="2293920" y="3614760"/>
            <a:ext cx="20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ffff"/>
                </a:solidFill>
                <a:latin typeface="Calibri"/>
              </a:rPr>
              <a:t>Г.А. Игнатьева, доктор пед. наук, профессор, зав. кафедрой педагоги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ffff"/>
                </a:solidFill>
                <a:latin typeface="Calibri"/>
              </a:rPr>
              <a:t>и андрагогики ГБОУ ДПО НИРО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оугольник 7"/>
          <p:cNvSpPr/>
          <p:nvPr/>
        </p:nvSpPr>
        <p:spPr>
          <a:xfrm>
            <a:off x="985680" y="1376280"/>
            <a:ext cx="1406520" cy="28116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www.niro.nnov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Рисунок 13" descr=""/>
          <p:cNvPicPr/>
          <p:nvPr/>
        </p:nvPicPr>
        <p:blipFill>
          <a:blip r:embed="rId2"/>
          <a:stretch/>
        </p:blipFill>
        <p:spPr>
          <a:xfrm>
            <a:off x="184320" y="763560"/>
            <a:ext cx="801360" cy="64944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9"/>
          <p:cNvSpPr/>
          <p:nvPr/>
        </p:nvSpPr>
        <p:spPr>
          <a:xfrm>
            <a:off x="4314960" y="3728880"/>
            <a:ext cx="1780920" cy="28116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e-mail: innov-nn@mail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Рисунок 10" descr=""/>
          <p:cNvPicPr/>
          <p:nvPr/>
        </p:nvPicPr>
        <p:blipFill>
          <a:blip r:embed="rId3"/>
          <a:stretch/>
        </p:blipFill>
        <p:spPr>
          <a:xfrm>
            <a:off x="2425680" y="500040"/>
            <a:ext cx="1828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09160"/>
            <a:ext cx="6858000" cy="276120"/>
          </a:xfrm>
          <a:prstGeom prst="rect">
            <a:avLst/>
          </a:prstGeom>
          <a:solidFill>
            <a:srgbClr val="95b3d7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Arial"/>
                <a:ea typeface="Arial"/>
              </a:rPr>
              <a:t>Педагогическая инноватика 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65" name="Схема 4" descr=""/>
          <p:cNvPicPr/>
          <p:nvPr/>
        </p:nvPicPr>
        <p:blipFill>
          <a:blip r:embed="rId1"/>
          <a:stretch/>
        </p:blipFill>
        <p:spPr>
          <a:xfrm>
            <a:off x="-23760" y="853920"/>
            <a:ext cx="6881760" cy="326088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1595520" y="3181320"/>
            <a:ext cx="5257800" cy="9169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Хуторской А.В.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инноватика: учебное пособие для вузов. – Издательский центр «Академия», 2008. – 256 с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Лазарев В.С., Мартиросян Б.П.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инноватика. Учебник для студентов высших учебных заведений, обучающихся по направлению 540600 (050700) «Педагогика». – М.: Просвещение, 2006. – 217 с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Рисунок 5" descr=""/>
          <p:cNvPicPr/>
          <p:nvPr/>
        </p:nvPicPr>
        <p:blipFill>
          <a:blip r:embed="rId2"/>
          <a:stretch/>
        </p:blipFill>
        <p:spPr>
          <a:xfrm>
            <a:off x="304920" y="2036880"/>
            <a:ext cx="115236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9480" y="173160"/>
            <a:ext cx="6751800" cy="645840"/>
          </a:xfrm>
          <a:prstGeom prst="rect">
            <a:avLst/>
          </a:prstGeom>
          <a:solidFill>
            <a:srgbClr val="8eb4e3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4061"/>
                </a:solidFill>
                <a:latin typeface="Arial"/>
                <a:ea typeface="Arial"/>
              </a:rPr>
              <a:t>ПЕДАГОГИЧЕСКАЯ ИННОВАТИКА:</a:t>
            </a:r>
            <a:br>
              <a:rPr sz="1400"/>
            </a:br>
            <a:r>
              <a:rPr b="1" lang="ru-RU" sz="1400" spc="-1" strike="noStrike">
                <a:solidFill>
                  <a:srgbClr val="254061"/>
                </a:solidFill>
                <a:latin typeface="Arial"/>
                <a:ea typeface="Arial"/>
              </a:rPr>
              <a:t>понятие, объект, предмет</a:t>
            </a:r>
            <a:br>
              <a:rPr sz="1400"/>
            </a:br>
            <a:endParaRPr b="0" lang="en-US" sz="1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69" name="Схема 4" descr=""/>
          <p:cNvPicPr/>
          <p:nvPr/>
        </p:nvPicPr>
        <p:blipFill>
          <a:blip r:embed="rId1"/>
          <a:stretch/>
        </p:blipFill>
        <p:spPr>
          <a:xfrm>
            <a:off x="36360" y="1103400"/>
            <a:ext cx="6755040" cy="317016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5" descr=""/>
          <p:cNvPicPr/>
          <p:nvPr/>
        </p:nvPicPr>
        <p:blipFill>
          <a:blip r:embed="rId2"/>
          <a:stretch/>
        </p:blipFill>
        <p:spPr>
          <a:xfrm>
            <a:off x="304920" y="182520"/>
            <a:ext cx="115236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6880" y="249120"/>
            <a:ext cx="6629400" cy="432000"/>
          </a:xfrm>
          <a:prstGeom prst="rect">
            <a:avLst/>
          </a:prstGeom>
          <a:solidFill>
            <a:srgbClr val="b9cde5"/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tIns="31320" bIns="0" anchor="t">
            <a:noAutofit/>
          </a:bodyPr>
          <a:p>
            <a:pPr marL="61920" indent="0" algn="ctr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4a7b"/>
                </a:solidFill>
                <a:latin typeface="Trebuchet MS"/>
                <a:ea typeface="Trebuchet MS"/>
              </a:rPr>
              <a:t>ПЕДАГОГИЧЕСКАЯ ИННОВАТИКА</a:t>
            </a:r>
            <a:br>
              <a:rPr sz="1300"/>
            </a:br>
            <a:r>
              <a:rPr b="1" lang="ru-RU" sz="1300" spc="-1" strike="noStrike">
                <a:solidFill>
                  <a:srgbClr val="604a7b"/>
                </a:solidFill>
                <a:latin typeface="Trebuchet MS"/>
                <a:ea typeface="Trebuchet MS"/>
              </a:rPr>
              <a:t>Основная литература</a:t>
            </a:r>
            <a:endParaRPr b="0" lang="en-US" sz="1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2" name="object 4"/>
          <p:cNvSpPr/>
          <p:nvPr/>
        </p:nvSpPr>
        <p:spPr>
          <a:xfrm>
            <a:off x="950760" y="1320840"/>
            <a:ext cx="5712120" cy="558720"/>
          </a:xfrm>
          <a:custGeom>
            <a:avLst/>
            <a:gdLst/>
            <a:ahLst/>
            <a:rect l="l" t="t" r="r" b="b"/>
            <a:pathLst>
              <a:path w="7176770" h="530860">
                <a:moveTo>
                  <a:pt x="7176515" y="530351"/>
                </a:moveTo>
                <a:lnTo>
                  <a:pt x="265176" y="530351"/>
                </a:lnTo>
                <a:lnTo>
                  <a:pt x="0" y="265175"/>
                </a:lnTo>
                <a:lnTo>
                  <a:pt x="265176" y="0"/>
                </a:lnTo>
                <a:lnTo>
                  <a:pt x="7176515" y="0"/>
                </a:lnTo>
                <a:lnTo>
                  <a:pt x="7176515" y="530351"/>
                </a:lnTo>
                <a:close/>
              </a:path>
            </a:pathLst>
          </a:custGeom>
          <a:noFill/>
          <a:ln w="25920">
            <a:solidFill>
              <a:srgbClr val="2540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object 6"/>
          <p:cNvSpPr/>
          <p:nvPr/>
        </p:nvSpPr>
        <p:spPr>
          <a:xfrm>
            <a:off x="966960" y="2616120"/>
            <a:ext cx="5703840" cy="571680"/>
          </a:xfrm>
          <a:custGeom>
            <a:avLst/>
            <a:gdLst/>
            <a:ahLst/>
            <a:rect l="l" t="t" r="r" b="b"/>
            <a:pathLst>
              <a:path w="7176770" h="530860">
                <a:moveTo>
                  <a:pt x="7176515" y="0"/>
                </a:moveTo>
                <a:lnTo>
                  <a:pt x="265176" y="0"/>
                </a:lnTo>
                <a:lnTo>
                  <a:pt x="0" y="265175"/>
                </a:lnTo>
                <a:lnTo>
                  <a:pt x="265176" y="530351"/>
                </a:lnTo>
                <a:lnTo>
                  <a:pt x="7176515" y="530351"/>
                </a:lnTo>
                <a:lnTo>
                  <a:pt x="71765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object 7"/>
          <p:cNvSpPr/>
          <p:nvPr/>
        </p:nvSpPr>
        <p:spPr>
          <a:xfrm>
            <a:off x="933480" y="2017800"/>
            <a:ext cx="5740200" cy="450720"/>
          </a:xfrm>
          <a:custGeom>
            <a:avLst/>
            <a:gdLst/>
            <a:ahLst/>
            <a:rect l="l" t="t" r="r" b="b"/>
            <a:pathLst>
              <a:path w="7176770" h="530860">
                <a:moveTo>
                  <a:pt x="7176515" y="530351"/>
                </a:moveTo>
                <a:lnTo>
                  <a:pt x="265176" y="530351"/>
                </a:lnTo>
                <a:lnTo>
                  <a:pt x="0" y="265175"/>
                </a:lnTo>
                <a:lnTo>
                  <a:pt x="265176" y="0"/>
                </a:lnTo>
                <a:lnTo>
                  <a:pt x="7176515" y="0"/>
                </a:lnTo>
                <a:lnTo>
                  <a:pt x="7176515" y="530351"/>
                </a:lnTo>
                <a:close/>
              </a:path>
            </a:pathLst>
          </a:custGeom>
          <a:noFill/>
          <a:ln w="25920">
            <a:solidFill>
              <a:srgbClr val="2540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object 13"/>
          <p:cNvSpPr/>
          <p:nvPr/>
        </p:nvSpPr>
        <p:spPr>
          <a:xfrm>
            <a:off x="936720" y="2676600"/>
            <a:ext cx="5734080" cy="571320"/>
          </a:xfrm>
          <a:custGeom>
            <a:avLst/>
            <a:gdLst/>
            <a:ahLst/>
            <a:rect l="l" t="t" r="r" b="b"/>
            <a:pathLst>
              <a:path w="7176770" h="530860">
                <a:moveTo>
                  <a:pt x="7176515" y="530351"/>
                </a:moveTo>
                <a:lnTo>
                  <a:pt x="265176" y="530351"/>
                </a:lnTo>
                <a:lnTo>
                  <a:pt x="0" y="265175"/>
                </a:lnTo>
                <a:lnTo>
                  <a:pt x="265176" y="0"/>
                </a:lnTo>
                <a:lnTo>
                  <a:pt x="7176515" y="0"/>
                </a:lnTo>
                <a:lnTo>
                  <a:pt x="7176515" y="530351"/>
                </a:lnTo>
                <a:close/>
              </a:path>
            </a:pathLst>
          </a:custGeom>
          <a:noFill/>
          <a:ln w="25920">
            <a:solidFill>
              <a:srgbClr val="2540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оугольник 19"/>
          <p:cNvSpPr/>
          <p:nvPr/>
        </p:nvSpPr>
        <p:spPr>
          <a:xfrm>
            <a:off x="46080" y="1231920"/>
            <a:ext cx="865080" cy="23972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Рисунок 23" descr=""/>
          <p:cNvPicPr/>
          <p:nvPr/>
        </p:nvPicPr>
        <p:blipFill>
          <a:blip r:embed="rId1"/>
          <a:stretch/>
        </p:blipFill>
        <p:spPr>
          <a:xfrm>
            <a:off x="228600" y="1946160"/>
            <a:ext cx="500040" cy="69372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2" descr=""/>
          <p:cNvPicPr/>
          <p:nvPr/>
        </p:nvPicPr>
        <p:blipFill>
          <a:blip r:embed="rId2"/>
          <a:stretch/>
        </p:blipFill>
        <p:spPr>
          <a:xfrm>
            <a:off x="214200" y="1206360"/>
            <a:ext cx="528840" cy="69876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4"/>
          <p:cNvSpPr/>
          <p:nvPr/>
        </p:nvSpPr>
        <p:spPr>
          <a:xfrm>
            <a:off x="1106640" y="2085840"/>
            <a:ext cx="5446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Хуторской А.В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Дидактика: Учебник для вузов. Стандарт третьего поколения. СПб.: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итер, 2017.- 720 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5"/>
          <p:cNvSpPr/>
          <p:nvPr/>
        </p:nvSpPr>
        <p:spPr>
          <a:xfrm>
            <a:off x="1066680" y="2709720"/>
            <a:ext cx="5316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Хуторской А.В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инноватика: учебное пособие для вузов. – Издательский центр «Академия», 2008. – 256 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Рисунок 6" descr=""/>
          <p:cNvPicPr/>
          <p:nvPr/>
        </p:nvPicPr>
        <p:blipFill>
          <a:blip r:embed="rId3"/>
          <a:stretch/>
        </p:blipFill>
        <p:spPr>
          <a:xfrm>
            <a:off x="201600" y="2771640"/>
            <a:ext cx="527040" cy="67500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29"/>
          <p:cNvSpPr/>
          <p:nvPr/>
        </p:nvSpPr>
        <p:spPr>
          <a:xfrm>
            <a:off x="88920" y="4132440"/>
            <a:ext cx="6629400" cy="2966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254061"/>
                </a:solidFill>
                <a:latin typeface="Calibri"/>
                <a:ea typeface="Calibri"/>
              </a:rPr>
              <a:t>             </a:t>
            </a:r>
            <a:r>
              <a:rPr b="1" i="1" lang="ru-RU" sz="1100" spc="-1" strike="noStrike">
                <a:solidFill>
                  <a:srgbClr val="254061"/>
                </a:solidFill>
                <a:latin typeface="Calibri"/>
                <a:ea typeface="Calibri"/>
              </a:rPr>
              <a:t>КОНТАКТНАЯ ИНФОРМАЦ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Прямоугольник 8"/>
          <p:cNvSpPr/>
          <p:nvPr/>
        </p:nvSpPr>
        <p:spPr>
          <a:xfrm>
            <a:off x="3873600" y="4165560"/>
            <a:ext cx="281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254061"/>
                </a:solidFill>
                <a:latin typeface="Arial"/>
                <a:ea typeface="Arial"/>
              </a:rPr>
              <a:t>Тел</a:t>
            </a:r>
            <a:r>
              <a:rPr b="1" lang="en-US" sz="900" spc="-1" strike="noStrike">
                <a:solidFill>
                  <a:srgbClr val="254061"/>
                </a:solidFill>
                <a:latin typeface="Arial"/>
                <a:ea typeface="Arial"/>
              </a:rPr>
              <a:t>.: (831) 468-10-75</a:t>
            </a:r>
            <a:r>
              <a:rPr b="1" lang="ru-RU" sz="900" spc="-1" strike="noStrike">
                <a:solidFill>
                  <a:srgbClr val="254061"/>
                </a:solidFill>
                <a:latin typeface="Arial"/>
                <a:ea typeface="Arial"/>
              </a:rPr>
              <a:t>,</a:t>
            </a:r>
            <a:r>
              <a:rPr b="1" lang="en-US" sz="900" spc="-1" strike="noStrike">
                <a:solidFill>
                  <a:srgbClr val="254061"/>
                </a:solidFill>
                <a:latin typeface="Arial"/>
                <a:ea typeface="Arial"/>
              </a:rPr>
              <a:t> e-mail: innov-nn@mail.r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Прямоугольник 4"/>
          <p:cNvSpPr/>
          <p:nvPr/>
        </p:nvSpPr>
        <p:spPr>
          <a:xfrm>
            <a:off x="1160640" y="1325520"/>
            <a:ext cx="525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Лазарев В.С., Мартиросян Б.П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инноватика. Учебник для студентов высших учебных заведений, обучающихся по направлению 540600 (050700) «Педагогика». – М.: Просвещение, 2006. – 217 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Рисунок 17" descr=""/>
          <p:cNvPicPr/>
          <p:nvPr/>
        </p:nvPicPr>
        <p:blipFill>
          <a:blip r:embed="rId4"/>
          <a:stretch/>
        </p:blipFill>
        <p:spPr>
          <a:xfrm>
            <a:off x="2670120" y="3859200"/>
            <a:ext cx="12794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8T12:29:05Z</dcterms:created>
  <dc:creator>danilov@halfbudget.com</dc:creator>
  <dc:description/>
  <dc:language>en-US</dc:language>
  <cp:lastModifiedBy>Kafedra</cp:lastModifiedBy>
  <dcterms:modified xsi:type="dcterms:W3CDTF">2018-06-04T11:20:43Z</dcterms:modified>
  <cp:revision>12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6-01-26T00:00:00Z</vt:filetime>
  </property>
  <property fmtid="{D5CDD505-2E9C-101B-9397-08002B2CF9AE}" pid="3" name="Creator">
    <vt:lpwstr>Microsoft® PowerPoint® 2013</vt:lpwstr>
  </property>
  <property fmtid="{D5CDD505-2E9C-101B-9397-08002B2CF9AE}" pid="4" name="LastSaved">
    <vt:filetime>2018-02-08T00:00:00Z</vt:filetime>
  </property>
</Properties>
</file>