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1674-EB41-411D-B7B7-49656B740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8A7D-5B79-4481-88F7-8ECB9AD50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56D7-57F4-45B0-BD58-75D7CD3DE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B6DC-3A14-4DFF-8BFC-532AD70B1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ED23A-9590-4FE1-87E1-06BC2C806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44D48-703B-4373-B16A-5B75E8DB1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C1035-758C-4AD0-A6FC-CCE35B702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67C60-2D94-4DF6-B70E-B375C5F18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C56CB-9DF1-4DE8-947B-D82588D68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BB202-64AB-410D-8573-9153B920C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27F50-27CC-4E92-895B-8F53AD85F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6B57-F364-4C84-899F-6594DE153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2D078-07D0-47A3-9F41-D177B0FA8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9E728-BF53-4C65-AA43-3DCE5630C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22B49-C5E5-4B6A-BDC3-9E7145E15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4E03B-D822-423D-8AF7-5E4CF3BF9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0D435-0808-4325-B0C1-D58C5AC74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908326-2C93-4775-B9C1-F4390A5EE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DB5FEE-6AF1-4B51-9F75-C1488DC11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F03B45-061E-4B35-90E3-CDF17AADB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B56668-D215-4CA2-86B5-F8DA47CD2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665B5D-A89C-4FC9-851F-8765F303B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FFAD-6D79-4DED-9FF6-7936FE5E2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3106C2-DB30-4DAC-97BA-22698AE25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F455B3-9B1B-4C24-840E-9C9723778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ABF3D5-12AC-45F3-9A12-866544945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2AED85-2A34-4DC3-985C-1FF1CB058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1E2603-26AB-4D10-A88A-0CA234828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CDD6B6-07C3-4F8D-A5F7-A85FC8737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86657A-81FF-4A2A-BBCB-5429D70AD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4FBF15-18DA-41B3-8704-1CDB9F8DE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9D5D08-EB17-4172-AA09-F711A6805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B72C06-8756-44DF-BC54-6E079DE5C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6D76-9A17-4AB2-8B2F-9EA00703B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BD1E1C-DADE-4AFB-B916-87E3F3CAE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CC3515-97B4-47B8-BA7C-CD839BE37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82E4B5-A35D-4502-BA2C-267058AC9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6A053E-4DA8-413B-98A3-56CEC340C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4DCEE5-6B49-4C0D-8090-6444A0443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52B9C3-FCD1-4F24-AC6B-BBB7351F9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D83088-AD8B-4825-A2CF-0280CF410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9419D0-E2C4-47F8-A078-181F57C67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12C870-D409-4E35-8D6D-6FF7B3A13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7FD20E-9B73-4493-AEDD-F8B57243B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7DA2-DF61-4969-B958-DA9657B7E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A83D14-BDC2-4A8F-B49E-380C1BCAD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8F2A8B-9884-43F3-A7A2-16646AADA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72C6EC-900C-4C62-9F49-247C66B83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C6876C4-4BBD-4261-B35A-940E28DED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3D8CDA-FB63-4E48-9585-AFC22B96D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C7A7EA-99A8-404A-811F-B79F115EF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EEF1CB-F90E-4CF4-936F-B58627F2B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FEBEDE-5FBE-4776-82D9-6FC949EA7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56CD70-D3AA-45DA-B181-2AD15BFA9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E0C0C3-E281-41CD-8938-03C45F228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C5E1-D679-4EC6-88DB-643DF6AB4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1B8435-69BE-482E-9ADA-DD6FA1A3E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D293C7E-15E6-4348-B24D-25BB15814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ACF9AFF-956A-47C8-9C99-9402883F7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C77A074-98FA-491C-9079-6F745BB35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1BA0CD1-165F-41F0-A984-ABD466ECF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F58BA20-C744-4306-BF1F-69C28395C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71E3A31-2A98-473D-A9DE-3A944A1D4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A320C87-89D9-472C-A32A-6F4E884D5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E4C9A58-964E-4DCB-B142-7A2F8F392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F263045-0258-4124-8203-99021D924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55F6-3DBD-4747-B141-8D04CE5AF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5B1E40D-E320-43C0-87C8-55AE38488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8FECB1C-408E-4289-8680-91C6DC8EB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969D678-776D-4C54-83A9-6C57123A9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EA7DD29-89DB-43AA-8954-BD3629FFE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DEF763B-1275-4D36-BFCF-8F2388DAF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825FBE4-0E0A-4C1F-9EA8-84A8689C7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32CBD2D-83A4-4A1F-A103-55CCD9A9E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B632FDA-4BD0-48E6-9A6B-5D0814F9E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2DE9AA8-ED77-4FFC-86EB-4A8589D52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FA52FA2-6632-4754-8378-48FCB6C2C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38F2-1F70-4157-8E30-3555E86A1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064A478-3920-4440-84C4-B49E00FFD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8B8E92E-758A-4282-8C19-D915E752A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9AFF7C6-FB28-4E23-9437-D28BEDEE3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8DBB27B-3504-464A-A4AC-B05B82BB8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4A3EA8A-083A-4A48-A887-9182E1EAD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77114C-9A88-496B-A25F-AC685E8A0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9910C6-92EB-4024-B2D0-4770D7CD3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11DE16-EC7D-4698-8ECB-55FCBD55F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24F41B-9998-4FAC-93AF-A3F5E5598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0A1F56-D3A0-4596-B0EC-255E0D3AF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6217-DFC1-43DA-AAC2-DFE2C4EB2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7E06B8-C839-467D-B629-3FA0AA879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E72D4C-32CF-4C4E-8ADF-F2DFB8131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BEDDF4-FA1F-4AEE-B850-549444509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9927DD-FDB4-452F-A410-6E6DB1932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E7E575-0455-474B-9A0D-0CE70B91A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EDC376-D8EB-4B5D-A964-CCD9232A7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1903D5-12EF-45E7-AA2A-4C247B32C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69DAB-C43E-45F3-ABD5-9626DE65710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71EC4-71FA-4E46-B64B-B4509A39561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09C92-A4C3-416A-8826-97B911D312E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F6D6E-33E8-4F46-ADA2-073B29DC30C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C948A-2B2D-4586-8887-3E232A86C8A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C6396-F270-4236-92C0-763373F79A0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A8137-FC15-4D0B-AA65-8F70E1DCA34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A5A60-6D34-4632-AC36-AFCF75F03ED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planurokal@mail.ru" TargetMode="External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mailto:planurokas@mail.ru" TargetMode="External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mailto:planurokap@mail.ru" TargetMode="External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mailto:planurokaa@mail.ru" TargetMode="External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0" y="2997360"/>
            <a:ext cx="91440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98989"/>
                </a:solidFill>
                <a:latin typeface="Century Schoolbook"/>
              </a:rPr>
              <a:t>КАФЕДРА НАЧАЛЬНОГО ОБРАЗОВАНИЯ</a:t>
            </a:r>
            <a:br>
              <a:rPr sz="2800"/>
            </a:br>
            <a:r>
              <a:rPr b="1" lang="ru-RU" sz="2800" spc="-1" strike="noStrike">
                <a:solidFill>
                  <a:srgbClr val="898989"/>
                </a:solidFill>
                <a:latin typeface="Century Schoolbook"/>
              </a:rPr>
              <a:t> ГБОУ ДПО </a:t>
            </a:r>
            <a:br>
              <a:rPr sz="2800"/>
            </a:br>
            <a:r>
              <a:rPr b="1" lang="ru-RU" sz="2800" spc="-1" strike="noStrike">
                <a:solidFill>
                  <a:srgbClr val="898989"/>
                </a:solidFill>
                <a:latin typeface="Century Schoolbook"/>
              </a:rPr>
              <a:t>«НИЖЕГОРОДСКИЙ ИНСТИТУТ РАЗВИТИЯ ОБРАЗОВАНИЯ»</a:t>
            </a:r>
            <a:br>
              <a:rPr sz="2900"/>
            </a:br>
            <a:br>
              <a:rPr sz="2700"/>
            </a:br>
            <a:r>
              <a:rPr b="1" lang="ru-RU" sz="2700" spc="-1" strike="noStrike">
                <a:solidFill>
                  <a:srgbClr val="ff0000"/>
                </a:solidFill>
                <a:latin typeface="Century Schoolbook"/>
              </a:rPr>
              <a:t>«ТЕОРИЯ И МЕТОДИКА ПРЕПОДАВАНИЯ В НАЧАЛЬНОЙ ШКОЛЕ В УСЛОВИЯХ РЕАЛИЗАЦИИ ФГОС»</a:t>
            </a: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1979640" y="5445000"/>
            <a:ext cx="6400800" cy="8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c00000"/>
                </a:solidFill>
                <a:latin typeface="Century Schoolbook"/>
              </a:rPr>
              <a:t>Требования к оформлению зачетной работы</a:t>
            </a: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c00000"/>
                </a:solidFill>
                <a:latin typeface="Century Schoolbook"/>
              </a:rPr>
              <a:t>Квалификационные курсы </a:t>
            </a: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c00000"/>
                </a:solidFill>
                <a:latin typeface="Century Schoolbook"/>
              </a:rPr>
              <a:t>НИРО</a:t>
            </a: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98989"/>
                </a:solidFill>
                <a:latin typeface="Arial"/>
              </a:rPr>
              <a:t>2017 - 2018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c00000"/>
                </a:solidFill>
                <a:latin typeface="Century Schoolbook"/>
              </a:rPr>
              <a:t>ПРОЕКТ УРОКА</a:t>
            </a:r>
            <a:br>
              <a:rPr sz="2700"/>
            </a:br>
            <a:r>
              <a:rPr b="0" lang="ru-RU" sz="2700" spc="-1" strike="noStrike">
                <a:solidFill>
                  <a:srgbClr val="c00000"/>
                </a:solidFill>
                <a:latin typeface="Century Schoolbook"/>
              </a:rPr>
              <a:t>СТРУКТУРА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457200" y="1000080"/>
            <a:ext cx="82296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Учебный предмет__________________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УМК_____________________________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Тема урока ________________________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Тип урока: 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Century Schoolbook"/>
              </a:rPr>
              <a:t>изучение нового материал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Задачи урока_____________________________________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жидаемые результаты (предметные; метапредметные: познавательные, коммуникативные, регулятивные; личностные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борудование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Исходный уровень знаний и умений обучающихс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для изучения данной темы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Этапы урока и хронометраж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одержание урока (в таблице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амоанализ уро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заполненный бланк ( в том числе и в электронном виде 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Литератур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Технические требования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00000"/>
                </a:solidFill>
                <a:latin typeface="Century Schoolbook"/>
              </a:rPr>
              <a:t>ТЕМА УРОК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формулируется </a:t>
            </a:r>
            <a:r>
              <a:rPr b="0" lang="ru-RU" sz="2400" spc="-1" strike="noStrike">
                <a:solidFill>
                  <a:srgbClr val="ff0000"/>
                </a:solidFill>
                <a:latin typeface="Century Schoolbook"/>
              </a:rPr>
              <a:t>полно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и точно в соответствии с рекомендациями авторов УМК, данными в рабочей программе и методических рекомендациях по предмету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00000"/>
                </a:solidFill>
                <a:latin typeface="Century Schoolbook"/>
              </a:rPr>
              <a:t>ЗАДАЧИ УРОК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39528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Формулировка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конкретных дидактических задач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, полно и точно, так, чтобы можно было отследить их реализацию в ходе урок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Важно: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- ставятся только те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задачи, над которыми реально ведется работа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на данном уроке и их реализацию возможно отследить в ходе урока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456840" y="333360"/>
            <a:ext cx="746748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Задачи урок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Формулируются комплексные задачи, связанные с формированием различных компонентов учебной деятельности и УУД, а дидактические задачи включаются в  них как составная часть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Например, </a:t>
            </a:r>
            <a:r>
              <a:rPr b="0" lang="en-US" sz="2400" spc="-1" strike="noStrike">
                <a:solidFill>
                  <a:srgbClr val="0070c0"/>
                </a:solidFill>
                <a:latin typeface="Century Schoolbook"/>
              </a:rPr>
              <a:t>«Развитие познавательных логических УУД анализа и обобщения на основе самостоятельного открытия учащимися нового вычислительного приема сложения с переходом через десяток»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entury Schoolbook"/>
              </a:rPr>
              <a:t>              </a:t>
            </a:r>
            <a:r>
              <a:rPr b="0" lang="en-US" sz="2400" spc="-1" strike="noStrike">
                <a:solidFill>
                  <a:srgbClr val="0070c0"/>
                </a:solidFill>
                <a:latin typeface="Century Schoolbook"/>
              </a:rPr>
              <a:t>«Развитие регулятивного УУД итогового самоконтроля на основе соотнесения составленного текста и его модели»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НЕ допускается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формулировка задач урока в общей форме, например, «Развивать мышление учащихся»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00000"/>
                </a:solidFill>
                <a:latin typeface="Century Schoolbook"/>
              </a:rPr>
              <a:t>ОБОРУДОВАНИЕ УРОК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468360" y="1267920"/>
            <a:ext cx="822960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Указываются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аглядные пособия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иборы, инструменты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Индивидуальные пособия (карточки, средства обратной связи и др.) прилагаются к конспекту и описываются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Компьютерная презентация (если есть в ней необходимость), прикладывается к проекту и др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00000"/>
                </a:solidFill>
                <a:latin typeface="Century Schoolbook"/>
              </a:rPr>
              <a:t>ПЛАН И ХРОНОМЕТРАЖ УРОК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одробный план, отражает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дидактическую и методическую структуру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, краткое содержание каждого этап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Указывается время на каждый этап урок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430" name=""/>
          <p:cNvGraphicFramePr/>
          <p:nvPr/>
        </p:nvGraphicFramePr>
        <p:xfrm>
          <a:off x="1042920" y="4005360"/>
          <a:ext cx="7705800" cy="1981080"/>
        </p:xfrm>
        <a:graphic>
          <a:graphicData uri="http://schemas.openxmlformats.org/drawingml/2006/table">
            <a:tbl>
              <a:tblPr/>
              <a:tblGrid>
                <a:gridCol w="941400"/>
                <a:gridCol w="4316400"/>
                <a:gridCol w="24480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№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/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звание этап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Хронометра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План урока с хронометражем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Примеры: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entury Schoolbook"/>
              </a:rPr>
              <a:t>«Открытие способа вычисления площади прямоугольника с применением палетки»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entury Schoolbook"/>
              </a:rPr>
              <a:t>«Ознакомление с новым вычислительным приемом вида 9+5»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entury Schoolbook"/>
              </a:rPr>
              <a:t>«Самостоятельная работа учащихся по выявлению свойств и состояний воды»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75f6d"/>
                </a:solidFill>
                <a:latin typeface="Times New Roman"/>
              </a:rPr>
              <a:t>ХОД УРОКА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434" name=""/>
          <p:cNvGraphicFramePr/>
          <p:nvPr/>
        </p:nvGraphicFramePr>
        <p:xfrm>
          <a:off x="0" y="981000"/>
          <a:ext cx="8785080" cy="5515200"/>
        </p:xfrm>
        <a:graphic>
          <a:graphicData uri="http://schemas.openxmlformats.org/drawingml/2006/table">
            <a:tbl>
              <a:tblPr/>
              <a:tblGrid>
                <a:gridCol w="1425600"/>
                <a:gridCol w="2174760"/>
                <a:gridCol w="2149560"/>
                <a:gridCol w="3035160"/>
              </a:tblGrid>
              <a:tr h="419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Этап уро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Деятельность учител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Деятельность учащихс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Теоретическое основание: формируемые УУД (группа УУД  и название конкретного УУД) , средства их формирования (формы, методы, приемы и т.п.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00000"/>
                </a:solidFill>
                <a:latin typeface="Century Schoolbook"/>
              </a:rPr>
              <a:t>СОДЕРЖАНИЕ УРОК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тражает ход, всё содержание (скан.задания учебника, тетради) и организацию урока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указываются слова учителя и образцы рассуждений учеников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формы работы и способы организации деятельности учащихся 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тражена дифференциация и индивидуализация обучения  младших школьников (указаны упражнения, виды помощи для отдельных учеников)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00000"/>
                </a:solidFill>
                <a:latin typeface="Century Schoolbook"/>
              </a:rPr>
              <a:t>ТЕОРЕТИЧЕСКОЕ ОБОСНОВАНИЕ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тражает процесс формирования УУД на каждом этапе данного урок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Форма построения суждения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- что формируется (указывается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группа и конкретное ууд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из этой группы)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- с помощью чего (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указываются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конкретные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дидактические и/или методические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редства)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БОУ ДПО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«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ижегородский институт развития образования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афедра начального образования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урсы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«Теория и методика преподавания в начальной школе в условиях реализации ФГОС»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(срок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04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.0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.201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-1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.06.201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ЧЕТНАЯ РАБОТ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ект урока по теме: «     »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ыполнил учитель начальных классов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У № _____ _______________район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ФИО ___________________________________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валификационная категория ____________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таж работы учителем начальных классов___лет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.Новгород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018 год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1" name="WordArt 3"/>
          <p:cNvSpPr txBox="1"/>
          <p:nvPr/>
        </p:nvSpPr>
        <p:spPr>
          <a:xfrm rot="5400000">
            <a:off x="-2737080" y="3321000"/>
            <a:ext cx="6337440" cy="215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итульный лист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00000"/>
                </a:solidFill>
                <a:latin typeface="Century Schoolbook"/>
              </a:rPr>
              <a:t>САМОАНАЛИЗ УРОК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Проводится в соответствии со схемой анализа (бланк №1 и №2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Критерии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3 - соответствует требованиям ФГОС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2 - частично соответствует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1 –не соответствует (отражает требования к традиционному уроку)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По этим критериям оценивает работу и преподаватель кафедры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7676640" y="1196640"/>
            <a:ext cx="1467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ЦЕНКА ПРОЕКТА УРОКА 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ЛАНК №1</a:t>
            </a:r>
            <a:br>
              <a:rPr sz="1800"/>
            </a:br>
            <a:br>
              <a:rPr sz="1400"/>
            </a:br>
            <a:endParaRPr b="0" lang="en-US" sz="18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442" name=""/>
          <p:cNvGraphicFramePr/>
          <p:nvPr/>
        </p:nvGraphicFramePr>
        <p:xfrm>
          <a:off x="14400" y="25560"/>
          <a:ext cx="7510320" cy="7500600"/>
        </p:xfrm>
        <a:graphic>
          <a:graphicData uri="http://schemas.openxmlformats.org/drawingml/2006/table">
            <a:tbl>
              <a:tblPr/>
              <a:tblGrid>
                <a:gridCol w="450720"/>
                <a:gridCol w="6122880"/>
                <a:gridCol w="368280"/>
                <a:gridCol w="568440"/>
              </a:tblGrid>
              <a:tr h="420480">
                <a:tc rowSpan="2">
                  <a:txBody>
                    <a:bodyPr lIns="50400" rIns="50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№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п\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rowSpan="2">
                  <a:txBody>
                    <a:bodyPr lIns="50400" rIns="50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Параметр оценк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gridSpan="2">
                  <a:txBody>
                    <a:bodyPr lIns="50400" rIns="50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Балл (3,2,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1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Самооценк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учител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Оценка преподавателя НИР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560520"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Сложность  содержания, его соответствие возможностям учащихс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80080"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Реализация компетентностного подхо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561960"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Творческий или репродуктивный характер учебных заданий, их целесообразность и обоснован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80080"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Развивающая направленность зада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81160"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Логика построения уро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560160"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Формы учебной  работы, их разнообразие и оптимальность выбо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561960"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Методы обучения и методические приемы, целесообразность их выбо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80080"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Характер используемой нагляд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561960"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Целесообразность и функциональность используемых средств обуч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560520"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Осуществление дифференцированного подхода к учащимся, учет их индивидуальных особенност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560520"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Формирование мотивационного компонента учебной деятель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80800"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Постановка учебных задач. Организация целеполаг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80080"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Формирование познавательных УУ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81160"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Формирование регулятивных УУ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80800"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Формирование коммуникативных УУ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10240">
                <a:tc gridSpan="2"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                                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Всего балл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443" name="Rectangle 2"/>
          <p:cNvSpPr/>
          <p:nvPr/>
        </p:nvSpPr>
        <p:spPr>
          <a:xfrm>
            <a:off x="7524720" y="2175480"/>
            <a:ext cx="161928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ксимальная сумма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45 баллов (разработанный урок полностью соответствует ФГОС), минимальная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5 баллов (урок является традиционным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-360" y="188640"/>
            <a:ext cx="896796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НАЛИЗ СООТВЕТСТВИЯ СТРУКТУРНЫХ ЧАСТЕЙ ПРОЕКТА УРОКА                                                         БЛАНК №2</a:t>
            </a:r>
            <a:br>
              <a:rPr sz="1800"/>
            </a:br>
            <a:endParaRPr b="0" lang="en-US" sz="18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445" name=""/>
          <p:cNvGraphicFramePr/>
          <p:nvPr/>
        </p:nvGraphicFramePr>
        <p:xfrm>
          <a:off x="250920" y="620640"/>
          <a:ext cx="8640720" cy="4803840"/>
        </p:xfrm>
        <a:graphic>
          <a:graphicData uri="http://schemas.openxmlformats.org/drawingml/2006/table">
            <a:tbl>
              <a:tblPr/>
              <a:tblGrid>
                <a:gridCol w="1185840"/>
                <a:gridCol w="4678200"/>
                <a:gridCol w="1387440"/>
                <a:gridCol w="1389240"/>
              </a:tblGrid>
              <a:tr h="308160">
                <a:tc rowSpan="2"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№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п/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 rowSpan="2"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Структурные части проекта и параметры их оцен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 gridSpan="2"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Балл (3,2,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2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Самооцен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учител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Оценка преподавателя НИР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</a:tr>
              <a:tr h="8431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Наличие общих сведений о проекте и соблюдение правил оформления зачетной рабо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</a:tr>
              <a:tr h="5619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Определение исходного уровня сформированности ЗУН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</a:tr>
              <a:tr h="8427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Правильность формулировки темы и задач урока, наличие сведений об оборудовании уро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</a:tr>
              <a:tr h="2811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Соблюдение требований к плану уро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</a:tr>
              <a:tr h="2808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Качество теоретического обоснов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</a:tr>
              <a:tr h="8431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Адекватность самоанализа урока (объективность выставления учителем баллов за свой конспект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</a:tr>
            </a:tbl>
          </a:graphicData>
        </a:graphic>
      </p:graphicFrame>
      <p:sp>
        <p:nvSpPr>
          <p:cNvPr id="446" name="Rectangle 1"/>
          <p:cNvSpPr/>
          <p:nvPr/>
        </p:nvSpPr>
        <p:spPr>
          <a:xfrm>
            <a:off x="250920" y="5479920"/>
            <a:ext cx="85327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оценивания используется следующая шкала: 3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оответствует требованиям, 2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частично соответствует, 1 - минимально соответствует, 0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лностью не соответствует. Максимальная сумма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8 баллов, минимальная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6 балл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им образом, оценка проекта урока и структурных частей проекта урока в сумме может составить 63 балла максимальн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и оценки зачетной работы преподавателем НИРО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нее 31 балла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 зачте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45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чтено с замечания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 - 63  - зачте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ТЕХНИЧЕСКИЕ ТРЕБОВАНИЯ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бота выполняется на листах формата Ф-4, вложенных в папку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рифт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s New Roma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размер шрифта 14, межстрочный интервал 1,5; все поля 2 см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аницы пронумерованы, на титульном листе номер не ставится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7598d9"/>
                </a:solidFill>
                <a:latin typeface="Century Schoolbook"/>
              </a:rPr>
              <a:t>ЛИТЕРАТУР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Указываете дополнительную литературу (источники) , которые были использованы при подготовке проекта урок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ЛИТЕРАТУРА  (В ПОМОЩЬ УЧИТЕЛЮ):</a:t>
            </a:r>
            <a:br>
              <a:rPr sz="1400"/>
            </a:br>
            <a:r>
              <a:rPr b="0" lang="en-US" sz="1600" spc="-1" strike="noStrike">
                <a:solidFill>
                  <a:srgbClr val="575f6d"/>
                </a:solidFill>
                <a:latin typeface="Arial"/>
              </a:rPr>
              <a:t>СОВРЕМЕННЫЕ ТЕХНОЛОГИИ ПРОВЕДЕНИЯ УРОКА В НАЧАЛЬНОЙ ШКОЛЕ С УЧЕТОМ ТРЕБОВАНИЙ ФГОС» ПОД РЕД. ДЕМЕНЕВОЙ Н. Н., ИЗДАТЕЛЬСТВО «АРКТИ», 2014 Г. </a:t>
            </a:r>
            <a:endParaRPr b="0" lang="en-US" sz="1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4211280" y="1600200"/>
            <a:ext cx="4475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В пособии раскрываются особенности построения современного урока в начальной школе с учетом требования Федерального государственного стандарта. Сопоставлены характеристики традиционного урока, не соответствующего стандарту, и развивающего урока, соответствующего ФГОС НОО. Приводятся примеры из вариативных учебников для начальной школы по различным учебным предметам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Пособие адресовано учителям начальных классов, директорам и завучам общеобразовательных учреждений, студентам педагогических вузов и колледжей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53" name="Picture 5" descr="image007"/>
          <p:cNvPicPr/>
          <p:nvPr/>
        </p:nvPicPr>
        <p:blipFill>
          <a:blip r:embed="rId1"/>
          <a:stretch/>
        </p:blipFill>
        <p:spPr>
          <a:xfrm>
            <a:off x="395280" y="1268280"/>
            <a:ext cx="330984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</a:rPr>
              <a:t>ЛЕНИНСКИЙ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 РАЙОН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d2611c"/>
                </a:solidFill>
                <a:latin typeface="Arial"/>
              </a:rPr>
              <a:t>Проект урока отправляется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entury Schoolbook"/>
              </a:rPr>
              <a:t>на электронную почту</a:t>
            </a:r>
            <a:r>
              <a:rPr b="0" lang="ru-RU" sz="23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d2611c"/>
                </a:solidFill>
                <a:uFillTx/>
                <a:latin typeface="Century Schoolbook"/>
                <a:hlinkClick r:id="rId1"/>
              </a:rPr>
              <a:t>planurokal@mail.ru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– Ленинский район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не позднее </a:t>
            </a:r>
            <a:r>
              <a:rPr b="0" lang="ru-RU" sz="3700" spc="-1" strike="noStrike">
                <a:solidFill>
                  <a:srgbClr val="f82616"/>
                </a:solidFill>
                <a:latin typeface="Century Schoolbook"/>
              </a:rPr>
              <a:t>11 июня</a:t>
            </a:r>
            <a:endParaRPr b="0" lang="en-US" sz="3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Требования к оформлению письма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В теме письма указываются: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Фамилия, инициалы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Учебный предмет (математика, русский язык, литературное чтение, окружающий мир, обучение грамоте)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При повторной отправке в теме письма указываются: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Фамилия, инициалы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Учебный предмет + «исправленное»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</a:rPr>
              <a:t>СОРМОВСКИЙ 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 РАЙОН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d2611c"/>
                </a:solidFill>
                <a:latin typeface="Arial"/>
              </a:rPr>
              <a:t>Проект урока отправляется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entury Schoolbook"/>
              </a:rPr>
              <a:t>на электронную почту</a:t>
            </a:r>
            <a:r>
              <a:rPr b="0" lang="ru-RU" sz="23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d2611c"/>
                </a:solidFill>
                <a:uFillTx/>
                <a:latin typeface="Century Schoolbook"/>
                <a:hlinkClick r:id="rId1"/>
              </a:rPr>
              <a:t>planurokas@mail.ru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Сормовский район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не позднее </a:t>
            </a:r>
            <a:r>
              <a:rPr b="0" lang="ru-RU" sz="3700" spc="-1" strike="noStrike">
                <a:solidFill>
                  <a:srgbClr val="f82616"/>
                </a:solidFill>
                <a:latin typeface="Century Schoolbook"/>
              </a:rPr>
              <a:t>11</a:t>
            </a: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 </a:t>
            </a:r>
            <a:r>
              <a:rPr b="0" lang="ru-RU" sz="3700" spc="-1" strike="noStrike">
                <a:solidFill>
                  <a:srgbClr val="f82616"/>
                </a:solidFill>
                <a:latin typeface="Century Schoolbook"/>
              </a:rPr>
              <a:t>июня</a:t>
            </a:r>
            <a:endParaRPr b="0" lang="en-US" sz="3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Требования к оформлению письма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В теме письма указываются: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Фамилия, инициалы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Учебный предмет (математика, русский язык, литературное чтение, окружающий мир, обучение грамоте)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При повторной отправке в теме письма указываются: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Фамилия, инициалы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Учебный предмет + «исправленное»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</a:rPr>
              <a:t>ПРИОКСКИЙ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 РАЙОН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d2611c"/>
                </a:solidFill>
                <a:latin typeface="Arial"/>
              </a:rPr>
              <a:t>Проект урока отправляется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entury Schoolbook"/>
              </a:rPr>
              <a:t>на электронную почту</a:t>
            </a:r>
            <a:r>
              <a:rPr b="0" lang="ru-RU" sz="23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d2611c"/>
                </a:solidFill>
                <a:uFillTx/>
                <a:latin typeface="Century Schoolbook"/>
                <a:hlinkClick r:id="rId1"/>
              </a:rPr>
              <a:t>planurokap@mail.ru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– Приокский район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не позднее </a:t>
            </a:r>
            <a:r>
              <a:rPr b="0" lang="ru-RU" sz="3700" spc="-1" strike="noStrike">
                <a:solidFill>
                  <a:srgbClr val="f82616"/>
                </a:solidFill>
                <a:latin typeface="Century Schoolbook"/>
              </a:rPr>
              <a:t>11</a:t>
            </a: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 </a:t>
            </a:r>
            <a:r>
              <a:rPr b="0" lang="ru-RU" sz="3700" spc="-1" strike="noStrike">
                <a:solidFill>
                  <a:srgbClr val="f82616"/>
                </a:solidFill>
                <a:latin typeface="Century Schoolbook"/>
              </a:rPr>
              <a:t>июня</a:t>
            </a:r>
            <a:endParaRPr b="0" lang="en-US" sz="3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Требования к оформлению письма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В теме письма указываются: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Фамилия, инициалы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Учебный предмет (математика, русский язык, литературное чтение, окружающий мир, обучение грамоте)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При повторной отправке в теме письма указываются: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Фамилия, инициалы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Учебный предмет + «исправленное»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</a:rPr>
              <a:t>АВТОЗАВОДСКИЙ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 РАЙОН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d2611c"/>
                </a:solidFill>
                <a:latin typeface="Arial"/>
              </a:rPr>
              <a:t>Проект урока отправляется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entury Schoolbook"/>
              </a:rPr>
              <a:t>на электронную почту</a:t>
            </a:r>
            <a:r>
              <a:rPr b="0" lang="ru-RU" sz="23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d2611c"/>
                </a:solidFill>
                <a:uFillTx/>
                <a:latin typeface="Century Schoolbook"/>
                <a:hlinkClick r:id="rId1"/>
              </a:rPr>
              <a:t>planurokaa@mail.ru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Автозаводский район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не позднее </a:t>
            </a:r>
            <a:r>
              <a:rPr b="0" lang="ru-RU" sz="3700" spc="-1" strike="noStrike">
                <a:solidFill>
                  <a:srgbClr val="f82616"/>
                </a:solidFill>
                <a:latin typeface="Century Schoolbook"/>
              </a:rPr>
              <a:t>11</a:t>
            </a: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 </a:t>
            </a:r>
            <a:r>
              <a:rPr b="0" lang="ru-RU" sz="3700" spc="-1" strike="noStrike">
                <a:solidFill>
                  <a:srgbClr val="f82616"/>
                </a:solidFill>
                <a:latin typeface="Century Schoolbook"/>
              </a:rPr>
              <a:t>июня</a:t>
            </a:r>
            <a:endParaRPr b="0" lang="en-US" sz="3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Требования к оформлению письма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В теме письма указываются: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Фамилия, инициалы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Учебный предмет (математика, русский язык, литературное чтение, окружающий мир, обучение грамоте)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При повторной отправке в теме письма указываются: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Фамилия, инициалы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Учебный предмет + «исправленное»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Picture 2" descr=""/>
          <p:cNvPicPr/>
          <p:nvPr/>
        </p:nvPicPr>
        <p:blipFill>
          <a:blip r:embed="rId1"/>
          <a:stretch/>
        </p:blipFill>
        <p:spPr>
          <a:xfrm>
            <a:off x="0" y="-243000"/>
            <a:ext cx="9901080" cy="6915240"/>
          </a:xfrm>
          <a:prstGeom prst="rect">
            <a:avLst/>
          </a:prstGeom>
          <a:ln w="0">
            <a:noFill/>
          </a:ln>
        </p:spPr>
      </p:pic>
      <p:sp>
        <p:nvSpPr>
          <p:cNvPr id="411" name="TextBox 2"/>
          <p:cNvSpPr/>
          <p:nvPr/>
        </p:nvSpPr>
        <p:spPr>
          <a:xfrm>
            <a:off x="2916360" y="2205000"/>
            <a:ext cx="63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для </a:t>
            </a:r>
            <a:r>
              <a:rPr b="0" lang="ru-RU" sz="3600" spc="-1" strike="noStrike" u="sng">
                <a:solidFill>
                  <a:srgbClr val="ff0000"/>
                </a:solidFill>
                <a:uFillTx/>
                <a:latin typeface="Arial"/>
              </a:rPr>
              <a:t>Сормовского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 райо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Box 3"/>
          <p:cNvSpPr/>
          <p:nvPr/>
        </p:nvSpPr>
        <p:spPr>
          <a:xfrm>
            <a:off x="3995640" y="1916280"/>
            <a:ext cx="37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Пример оформл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260280"/>
            <a:ext cx="453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68000" y="691920"/>
            <a:ext cx="764388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Century Schoolbook"/>
              </a:rPr>
              <a:t>В ПРИКРЕПЛЕННОМ  К ПИСЬМУ ФАЙЛЕ: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304920" y="2060280"/>
            <a:ext cx="822960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Century Schoolbook"/>
              </a:rPr>
              <a:t>Проект урока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743040" indent="-743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Century Schoolbook"/>
              </a:rPr>
              <a:t>Бланки самоанализа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743040" indent="-743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Century Schoolbook"/>
              </a:rPr>
              <a:t>Дополнительный материал: презентация;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743040" indent="-743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Century Schoolbook"/>
              </a:rPr>
              <a:t>      </a:t>
            </a:r>
            <a:r>
              <a:rPr b="1" lang="ru-RU" sz="3600" spc="-1" strike="noStrike">
                <a:solidFill>
                  <a:srgbClr val="0070c0"/>
                </a:solidFill>
                <a:latin typeface="Century Schoolbook"/>
              </a:rPr>
              <a:t>сканкопии страниц учебника; тетради и т.д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743040" indent="-743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entury Schoolbook"/>
              </a:rPr>
              <a:t>ПРЕДМЕТЫ:</a:t>
            </a:r>
            <a:endParaRPr b="0" lang="en-US" sz="4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Математика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Русский язык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Литературное чтение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Окружающий мир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Обучение грамоте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9T19:00:30Z</dcterms:created>
  <dc:creator>Александр</dc:creator>
  <dc:description/>
  <dc:language>en-US</dc:language>
  <cp:lastModifiedBy>*</cp:lastModifiedBy>
  <dcterms:modified xsi:type="dcterms:W3CDTF">2018-05-29T08:12:19Z</dcterms:modified>
  <cp:revision>147</cp:revision>
  <dc:subject/>
  <dc:title>Требования к итоговой работе</dc:title>
</cp:coreProperties>
</file>