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481-F46B-4749-86D1-83256F7A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658-59D8-45AD-8C48-398C603E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C34C-2E07-4EF7-B1B1-FD0B887B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A96-6B3A-4B8D-93B4-5D0A95C4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D719-E25D-40E0-9C30-A1A64503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5DD9-D32E-4902-92CF-063A12F0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BA39-4012-4B9C-A82F-215DFFA3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1A95-54E2-41FE-95FF-33B47C85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02F2-F4B1-40D4-81D4-2C6B6140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2E78-B02C-4EC7-8E6F-3B2A973D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8EB6-14B5-419E-8C67-DA279EF9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D9E-4239-4989-AAB6-B0883B12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6769-0871-4BCE-9F22-5109FC4A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1EB2-8B29-432E-865F-9DE53FFB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C5FC-33C7-44EC-B563-A4806111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05EB-3ABE-4AA7-A2C4-FFF7DD65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3D29-678D-414E-81E3-4B5A2BF1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28F0-192B-400A-8DDA-9AD026B4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8B5-87D0-4E00-A98C-A3FCE770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C4C8-585D-4A81-A02D-88A2D5E1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CDB-552F-4E49-B0CD-41F5784C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B11-D210-4ABA-A8C6-45417352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402-94F1-46A2-BACC-772033BC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1329-E62C-4153-B018-6D7F4AD8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D478-B9CF-4B46-874A-DF7F631D9C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B1F3-9EEA-4429-B1A8-8A1000A13BD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лияние температуры среды обитания на жизнь животных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48320" y="5410080"/>
            <a:ext cx="4419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: ученик 8 класса «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олоднокровные животные </a:t>
            </a:r>
            <a:br>
              <a:rPr sz="16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(не имеют постоянной температуры тела)</a:t>
            </a:r>
            <a:br>
              <a:rPr sz="16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Способы реагирования на температуру среды и соответственно регулирования своей температуры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еться на солнце, чтобы оно освещало и нагревало как можно большую поверхность тела. Этим способом пользуется-кузнечики, саранч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смыкаюшиеся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Кузнечик2"/>
          <p:cNvPicPr/>
          <p:nvPr/>
        </p:nvPicPr>
        <p:blipFill>
          <a:blip r:embed="rId1"/>
          <a:stretch/>
        </p:blipFill>
        <p:spPr>
          <a:xfrm>
            <a:off x="457200" y="1752480"/>
            <a:ext cx="3048120" cy="2210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крулоголов"/>
          <p:cNvPicPr/>
          <p:nvPr/>
        </p:nvPicPr>
        <p:blipFill>
          <a:blip r:embed="rId2"/>
          <a:stretch/>
        </p:blipFill>
        <p:spPr>
          <a:xfrm>
            <a:off x="5334120" y="4314960"/>
            <a:ext cx="291456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ящерица1"/>
          <p:cNvPicPr/>
          <p:nvPr/>
        </p:nvPicPr>
        <p:blipFill>
          <a:blip r:embed="rId3"/>
          <a:stretch/>
        </p:blipFill>
        <p:spPr>
          <a:xfrm>
            <a:off x="457200" y="434340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334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52280"/>
            <a:ext cx="8610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е окраски те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тром темная окраска способствует поглощению внешнего тепла, а по мере усиления солнечного тепла она бледнеет. Это  используют пустынные игуаны. Черепахи выставляют из -под панциря свои темные лапы, улавливая теп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5" descr="игуана2"/>
          <p:cNvPicPr/>
          <p:nvPr/>
        </p:nvPicPr>
        <p:blipFill>
          <a:blip r:embed="rId1"/>
          <a:stretch/>
        </p:blipFill>
        <p:spPr>
          <a:xfrm>
            <a:off x="4724280" y="3276720"/>
            <a:ext cx="3886200" cy="327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черепаха1"/>
          <p:cNvPicPr/>
          <p:nvPr/>
        </p:nvPicPr>
        <p:blipFill>
          <a:blip r:embed="rId2"/>
          <a:stretch/>
        </p:blipFill>
        <p:spPr>
          <a:xfrm>
            <a:off x="533520" y="342900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менение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шечная работа способствует разогреванию тела. При  понижении температуры увеличивается двигательная актив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Мокрица1"/>
          <p:cNvPicPr/>
          <p:nvPr/>
        </p:nvPicPr>
        <p:blipFill>
          <a:blip r:embed="rId1"/>
          <a:stretch/>
        </p:blipFill>
        <p:spPr>
          <a:xfrm>
            <a:off x="4800600" y="3505320"/>
            <a:ext cx="4048200" cy="2452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бабочка бражница1"/>
          <p:cNvPicPr/>
          <p:nvPr/>
        </p:nvPicPr>
        <p:blipFill>
          <a:blip r:embed="rId2"/>
          <a:stretch/>
        </p:blipFill>
        <p:spPr>
          <a:xfrm>
            <a:off x="304920" y="3505320"/>
            <a:ext cx="40384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цепенение (реакция  на изменения температуры среды  водных  животных)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19076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аси закапываются            Осетры лежат неподвиж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ил, температура их тела          близ дна, их тело покры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ускается.                                  вается толстым сло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изи,которая изолиру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низких температу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карась2"/>
          <p:cNvPicPr/>
          <p:nvPr/>
        </p:nvPicPr>
        <p:blipFill>
          <a:blip r:embed="rId1"/>
          <a:stretch/>
        </p:blipFill>
        <p:spPr>
          <a:xfrm>
            <a:off x="533520" y="1219320"/>
            <a:ext cx="353844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Осетра"/>
          <p:cNvPicPr/>
          <p:nvPr/>
        </p:nvPicPr>
        <p:blipFill>
          <a:blip r:embed="rId2"/>
          <a:stretch/>
        </p:blipFill>
        <p:spPr>
          <a:xfrm>
            <a:off x="4648320" y="1219320"/>
            <a:ext cx="3733560" cy="29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еплокровные животные</a:t>
            </a:r>
            <a:br>
              <a:rPr sz="40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(имеют постоянную температуру тела)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пособы приспособления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рганизма к изменениям  температуры среды обитания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стота волосяного покрова или перьевого покро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ичие подкожного жи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ота дыхательных движ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67680" y="-6696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чень теплый покров имеют: овцебык,северный олень,  белый медведь,  королевский пингв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0600" y="533160"/>
            <a:ext cx="403848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риближении зимы количество пуховых перьев на теле чижа увеличивается примерно на одну тысяч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чиж"/>
          <p:cNvPicPr/>
          <p:nvPr/>
        </p:nvPicPr>
        <p:blipFill>
          <a:blip r:embed="rId1"/>
          <a:stretch/>
        </p:blipFill>
        <p:spPr>
          <a:xfrm>
            <a:off x="152280" y="152280"/>
            <a:ext cx="3581640" cy="2362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Пингвин королевский"/>
          <p:cNvPicPr/>
          <p:nvPr/>
        </p:nvPicPr>
        <p:blipFill>
          <a:blip r:embed="rId2"/>
          <a:stretch/>
        </p:blipFill>
        <p:spPr>
          <a:xfrm>
            <a:off x="152280" y="3581280"/>
            <a:ext cx="2895840" cy="327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Северный олень"/>
          <p:cNvPicPr/>
          <p:nvPr/>
        </p:nvPicPr>
        <p:blipFill>
          <a:blip r:embed="rId3"/>
          <a:stretch/>
        </p:blipFill>
        <p:spPr>
          <a:xfrm>
            <a:off x="3276720" y="3581280"/>
            <a:ext cx="2504880" cy="327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белый медведь"/>
          <p:cNvPicPr/>
          <p:nvPr/>
        </p:nvPicPr>
        <p:blipFill>
          <a:blip r:embed="rId4"/>
          <a:stretch/>
        </p:blipFill>
        <p:spPr>
          <a:xfrm>
            <a:off x="6248520" y="3581280"/>
            <a:ext cx="243828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ведение животных при температурных изменения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315200" cy="13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езонном понижении температуры теплокровные животные впадают в спяч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Медведь в спячке1"/>
          <p:cNvPicPr/>
          <p:nvPr/>
        </p:nvPicPr>
        <p:blipFill>
          <a:blip r:embed="rId1"/>
          <a:stretch/>
        </p:blipFill>
        <p:spPr>
          <a:xfrm>
            <a:off x="1371600" y="2514600"/>
            <a:ext cx="6705720" cy="421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ветреную погоду  пингвины сбиваются в плотные группы и внутри их укрывают детенышей. Такой способ поведения позволяет удерживать  внутри группы более высокий уровень температуры и спасать себя и свое потомство от ледяного ве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penguins_03"/>
          <p:cNvPicPr/>
          <p:nvPr/>
        </p:nvPicPr>
        <p:blipFill>
          <a:blip r:embed="rId1"/>
          <a:stretch/>
        </p:blipFill>
        <p:spPr>
          <a:xfrm>
            <a:off x="1143000" y="228600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42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