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10AB-1BF3-4BC8-9EC8-36FC959E4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BA5B-469D-482D-8994-1149425C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5251-C65B-43BB-8FEF-057439C73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1E95-39E1-4796-A1D5-577D5B3A2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E8DD6-B79F-4345-ADED-152AE9B77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AADC-A025-4881-82B3-FF4B3C70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92F6-373B-40CB-A7B3-F2CFFCC9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4640-8F4E-43B5-90EE-7CC3C05E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DEA4-1707-49DA-AB49-39E1753D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A647-ACC0-445D-A451-65AF456C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1B42-AE3D-4927-B7C6-A1C3B1DB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18D5-3F5F-4F0F-ABB3-40FC8E89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FC39-DE2E-4B23-A1FD-991D0A10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D3D5-639A-471F-908F-58BEFC8E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D96B-242F-44ED-9D01-580A3BBE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AF19-E0F9-4758-8A76-552A9C8F6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D43B-73DF-4418-81A7-6A1677B49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301F-6414-41EC-82AD-2500C493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3E31-80FD-455A-A356-55340EEC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6A51-45AB-49D9-9138-E0718554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B5DC-BC52-41B1-862A-D1BC4E11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3C8F-85C9-4234-BF19-626B8AED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85E0-7646-4268-A782-7B957461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2473-11CA-45F0-929E-AEFF22BA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0714-0651-4E60-A2DE-B0806AF80C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44B6-61FF-4AEF-9D5D-39A8BD824E0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6000" spc="-1" strike="noStrike">
                <a:solidFill>
                  <a:srgbClr val="ffffb7"/>
                </a:solidFill>
                <a:latin typeface="Arial Black"/>
              </a:rPr>
              <a:t>Жилища  животных</a:t>
            </a: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038480" y="5334120"/>
            <a:ext cx="5029200" cy="14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полнил: ученик МОУ СОШ № 7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рне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ль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азные гнезда птиц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Picture 10" descr="Все гнезда"/>
          <p:cNvPicPr/>
          <p:nvPr/>
        </p:nvPicPr>
        <p:blipFill>
          <a:blip r:embed="rId1"/>
          <a:stretch/>
        </p:blipFill>
        <p:spPr>
          <a:xfrm>
            <a:off x="914400" y="1676520"/>
            <a:ext cx="7315200" cy="487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3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реда обит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93440" y="12952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е, что окружает живой организ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илище для животных, особенно для тех,которые обитают в воде или почв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сельдь"/>
          <p:cNvPicPr/>
          <p:nvPr/>
        </p:nvPicPr>
        <p:blipFill>
          <a:blip r:embed="rId1"/>
          <a:stretch/>
        </p:blipFill>
        <p:spPr>
          <a:xfrm>
            <a:off x="457200" y="396252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Горбуша"/>
          <p:cNvPicPr/>
          <p:nvPr/>
        </p:nvPicPr>
        <p:blipFill>
          <a:blip r:embed="rId2"/>
          <a:stretch/>
        </p:blipFill>
        <p:spPr>
          <a:xfrm>
            <a:off x="4495680" y="3962520"/>
            <a:ext cx="4267440" cy="2552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     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WordArt 4"/>
          <p:cNvSpPr txBox="1"/>
          <p:nvPr/>
        </p:nvSpPr>
        <p:spPr>
          <a:xfrm>
            <a:off x="1676520" y="2133720"/>
            <a:ext cx="5790960" cy="188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онец</a:t>
            </a:r>
            <a:endParaRPr b="0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768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768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7" dur="768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9" dur="768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Жилище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дом, в котором тело всегда укрыто от враг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6" descr="Ручейник1"/>
          <p:cNvPicPr/>
          <p:nvPr/>
        </p:nvPicPr>
        <p:blipFill>
          <a:blip r:embed="rId1"/>
          <a:stretch/>
        </p:blipFill>
        <p:spPr>
          <a:xfrm>
            <a:off x="533520" y="3352680"/>
            <a:ext cx="3733560" cy="2895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Реферат 2"/>
          <p:cNvPicPr/>
          <p:nvPr/>
        </p:nvPicPr>
        <p:blipFill>
          <a:blip r:embed="rId2"/>
          <a:stretch/>
        </p:blipFill>
        <p:spPr>
          <a:xfrm>
            <a:off x="4648320" y="3352680"/>
            <a:ext cx="3962160" cy="289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-511920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380880"/>
            <a:ext cx="80074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ременное или постоянно посещаемое убежищ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4" descr="Обезьяна"/>
          <p:cNvPicPr/>
          <p:nvPr/>
        </p:nvPicPr>
        <p:blipFill>
          <a:blip r:embed="rId1"/>
          <a:stretch/>
        </p:blipFill>
        <p:spPr>
          <a:xfrm>
            <a:off x="5181480" y="2971800"/>
            <a:ext cx="3681360" cy="3429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Белка"/>
          <p:cNvPicPr/>
          <p:nvPr/>
        </p:nvPicPr>
        <p:blipFill>
          <a:blip r:embed="rId2"/>
          <a:stretch/>
        </p:blipFill>
        <p:spPr>
          <a:xfrm>
            <a:off x="457200" y="2971800"/>
            <a:ext cx="3657600" cy="3429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Виды жилищ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упл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ого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ежбища,лежа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незд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еда обит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68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68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68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68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        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Дупло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щелина в дереве или скале,пещера,где может укрываться одно животное или нескольк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Дупло2"/>
          <p:cNvPicPr/>
          <p:nvPr/>
        </p:nvPicPr>
        <p:blipFill>
          <a:blip r:embed="rId1"/>
          <a:stretch/>
        </p:blipFill>
        <p:spPr>
          <a:xfrm>
            <a:off x="3200400" y="3657600"/>
            <a:ext cx="2209680" cy="2743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Дупло3"/>
          <p:cNvPicPr/>
          <p:nvPr/>
        </p:nvPicPr>
        <p:blipFill>
          <a:blip r:embed="rId2"/>
          <a:stretch/>
        </p:blipFill>
        <p:spPr>
          <a:xfrm>
            <a:off x="6095880" y="3657600"/>
            <a:ext cx="2514600" cy="2743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Дуло3"/>
          <p:cNvPicPr/>
          <p:nvPr/>
        </p:nvPicPr>
        <p:blipFill>
          <a:blip r:embed="rId3"/>
          <a:stretch/>
        </p:blipFill>
        <p:spPr>
          <a:xfrm>
            <a:off x="228600" y="3657600"/>
            <a:ext cx="24382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         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Нор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7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может быть система нор, используемых не одним животным,а семьями.В пределах этого жилища проходит вся жизнь:укрытие от врагов,отдых,рождение,кормление и воспитание потомств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5" descr="Барсук в норе"/>
          <p:cNvPicPr/>
          <p:nvPr/>
        </p:nvPicPr>
        <p:blipFill>
          <a:blip r:embed="rId1"/>
          <a:stretch/>
        </p:blipFill>
        <p:spPr>
          <a:xfrm>
            <a:off x="5029200" y="3581280"/>
            <a:ext cx="3619440" cy="2981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Лиса у норы"/>
          <p:cNvPicPr/>
          <p:nvPr/>
        </p:nvPicPr>
        <p:blipFill>
          <a:blip r:embed="rId2"/>
          <a:stretch/>
        </p:blipFill>
        <p:spPr>
          <a:xfrm>
            <a:off x="380880" y="3581280"/>
            <a:ext cx="3784680" cy="2921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8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          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Логово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положено на поверхности земли,в укромном мест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Логово волка"/>
          <p:cNvPicPr/>
          <p:nvPr/>
        </p:nvPicPr>
        <p:blipFill>
          <a:blip r:embed="rId1"/>
          <a:stretch/>
        </p:blipFill>
        <p:spPr>
          <a:xfrm>
            <a:off x="152280" y="3733920"/>
            <a:ext cx="2514600" cy="2952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Берлога3"/>
          <p:cNvPicPr/>
          <p:nvPr/>
        </p:nvPicPr>
        <p:blipFill>
          <a:blip r:embed="rId2"/>
          <a:stretch/>
        </p:blipFill>
        <p:spPr>
          <a:xfrm>
            <a:off x="6324480" y="3733920"/>
            <a:ext cx="2667240" cy="2971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Медведь в спячке1"/>
          <p:cNvPicPr/>
          <p:nvPr/>
        </p:nvPicPr>
        <p:blipFill>
          <a:blip r:embed="rId3"/>
          <a:stretch/>
        </p:blipFill>
        <p:spPr>
          <a:xfrm>
            <a:off x="2819520" y="3733920"/>
            <a:ext cx="3238560" cy="2981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Лежбище,лежки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0074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рские ластоногие для отдыха и размножения собираются стадами на береговых или ледовых лежбищ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оси,олени,зайцы отдыхают и укрываются на лежк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Лежбише моржей"/>
          <p:cNvPicPr/>
          <p:nvPr/>
        </p:nvPicPr>
        <p:blipFill>
          <a:blip r:embed="rId1"/>
          <a:stretch/>
        </p:blipFill>
        <p:spPr>
          <a:xfrm>
            <a:off x="380880" y="3733920"/>
            <a:ext cx="3810240" cy="2724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Заяц в лежке"/>
          <p:cNvPicPr/>
          <p:nvPr/>
        </p:nvPicPr>
        <p:blipFill>
          <a:blip r:embed="rId2"/>
          <a:stretch/>
        </p:blipFill>
        <p:spPr>
          <a:xfrm>
            <a:off x="4648320" y="3657600"/>
            <a:ext cx="4209840" cy="2838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незд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914040"/>
            <a:ext cx="80071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мелких птиц гнездо имеет временный характер-предназначено только для выведения потомства. Крупные хищники используют  свои гнезда в течение нескольких л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незда птиц чрезвычайно  разнообразн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гнездо птицы"/>
          <p:cNvPicPr/>
          <p:nvPr/>
        </p:nvPicPr>
        <p:blipFill>
          <a:blip r:embed="rId1"/>
          <a:stretch/>
        </p:blipFill>
        <p:spPr>
          <a:xfrm>
            <a:off x="609480" y="3962520"/>
            <a:ext cx="3581640" cy="2743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Гнездо2"/>
          <p:cNvPicPr/>
          <p:nvPr/>
        </p:nvPicPr>
        <p:blipFill>
          <a:blip r:embed="rId2"/>
          <a:stretch/>
        </p:blipFill>
        <p:spPr>
          <a:xfrm>
            <a:off x="4648320" y="3962520"/>
            <a:ext cx="3581280" cy="2728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Жена_Мастера</cp:lastModifiedBy>
  <dcterms:modified xsi:type="dcterms:W3CDTF">2011-11-13T09:56:23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