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3FCD-50B6-40E3-86EA-F816925E5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7324-CB34-48CB-B15F-5628EF0CB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8646-9FD8-4819-B004-A708DD6BD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0659-D852-45FA-A510-5489D085C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3C212-F1D4-40ED-AB6B-B9788E84E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89C5B-7F1D-4DA5-8E5F-ABADC5801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5A3BC-5C6D-4BE3-8ED2-E53B0621A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D2FA1-A1EA-433E-8B2E-A53F95B18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BDB04-BE47-4537-A30E-D5787D93C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ECB92-6FFC-4381-B1C1-271D8C4C8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8ECF0-17F9-40B6-84D6-388DFB44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0C12-8006-4860-81A8-5F56AC295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8E01A-D3C3-4992-AF01-CFAC822C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B0310-5154-47A2-A9C8-268B7580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E463D-4F03-48A3-A95C-365EEF01D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F4835-F9E2-441C-9679-29AEE19A7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D6897-8F9E-4FDB-8C7D-D42A81651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AE1F-0D2C-4037-821D-99E5557BF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581B-13C2-476B-ABBB-2627C8663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37DE-EE9B-4B13-889C-669D134BC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66FE-BF95-4033-A09C-2A9F464B4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1971-14B0-4E66-AD55-C2A7B170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674A-6200-4817-9DB6-833C02FF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3145-20CE-461D-AC8A-2CB829AD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8DAD4-B04A-449B-9D52-BC6AFF8A5EB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1D0F4-2507-4287-A697-9FB81F3B1CB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1;&#1080;&#1097;&#1085;&#1099;&#1077;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hyperlink" Target="http://ru.wikipedia.org/wiki/&#1050;&#1088;&#1072;&#1089;&#1085;&#1072;&#1103;_&#1082;&#1085;&#1080;&#1075;&#1072;_&#1056;&#1086;&#1089;&#1089;&#1080;&#1080;" TargetMode="External"/><Relationship Id="rId4" Type="http://schemas.openxmlformats.org/officeDocument/2006/relationships/hyperlink" Target="http://ru.wikipedia.org/wiki/&#1064;&#1072;&#1073;&#1083;&#1086;&#1085;:&#1044;&#1086;&#1084;&#1072;&#1096;&#1085;&#1080;&#1077;_&#1078;&#1080;&#1074;&#1086;&#1090;&#1085;&#1099;&#1077;" TargetMode="External"/><Relationship Id="rId5" Type="http://schemas.openxmlformats.org/officeDocument/2006/relationships/hyperlink" Target="http://ru.wikipedia.org/wiki/&#1054;&#1073;&#1089;&#1091;&#1078;&#1076;&#1077;&#1085;&#1080;&#1077;_&#1096;&#1072;&#1073;&#1083;&#1086;&#1085;&#1072;:&#1044;&#1086;&#1084;&#1072;&#1096;&#1085;&#1080;&#1077;_&#1078;&#1080;&#1074;&#1086;&#1090;&#1085;&#1099;&#1077;" TargetMode="External"/><Relationship Id="rId6" Type="http://schemas.openxmlformats.org/officeDocument/2006/relationships/hyperlink" Target="http://ru.wikipedia.org/w/index.php?title=&#1064;&#1072;&#1073;&#1083;&#1086;&#1085;:&#1044;&#1086;&#1084;&#1072;&#1096;&#1085;&#1080;&#1077;_&#1078;&#1080;&#1074;&#1086;&#1090;&#1085;&#1099;&#1077;&amp;action=edit" TargetMode="Externa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77;&#1084;&#1084;&#1080;&#1085;&#1075;" TargetMode="External"/><Relationship Id="rId2" Type="http://schemas.openxmlformats.org/officeDocument/2006/relationships/hyperlink" Target="http://ru.wikipedia.org/wiki/&#1043;&#1086;&#1088;&#1085;&#1086;&#1089;&#1090;&#1072;&#1081;" TargetMode="External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050920" y="2060280"/>
            <a:ext cx="58341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ahoma"/>
              </a:rPr>
              <a:t>Животные</a:t>
            </a:r>
            <a:r>
              <a:rPr b="0" lang="ru-RU" sz="4800" spc="-1" strike="noStrike">
                <a:solidFill>
                  <a:srgbClr val="009900"/>
                </a:solidFill>
                <a:latin typeface="Tahoma"/>
              </a:rPr>
              <a:t> </a:t>
            </a:r>
            <a:r>
              <a:rPr b="0" lang="ru-RU" sz="4800" spc="-1" strike="noStrike">
                <a:solidFill>
                  <a:srgbClr val="ffff00"/>
                </a:solidFill>
                <a:latin typeface="Tahoma"/>
              </a:rPr>
              <a:t>тундры</a:t>
            </a: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2743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Выполнила ученица 7 «А» класс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МОУ СОШ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№ 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Борисова Кс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187200" y="-720"/>
            <a:ext cx="791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23624"/>
                </a:solidFill>
                <a:latin typeface="Tahoma"/>
              </a:rPr>
              <a:t>В северных тундрах обитает особый вид белой куропатки</a:t>
            </a:r>
            <a:r>
              <a:rPr b="0" lang="en-US" sz="1800" spc="-1" strike="noStrike">
                <a:solidFill>
                  <a:srgbClr val="e23624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1622520"/>
            <a:ext cx="2050920" cy="35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Окраска оперения в зимний период белая, за исключением черных рулевых перьев (на их концах — белые вершинные полоски), черного клюва и темных-когтей. Стержни первостепенных маховых перьев также темные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50920" y="382680"/>
            <a:ext cx="8642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Тундряная куропатка ведет преимущественно наземный образ жизни и хорошо передвигается как по твердому грунту, так и по рыхлому снегу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0" y="5691240"/>
            <a:ext cx="5832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2195640" y="1125360"/>
            <a:ext cx="4608360" cy="468000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7020000" y="1700280"/>
            <a:ext cx="212400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Питание тундряных куропаток  весьма разнообразно. В бесснежный период основу рациона составляют семена различных растений, цветы и листья голубики, черники, андромеды, луковички гречихи живородящей, ягоды, листья и стебли вороники, ягоды черники, брусники и толокнянки, листья дриады и различных видов ив, коробочки мхов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43923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На севере Евразии и Американского континента простираются просторы тундр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Пожалуй, не найти на Земле более суровых мест:зимой,когда дуют пронзительные ветры и метет колючая пурга, температура в тундре может опускаться до -40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c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 и даже ниже, а летом не поднимается выше +10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5219640" y="549360"/>
            <a:ext cx="3456000" cy="266364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5076720" y="3933720"/>
            <a:ext cx="3649680" cy="217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826920" y="115920"/>
            <a:ext cx="749016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Растительный покров тундры-это разнообразные лишайники, олений корм-ягель,мхи,осоки,низкорослые кустарнички и кустарники, карликовые березки, полярные ив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626436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ahoma"/>
              </a:rPr>
              <a:t>Тундра полна жизни, животный мир этой природной зоны богат и разнообразен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1979640" y="1557360"/>
            <a:ext cx="5616720" cy="4498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8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371600" y="-2763720"/>
            <a:ext cx="777240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6f097"/>
                </a:solidFill>
                <a:latin typeface="Blackadder ITC"/>
              </a:rPr>
              <a:t>В тундровой зоне обитает достаточно много млекопитающих</a:t>
            </a:r>
            <a:r>
              <a:rPr b="1" i="1" lang="en-US" sz="1600" spc="-1" strike="noStrike">
                <a:solidFill>
                  <a:srgbClr val="36f097"/>
                </a:solidFill>
                <a:latin typeface="Blackadder ITC"/>
              </a:rPr>
              <a:t>:</a:t>
            </a:r>
            <a:endParaRPr b="0" lang="en-US" sz="1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178920" y="691920"/>
            <a:ext cx="4103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23624"/>
                </a:solidFill>
                <a:latin typeface="Tahoma"/>
              </a:rPr>
              <a:t>Белый медведь — самый крупный наземный представитель млекопитающих отряда </a:t>
            </a:r>
            <a:r>
              <a:rPr b="0" lang="en-US" sz="16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хищных</a:t>
            </a:r>
            <a:r>
              <a:rPr b="0" lang="en-US" sz="1600" spc="-1" strike="noStrike" u="sng">
                <a:solidFill>
                  <a:srgbClr val="e23624"/>
                </a:solidFill>
                <a:uFillTx/>
                <a:latin typeface="Tahoma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4356000" y="765000"/>
            <a:ext cx="4537080" cy="259272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0" y="2573280"/>
            <a:ext cx="435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08000" y="3138480"/>
            <a:ext cx="87487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00"/>
                </a:solidFill>
                <a:latin typeface="Garamond"/>
              </a:rPr>
              <a:t>Несмотря на кажущуюся неповоротливость, белые медведи даже на суше быстры и ловки, а в воде легко плавают и ныряют. Очень густая, плотная шерсть защищает тело медведя от холода и намокания в ледяной воде. Важную приспособительную роль играет мощный слой подкожного жира до 10 см толщиной. Белая окраска способствует маскировке хищника. Хорошо развиты обоняние, слух и зрение — свою добычу медведь может увидеть за несколько километров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643280" y="5049000"/>
            <a:ext cx="396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Garamond"/>
              </a:rPr>
              <a:t>При случае подбирает падаль, дохлую рыбу, яйца и птенцов, может есть траву и морские водоросли, в обжитых местах питается на помойках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3"/>
          <a:stretch/>
        </p:blipFill>
        <p:spPr>
          <a:xfrm>
            <a:off x="324000" y="4581360"/>
            <a:ext cx="3421080" cy="227664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324000" y="1658880"/>
            <a:ext cx="3671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Обитает на дрейфующих морских льдах, где охотится на свою основную добычу: кольчатую нерпу, морского зайца, моржа и др. морских животных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768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768" fill="hold"/>
                                        <p:tgtEl>
                                          <p:spTgt spid="3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" dur="768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" dur="768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f097"/>
                </a:solidFill>
                <a:latin typeface="Tahoma"/>
              </a:rPr>
              <a:t>По бескрайним просторам тундры перемещается стада северных оленей в поисках лишайникового корма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i="1" lang="en-US" sz="1600" spc="-1" strike="noStrike">
                <a:solidFill>
                  <a:srgbClr val="ffff00"/>
                </a:solidFill>
                <a:latin typeface="Tahoma"/>
              </a:rPr>
              <a:t>Северный олень — мигрирующий вид. Широкие копыта позволяют перемещаться по рыхлому снегу и раскапывать его в поисках пищи. Жажду этот олень 9 месяцев в году утоляют снегом. Люди одомашнили северных оленей, изолировав часть стада диких животных. Домашние северные олени живут на полувольном выпасе, а от диких животных отличаются тем, что привыкли к людям и в случае опасности не разбегаются в стороны, а собираются вместе, надеясь на защиту людей. От оленей люди получают молоко, мясо, шерсть, рога, кости, от человека оленям нужна только соль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5003640" y="1268280"/>
            <a:ext cx="3384720" cy="216072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5364000" y="3573360"/>
            <a:ext cx="2737080" cy="2735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5" name=""/>
          <p:cNvGraphicFramePr/>
          <p:nvPr/>
        </p:nvGraphicFramePr>
        <p:xfrm>
          <a:off x="0" y="6165720"/>
          <a:ext cx="9144000" cy="9270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92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1800" spc="-1" strike="noStrike">
                          <a:solidFill>
                            <a:srgbClr val="008080"/>
                          </a:solidFill>
                          <a:latin typeface="Edwardian Script ITC"/>
                        </a:rPr>
                        <a:t>Северный олень</a:t>
                      </a:r>
                      <a:r>
                        <a:rPr b="0" i="1" lang="en-US" sz="1800" spc="-1" strike="noStrike">
                          <a:solidFill>
                            <a:srgbClr val="008080"/>
                          </a:solidFill>
                          <a:latin typeface="Edwardian Script ITC"/>
                        </a:rPr>
                        <a:t> на территории России находится на грани исчезновения и занесён в </a:t>
                      </a:r>
                      <a:r>
                        <a:rPr b="0" lang="en-US" sz="1800" spc="-1" strike="noStrike" u="sng">
                          <a:solidFill>
                            <a:srgbClr val="a3c145"/>
                          </a:solidFill>
                          <a:uFillTx/>
                          <a:latin typeface="Edwardian Script ITC"/>
                          <a:hlinkClick r:id="rId3"/>
                        </a:rPr>
                        <a:t>Красную книгу Росс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0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06" name=""/>
          <p:cNvGraphicFramePr/>
          <p:nvPr/>
        </p:nvGraphicFramePr>
        <p:xfrm>
          <a:off x="0" y="1508040"/>
          <a:ext cx="182520" cy="44845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484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[показать]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4"/>
                        </a:rPr>
                        <a:t>п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·</a:t>
                      </a:r>
                      <a:r>
                        <a:rPr b="0" lang="en-US" sz="18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5"/>
                        </a:rPr>
                        <a:t>о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·</a:t>
                      </a:r>
                      <a:r>
                        <a:rPr b="0" lang="en-US" sz="18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6"/>
                        </a:rPr>
                        <a:t>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80722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cc"/>
                </a:solidFill>
                <a:latin typeface="Tahoma"/>
              </a:rPr>
              <a:t>В тундре обитают мелкие грызуны-лемминги, на которых охотятся песцы и совы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8" name=""/>
          <p:cNvSpPr/>
          <p:nvPr/>
        </p:nvSpPr>
        <p:spPr>
          <a:xfrm>
            <a:off x="826920" y="4270320"/>
            <a:ext cx="77058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6f097"/>
                </a:solidFill>
                <a:latin typeface="Tahoma"/>
              </a:rPr>
              <a:t>Песец</a:t>
            </a:r>
            <a:r>
              <a:rPr b="0" i="1" lang="en-US" sz="1400" spc="-1" strike="noStrike">
                <a:solidFill>
                  <a:srgbClr val="36f097"/>
                </a:solidFill>
                <a:latin typeface="Tahoma"/>
              </a:rPr>
              <a:t>.    - промысловый пушной зверь, которого иногда называют полярной лисицей.</a:t>
            </a: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 Распространены песцы по всей тундре: к северу — до побережья океана и к югу - до северной границы леса. Летом песцы питаются в основном леммингами и полевками, а также поедают яйца, птенцов и даже взрослых птиц, в частности белых куропаток, зиме песцы жиреют, что в условиях холодной и долгой зимы является полезным приспособлением, так как зимой кормов становится меньше, голод заставляет песцов пожирать буквально все мало-мальски съедобное - водоросли, падаль, экскременты людей и животных. Примерно с ноября начинаются массовые перекочевки песцов в места, более благоприятные в отношении кормов. К весне возвращаются в тундру, роют себе новые норы или ремонтируют старые, а затем приступают к размножению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835280" y="765000"/>
            <a:ext cx="4897440" cy="3456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98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ahoma"/>
              </a:rPr>
              <a:t>             </a:t>
            </a:r>
            <a:r>
              <a:rPr b="0" i="1" lang="ru-RU" sz="1400" spc="-1" strike="noStrike">
                <a:solidFill>
                  <a:srgbClr val="ffff00"/>
                </a:solidFill>
                <a:latin typeface="Tahoma"/>
              </a:rPr>
              <a:t>Коротким полярным летом тундра оживает. В это время сюда прилетает  огромное количество птиц.На побережье материков и на скалистых арктических островах птицы разных видов, питающиеся морской рыбой, образуют огромные совместные населения-птичьи базары. Здесь гнездятся кайры и чистики, гагары и чайк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4066920" cy="431964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4462560" y="2533680"/>
            <a:ext cx="4681440" cy="432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971640" y="115560"/>
            <a:ext cx="489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e23624"/>
                </a:solidFill>
                <a:latin typeface="Garamond"/>
              </a:rPr>
              <a:t>Белая</a:t>
            </a:r>
            <a:r>
              <a:rPr b="0" i="1" lang="en-US" sz="1800" spc="-1" strike="noStrike">
                <a:solidFill>
                  <a:srgbClr val="e23624"/>
                </a:solidFill>
                <a:latin typeface="Garamond"/>
              </a:rPr>
              <a:t> сова — самая крупная птица из отряда совообразных в тундре. Голова круглая, радужина глаз ярко-жёлт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059280" y="954000"/>
            <a:ext cx="590364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Полярная сова — активный хищник. Основу её питания составляют мышевидные грызуны, в первую очередь </a:t>
            </a:r>
            <a:r>
              <a:rPr b="0" lang="en-US" sz="16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лемминги</a:t>
            </a:r>
            <a:r>
              <a:rPr b="0" lang="en-US" sz="1600" spc="-1" strike="noStrike" u="sng">
                <a:solidFill>
                  <a:srgbClr val="ffff00"/>
                </a:solidFill>
                <a:uFillTx/>
                <a:latin typeface="Tahoma"/>
              </a:rPr>
              <a:t>. За год одна сова съедает более 1600 леммингов. Ловит также зайцев, пищух, мелких хищников (</a:t>
            </a:r>
            <a:r>
              <a:rPr b="0" lang="en-US" sz="16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горностай</a:t>
            </a:r>
            <a:r>
              <a:rPr b="0" lang="en-US" sz="1600" spc="-1" strike="noStrike" u="sng">
                <a:solidFill>
                  <a:srgbClr val="ffff00"/>
                </a:solidFill>
                <a:uFillTx/>
                <a:latin typeface="Tahoma"/>
              </a:rPr>
              <a:t>), птиц (белых куропаток, гусей, уток), не пренебрегает рыбой и падалью. Сова не охотится вблизи гнезда, поэтому птицы охотно селятся поблизости от сов, которые защищают свою территорию от других хищников. Охотится белая сова, главным образом, сидя на земле, предпочтительно на возвышении, и бросаясь на приближающуюся добычу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24000" y="5181120"/>
            <a:ext cx="5256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6f097"/>
                </a:solidFill>
                <a:latin typeface="Garamond"/>
              </a:rPr>
              <a:t>Брачное чтиво в марте — апреле, сопровождается сложными ухаживаниями. В некоторых районах белые совы сохраняют постоянные пары на протяжении многих лет; в других пара остаётся вместе только на время одного гнездового сезона</a:t>
            </a:r>
            <a:r>
              <a:rPr b="0" lang="en-US" sz="1600" spc="-1" strike="noStrike">
                <a:solidFill>
                  <a:srgbClr val="36f097"/>
                </a:solidFill>
                <a:latin typeface="Garamond"/>
              </a:rPr>
              <a:t>.</a:t>
            </a:r>
            <a:r>
              <a:rPr b="0" lang="en-US" sz="16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3"/>
          <a:stretch/>
        </p:blipFill>
        <p:spPr>
          <a:xfrm>
            <a:off x="0" y="981000"/>
            <a:ext cx="3103560" cy="375624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4"/>
          <a:stretch/>
        </p:blipFill>
        <p:spPr>
          <a:xfrm>
            <a:off x="5580000" y="3860640"/>
            <a:ext cx="3564000" cy="2997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8T15:48:55Z</dcterms:created>
  <dc:creator>Максим</dc:creator>
  <dc:description/>
  <dc:language>en-US</dc:language>
  <cp:lastModifiedBy>Максим</cp:lastModifiedBy>
  <dcterms:modified xsi:type="dcterms:W3CDTF">2010-12-08T19:44:59Z</dcterms:modified>
  <cp:revision>2</cp:revision>
  <dc:subject/>
  <dc:title>Животные тундры.</dc:title>
</cp:coreProperties>
</file>