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FA37-44D5-414C-AF97-158D96879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0D0B-640E-4CC9-BC6B-D96FE8B53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2E32-8876-4541-8258-D05CF2E3C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5AF2-C5F5-4E6A-AA87-23B98A302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A1648-BF41-4AA7-8113-7541CF8AF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D3604-AEF2-4EDA-86D1-3B6722BAD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57449-941C-4803-A710-8087C15AE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9F239-0C6E-4B84-B150-600DD0F9A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9E7E3-D516-4516-93C3-DD040097A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3E399-FC72-47A5-B62A-8743267EE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75F55-BA4B-4DCB-8C66-6B5E433C6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D8DC-4E99-49EF-B2F8-2ED38F9CF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96EA2-0B80-4BA1-BCED-3227C7365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3C9BF-A84D-4F42-9A1F-E1F29B106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ECD64-B6FC-4209-9A88-9D0F30822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F30C9-24D3-4445-8A46-200929D24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9665B-F3AB-4C4B-B825-72DF31D01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051A-F828-406E-B9CF-B84E442F6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A7ED-BA9D-4460-854C-3DF102885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9449-A639-4F1D-B7CC-54CCB9948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BA01-F54F-46CD-875B-1AD661632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31BA-EB3D-496E-9DCB-8124E0010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1411-100B-4DC2-912F-44210B5AB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7924-20BB-4EE2-A594-834F0E95F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BC5DB-0208-45EB-AE57-913422382846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2791E-0389-4563-B9AA-9C33656E71B5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3" descr=""/>
          <p:cNvPicPr/>
          <p:nvPr/>
        </p:nvPicPr>
        <p:blipFill>
          <a:blip r:embed="rId1"/>
          <a:stretch/>
        </p:blipFill>
        <p:spPr>
          <a:xfrm>
            <a:off x="420840" y="1066680"/>
            <a:ext cx="8229600" cy="2664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2071440" y="3714840"/>
            <a:ext cx="7072200" cy="192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полнял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ченица 7 «А» класс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спелова Анн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1"/>
          <p:cNvSpPr/>
          <p:nvPr/>
        </p:nvSpPr>
        <p:spPr>
          <a:xfrm>
            <a:off x="214200" y="285840"/>
            <a:ext cx="842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ЕЧНОЙ ОКУНЬ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Perca fluviatili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6" name="Прямоугольник 2"/>
          <p:cNvSpPr/>
          <p:nvPr/>
        </p:nvSpPr>
        <p:spPr>
          <a:xfrm>
            <a:off x="214200" y="1071720"/>
            <a:ext cx="8715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ечной окунь - один из самых распространенных видов рыб в Европе и Азии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битает окунь в водоемах разного типа: в реках, озерах, проточных прудах, водохранилищах и т. п. Крупные окуни живут на глубоких местах, мелкие по заводям, заливам среди зарослей водной растительности. Плодовитость до 200 тысяч икринок. Икра собрана в студенистые ленты, где лежит кучками по 3-5 штук. Из оплодотворенной икры спустя 10-15 дней появляются личинки, которые питаются мелкими животными, быстро растут и превращаются в мальков. Мелкие окуньки питаются различными водными насекомыми, их личинками.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1"/>
          <p:cNvSpPr/>
          <p:nvPr/>
        </p:nvSpPr>
        <p:spPr>
          <a:xfrm>
            <a:off x="285840" y="214200"/>
            <a:ext cx="792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ЕЧНОЙ ОКУНЬ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Perca fluviatilis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8" name="Рисунок 2" descr="окунь.jpeg"/>
          <p:cNvPicPr/>
          <p:nvPr/>
        </p:nvPicPr>
        <p:blipFill>
          <a:blip r:embed="rId1"/>
          <a:stretch/>
        </p:blipFill>
        <p:spPr>
          <a:xfrm>
            <a:off x="500040" y="1000080"/>
            <a:ext cx="7907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1"/>
          <p:cNvSpPr/>
          <p:nvPr/>
        </p:nvSpPr>
        <p:spPr>
          <a:xfrm>
            <a:off x="214200" y="21420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УДОВАЯ ЛЯГУШКА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Runa esculenta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0" name="Прямоугольник 3"/>
          <p:cNvSpPr/>
          <p:nvPr/>
        </p:nvSpPr>
        <p:spPr>
          <a:xfrm>
            <a:off x="285840" y="1071720"/>
            <a:ext cx="8572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удовая лягушка живет в водоемах смешанных и широколиственных лесов. Здесь она активна днем и вечером. В водоемах эта лягушка плавает с помощью длинных задних конечностей, пальцы которых снабжены плавательными перепонками. Передвижение по суше осуществляется с помощью прыжков, причем главную роль опять-таки играют задние конечности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1" name="Прямоугольник 4"/>
          <p:cNvSpPr/>
          <p:nvPr/>
        </p:nvSpPr>
        <p:spPr>
          <a:xfrm>
            <a:off x="357120" y="3765600"/>
            <a:ext cx="8358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удовая лягушка - хищник, она питается подвижными насекомыми, которых добывает своеобразно: с помощью широкого языка, покрытого клейкой слизью. Как только мимо лягушки пролетает насекомое, она мгновенно выкидывает вперед язык, к которому и прилипает добыча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оугольник 1"/>
          <p:cNvSpPr/>
          <p:nvPr/>
        </p:nvSpPr>
        <p:spPr>
          <a:xfrm>
            <a:off x="214200" y="214200"/>
            <a:ext cx="73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УДОВАЯ ЛЯГУШКА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Runa esculenta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3" name="Рисунок 2" descr="лягуха.jpg"/>
          <p:cNvPicPr/>
          <p:nvPr/>
        </p:nvPicPr>
        <p:blipFill>
          <a:blip r:embed="rId1"/>
          <a:stretch/>
        </p:blipFill>
        <p:spPr>
          <a:xfrm>
            <a:off x="258840" y="1000080"/>
            <a:ext cx="8599320" cy="562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Прямоугольник 1"/>
          <p:cNvSpPr/>
          <p:nvPr/>
        </p:nvSpPr>
        <p:spPr>
          <a:xfrm>
            <a:off x="144360" y="214200"/>
            <a:ext cx="842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ОДОЛЮБ БОЛЬШОЙ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Hydrous aterrimu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" name="Прямоугольник 2"/>
          <p:cNvSpPr/>
          <p:nvPr/>
        </p:nvSpPr>
        <p:spPr>
          <a:xfrm>
            <a:off x="171360" y="1484280"/>
            <a:ext cx="8643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Живет большой водолюб в стоячих водоемах, заросших водными растениями. Тело этого жука хорошо обтекаемо, что облегчает ему передвижение в воде. Задние ноги плавательные, длинные, с лапками, на которых имеются волоски. Попеременно переставляя их, водолюб как бы «шагает» в воде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ышит водолюб атмосферным воздухом: он то и дело поднимается к поверхности воды, приближая к ней голову. Однако из воды ее не высовывает, а «снабжается» воздухом при помощи усиков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сновная пища водолюба - растения: мягкие листочки и зеленые водоросли. Он также поедает трупы мелких животных; нападает и на ослабевших мальков рыб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Прямоугольник 1"/>
          <p:cNvSpPr/>
          <p:nvPr/>
        </p:nvSpPr>
        <p:spPr>
          <a:xfrm>
            <a:off x="214200" y="214200"/>
            <a:ext cx="835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ДОЛЮБ БОЛЬШОЙ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Hydrous aterrimus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7" name="Рисунок 2" descr="водолюб большой.jpg"/>
          <p:cNvPicPr/>
          <p:nvPr/>
        </p:nvPicPr>
        <p:blipFill>
          <a:blip r:embed="rId1"/>
          <a:stretch/>
        </p:blipFill>
        <p:spPr>
          <a:xfrm>
            <a:off x="214200" y="857160"/>
            <a:ext cx="86439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Прямоугольник 1"/>
          <p:cNvSpPr/>
          <p:nvPr/>
        </p:nvSpPr>
        <p:spPr>
          <a:xfrm>
            <a:off x="285840" y="21420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ЛАВУНЕЦ ОКАЙМЛЕННЫЙ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Dytiscus marginali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9" name="Рисунок 4" descr="Плавунец окаймленный"/>
          <p:cNvPicPr/>
          <p:nvPr/>
        </p:nvPicPr>
        <p:blipFill>
          <a:blip r:embed="rId1"/>
          <a:stretch/>
        </p:blipFill>
        <p:spPr>
          <a:xfrm>
            <a:off x="6286680" y="928800"/>
            <a:ext cx="2644560" cy="267156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3"/>
          <p:cNvSpPr/>
          <p:nvPr/>
        </p:nvSpPr>
        <p:spPr>
          <a:xfrm>
            <a:off x="1800" y="50472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1" name="Прямоугольник 5"/>
          <p:cNvSpPr/>
          <p:nvPr/>
        </p:nvSpPr>
        <p:spPr>
          <a:xfrm>
            <a:off x="214200" y="1341360"/>
            <a:ext cx="6072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лавунец окаймленный живет в прудах, небольших озерках, в тихих затонах и даже в канавах на торфяных болотах. Он хорошо приспособлен к жизни в воде -обтекаемое тело способствует плаванию. Плавунец дышит атмосферным воздухом, поэтому ему приходится периодически подниматься к поверхности воды и выставлять наружу конец брюшка. Свежий воздух поступает в трахеи через две последние пары брюшных дыхалец, а отработанный воздух выходит наружу через первые четыре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Прямоугольник 1"/>
          <p:cNvSpPr/>
          <p:nvPr/>
        </p:nvSpPr>
        <p:spPr>
          <a:xfrm>
            <a:off x="214200" y="285840"/>
            <a:ext cx="78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ЛАВУНЕЦ ОКАЙМЛЕННЫЙ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Dytiscus marginalis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3" name="Рисунок 2" descr="плавунец.jpg"/>
          <p:cNvPicPr/>
          <p:nvPr/>
        </p:nvPicPr>
        <p:blipFill>
          <a:blip r:embed="rId1"/>
          <a:stretch/>
        </p:blipFill>
        <p:spPr>
          <a:xfrm>
            <a:off x="357120" y="1096920"/>
            <a:ext cx="79297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1"/>
          <p:cNvSpPr/>
          <p:nvPr/>
        </p:nvSpPr>
        <p:spPr>
          <a:xfrm>
            <a:off x="215280" y="214200"/>
            <a:ext cx="406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ВОЯКОДЫШАЩАЯ РЫБА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5" name="Прямоугольник 2"/>
          <p:cNvSpPr/>
          <p:nvPr/>
        </p:nvSpPr>
        <p:spPr>
          <a:xfrm>
            <a:off x="285840" y="714240"/>
            <a:ext cx="86439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естные жители отправляются на рыбалку, прихватывая с собой... мотыги. Они отыскивают на обсохшем дне холмики, напоминающие кротовины, и выкапывают из каждого глиняную капсулу с рыбой, сложившейся вдвое, подобно заколке для волос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ыба эта называется протоптерус (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Protopterus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) и относится к подклассу двоякодышащих рыб (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Dipnoi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). Помимо обычных для рыб жабр у представителей этой группы имеются еще и одно или два легких – видоизмененный плавательный пузырь, через оплетенные капиллярами стенки которого происходит газообмен. Атмосферный воздух для дыхания рыбы захватывают ртом, поднимаясь к поверхности. Двоякодышащие рыбы – очень древняя группа. Их остатки находят в отложениях девонского периода палеозойской эры. Живет эта рыба в реках с медленным течением, сильно заросших водной и надводной растительностью. Каждые 40 – 50 мин рогозуб всплывает и с шумом выдыхает воздух из легкого, издавая при этом характерный стонуще-хрюкающий звук, который разносится далеко по окрестностям. Сделав вдох, рыба снова опускается на дно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рямоугольник 1"/>
          <p:cNvSpPr/>
          <p:nvPr/>
        </p:nvSpPr>
        <p:spPr>
          <a:xfrm>
            <a:off x="214200" y="214200"/>
            <a:ext cx="735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ВОЯКОДЫШАЩАЯ РЫБА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7" name="Рисунок 2" descr="двоякодышащая рыба.jpg"/>
          <p:cNvPicPr/>
          <p:nvPr/>
        </p:nvPicPr>
        <p:blipFill>
          <a:blip r:embed="rId1"/>
          <a:stretch/>
        </p:blipFill>
        <p:spPr>
          <a:xfrm>
            <a:off x="500040" y="749160"/>
            <a:ext cx="8143920" cy="610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оугольник 1"/>
          <p:cNvSpPr/>
          <p:nvPr/>
        </p:nvSpPr>
        <p:spPr>
          <a:xfrm>
            <a:off x="285840" y="214200"/>
            <a:ext cx="8429400" cy="56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ИЯВКА ЛОЖНОКОНСКАЯ БОЛЬШАЯ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Haemopis sanguisuga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ожноконская пиявка обитает в водоемах со стоячей или медленно текущей водой в равнинных реках, озерах прудах, иногда даже в лужах. Она встречается и в прибрежных зонах озер. Передвигается в водоеме разными способами может ползать и плавать. Эта пиявка - прожорливый хищник питается разнообразными водными животными .  Для человека и крупных животных ложноконские пиявки не опасны так как они не могут прокусить кожу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3"/>
          <p:cNvSpPr/>
          <p:nvPr/>
        </p:nvSpPr>
        <p:spPr>
          <a:xfrm>
            <a:off x="142920" y="214200"/>
            <a:ext cx="721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ИЯВКА ЛОЖНОКОНСКАЯ БОЛЬШАЯ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Haemopis sanguisuga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6" name="Рисунок 4" descr="пиявка.jpeg"/>
          <p:cNvPicPr/>
          <p:nvPr/>
        </p:nvPicPr>
        <p:blipFill>
          <a:blip r:embed="rId1"/>
          <a:stretch/>
        </p:blipFill>
        <p:spPr>
          <a:xfrm>
            <a:off x="285840" y="1643040"/>
            <a:ext cx="8858160" cy="50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1"/>
          <p:cNvSpPr/>
          <p:nvPr/>
        </p:nvSpPr>
        <p:spPr>
          <a:xfrm>
            <a:off x="214200" y="214200"/>
            <a:ext cx="8715600" cy="56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ЗКОПАЛЫЙ РЕЧНОЙ РАК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Astacus leptodactylu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зкопалый речной рак обитает в реках и озерах с чистой водой, богатой минеральными солями, на илистом дне. Здесь под корягами, камнями или корнями подводных растений он роет норки, в которых проводит светлое время суток. Он обычно активен в сумерках и ночью, но иногда бывает подвижным и днем.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1"/>
          <p:cNvSpPr/>
          <p:nvPr/>
        </p:nvSpPr>
        <p:spPr>
          <a:xfrm>
            <a:off x="285840" y="214200"/>
            <a:ext cx="714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ЗКОПАЛЫЙ РЕЧНОЙ РАК 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Astacus leptodactylus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9" name="Рисунок 2" descr="рак.jpeg"/>
          <p:cNvPicPr/>
          <p:nvPr/>
        </p:nvPicPr>
        <p:blipFill>
          <a:blip r:embed="rId1"/>
          <a:stretch/>
        </p:blipFill>
        <p:spPr>
          <a:xfrm>
            <a:off x="857160" y="928800"/>
            <a:ext cx="7572600" cy="56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Рисунок 2" descr="паук-серебрянка"/>
          <p:cNvPicPr/>
          <p:nvPr/>
        </p:nvPicPr>
        <p:blipFill>
          <a:blip r:embed="rId1"/>
          <a:stretch/>
        </p:blipFill>
        <p:spPr>
          <a:xfrm>
            <a:off x="7358040" y="1143000"/>
            <a:ext cx="1500120" cy="200016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2"/>
          <p:cNvSpPr/>
          <p:nvPr/>
        </p:nvSpPr>
        <p:spPr>
          <a:xfrm>
            <a:off x="1800" y="55800"/>
            <a:ext cx="1807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2" name="Прямоугольник 6"/>
          <p:cNvSpPr/>
          <p:nvPr/>
        </p:nvSpPr>
        <p:spPr>
          <a:xfrm>
            <a:off x="214200" y="214200"/>
            <a:ext cx="835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АУК-СЕРЕБРЯНКА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Argyroneta aquatica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3" name="Прямоугольник 7"/>
          <p:cNvSpPr/>
          <p:nvPr/>
        </p:nvSpPr>
        <p:spPr>
          <a:xfrm>
            <a:off x="285840" y="1000080"/>
            <a:ext cx="7000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аук-серебрянка - водяной паук. Он обитает в стоячих или медленно текущих водоемах, богатых растительностью. Для этого паука характерно то, что он устраивает своеобразное жилище под водой в виде паутинного колокола. Время от времени он поднимается к поверхности водоема, выставляет из воды кончик брюшка и обновляет запас воздуха, необходимого для дыхания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 погружении в воду этот паук становится как бы серебряным, так как между волосками, покрывающими его брюшко, задерживается воздух, образуя воздушную прослойку. Она-то и обеспечивает ему возможность дышать под водой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1"/>
          <p:cNvSpPr/>
          <p:nvPr/>
        </p:nvSpPr>
        <p:spPr>
          <a:xfrm>
            <a:off x="214200" y="285840"/>
            <a:ext cx="792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АУК-СЕРЕБРЯНКА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Argyroneta aquatica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5" name="Рисунок 2" descr="паук.jpg"/>
          <p:cNvPicPr/>
          <p:nvPr/>
        </p:nvPicPr>
        <p:blipFill>
          <a:blip r:embed="rId1"/>
          <a:stretch/>
        </p:blipFill>
        <p:spPr>
          <a:xfrm>
            <a:off x="642960" y="92880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3"/>
          <p:cNvSpPr/>
          <p:nvPr/>
        </p:nvSpPr>
        <p:spPr>
          <a:xfrm>
            <a:off x="1800" y="513000"/>
            <a:ext cx="1807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1"/>
          <p:cNvSpPr/>
          <p:nvPr/>
        </p:nvSpPr>
        <p:spPr>
          <a:xfrm>
            <a:off x="2286000" y="7509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8" name="Прямоугольник 2"/>
          <p:cNvSpPr/>
          <p:nvPr/>
        </p:nvSpPr>
        <p:spPr>
          <a:xfrm>
            <a:off x="285840" y="214200"/>
            <a:ext cx="84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ОДЯНОЙ СКОРПИОН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Nepa cinerea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1800" y="4752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0" name="Рисунок 6" descr="водяной скорпион"/>
          <p:cNvPicPr/>
          <p:nvPr/>
        </p:nvPicPr>
        <p:blipFill>
          <a:blip r:embed="rId1"/>
          <a:stretch/>
        </p:blipFill>
        <p:spPr>
          <a:xfrm>
            <a:off x="7143840" y="1071720"/>
            <a:ext cx="1785960" cy="22320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"/>
          <p:cNvSpPr/>
          <p:nvPr/>
        </p:nvSpPr>
        <p:spPr>
          <a:xfrm>
            <a:off x="1800" y="50472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2" name="Прямоугольник 6"/>
          <p:cNvSpPr/>
          <p:nvPr/>
        </p:nvSpPr>
        <p:spPr>
          <a:xfrm>
            <a:off x="357120" y="1000080"/>
            <a:ext cx="6858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одяной скорпион живет на дне прудов, а также рек с медленным течением, заросших водной растительностью. Плавать этот клоп не умеет. Он либо сидит на растениях, либо ползает между ними. Водяной скорпион -хищник, он подкарауливает мелких животных. Время от времени водяной скорпион выставляет наружу довольно длинную трубочку, которой заканчивается его брюшко. Это - дыхательная трубочка. Она состоит из двух примыкающих друг к другу желобков и проводит атмосферный воздух под крылья, а оттуда в дыхальца брюшка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Прямоугольник 1"/>
          <p:cNvSpPr/>
          <p:nvPr/>
        </p:nvSpPr>
        <p:spPr>
          <a:xfrm>
            <a:off x="214200" y="214200"/>
            <a:ext cx="77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ДЯНОЙ СКОРПИОН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Nepa cinerea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4" name="Рисунок 2" descr="скорпион.jpg"/>
          <p:cNvPicPr/>
          <p:nvPr/>
        </p:nvPicPr>
        <p:blipFill>
          <a:blip r:embed="rId1"/>
          <a:stretch/>
        </p:blipFill>
        <p:spPr>
          <a:xfrm>
            <a:off x="857160" y="860400"/>
            <a:ext cx="7505640" cy="59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7-04T09:20:42Z</dcterms:modified>
  <cp:revision>11</cp:revision>
  <dc:subject/>
  <dc:title>Презентация «Животные пресных водоемов»</dc:title>
</cp:coreProperties>
</file>