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14D-CEC8-46CE-B87E-D0B2A354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285-BEE8-4A2A-88C1-C7FBD422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7CBC-3ED7-4951-AE94-07BDF039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3BE-D1AB-4014-B32A-8978DA8D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1C6-9699-4EFF-B93C-2BD6FBAA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DA3-348E-4BF1-B899-7005DE8D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806C-7A44-4976-B0C9-66F1F453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3836-532D-4077-AB10-E284C109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020-44EE-4966-9DEF-9675FB5E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EAB7-6AF8-4810-B6E6-8297AF85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E92-8B47-499C-9B27-9B2E2C9B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1B8D-F0AA-43FF-96F7-3C6E07B5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1AF5-55DC-4E22-A9EA-050B64F92A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октябрь 20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Щелкунова Н.А.</cp:lastModifiedBy>
  <dcterms:modified xsi:type="dcterms:W3CDTF">2011-10-24T08:08:27Z</dcterms:modified>
  <cp:revision>12</cp:revision>
  <dc:subject/>
  <dc:title>Слайд 1</dc:title>
</cp:coreProperties>
</file>