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9DB-9C2B-46CA-A92A-2C9E7E26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586-A6B9-488A-8878-22D99891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CBF-1F5C-40E7-80D4-6BDF2D8F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C0E-0E16-460B-9309-CAD10D18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3B3B-CE5D-4009-A063-8F04D7A9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45EF-F753-401F-BCE5-974E560A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9AD1-AB03-4320-B953-202190C4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3037-B8DF-4305-987B-E6FF9916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9E36-8DB8-4A34-B3AA-98015967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9AB0-3570-4594-9909-FDB64A51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974E-1C78-4CBE-A96E-29362197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68E-EDBA-4B3D-B197-22884973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F4A9-942F-4DD5-BADA-C3AC6000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CCE5-63E6-4712-BE66-357A3EBF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D3D8-9BCC-429A-AA13-5AA0C127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C166-CB56-4DF3-8014-F4F9C41F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491B-9ED2-4BE7-83A6-C4168CA6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7EE20-9A17-4715-8712-9BB77475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D7A80-A62C-490D-A116-EFEB77DF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B5300-4803-4B01-BA1A-8DC70AE5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5A201-41B0-4AC4-B07E-DBDA6893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988E8-AAF2-40EF-9719-CB181425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911-AA21-4E08-926D-73245735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031DB-A19E-440D-BD53-C2AFDE80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9DDE2-C053-40D9-A12E-6AE6D3CF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FDA65-45B3-41BA-8900-55B8874A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4212B-9372-4FC8-B212-25CD091E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F701A-D44A-438E-88D7-8F961662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606E2-51D2-4C88-9120-834E0496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696DC-8447-44BC-8DAC-AA328718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327-0B9F-4622-89B5-F4848C71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1418-E8C1-4623-9EEE-7E6A3DDC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280D-8CF8-4D1B-8055-C91376EB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90D8-CCAE-486F-B61F-F46F00A1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2853-95BD-4ABE-95DA-C3297589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A9D-5246-4AD9-AB9E-795C3F0E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9337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87ED-720D-4471-A0B3-1688958272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9337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7B99-E06C-4DC4-88D3-F3F8A7EF73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9337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73D0-116C-4C6B-8ABA-67359AFBE2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9280" y="404640"/>
            <a:ext cx="6624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76d1d"/>
                </a:solidFill>
                <a:latin typeface="Times New Roman"/>
              </a:rPr>
              <a:t>ПРОДУКТИВНОСТЬ СООБЩЕ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684036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ой вклад в образование биомассы планеты вносит Мировой океан?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3816360" cy="2544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72000" y="3933720"/>
            <a:ext cx="3816360" cy="25844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 чего зависит и как измеряется плодородие сельскохозяйственного участка?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500280"/>
            <a:ext cx="82296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изменяется плодородие в различных географических зонах Зем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уктив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свойство организмов преобразовывать неорганическое вещество в свою биомассу.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ИВНОСТЬ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068640"/>
            <a:ext cx="82296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масс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совокупность органического вещества всех 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ИВНОСТЬ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уктивность рассчитывается на единицу площади экосистем.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285264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уктивнос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прирост биомассы за единицу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ЦИЯ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укц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общая (суммарная) величина приращения биомассы за единицу времени.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2637000"/>
            <a:ext cx="2665440" cy="57600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3573360"/>
            <a:ext cx="2665440" cy="86364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ичная 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3573360"/>
            <a:ext cx="2665440" cy="86364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торичная 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5013360"/>
            <a:ext cx="2089080" cy="129708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овая первичная 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0360" y="5013360"/>
            <a:ext cx="2089080" cy="129708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стая первичная 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556000" y="3284640"/>
            <a:ext cx="792000" cy="215640"/>
          </a:xfrm>
          <a:prstGeom prst="line">
            <a:avLst/>
          </a:prstGeom>
          <a:ln w="28440">
            <a:solidFill>
              <a:srgbClr val="407d2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6000" y="3284640"/>
            <a:ext cx="792000" cy="215640"/>
          </a:xfrm>
          <a:prstGeom prst="line">
            <a:avLst/>
          </a:prstGeom>
          <a:ln w="28440">
            <a:solidFill>
              <a:srgbClr val="407d2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971640" y="4508640"/>
            <a:ext cx="792000" cy="360360"/>
          </a:xfrm>
          <a:prstGeom prst="line">
            <a:avLst/>
          </a:prstGeom>
          <a:ln w="28440">
            <a:solidFill>
              <a:srgbClr val="407d2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4508640"/>
            <a:ext cx="719280" cy="360360"/>
          </a:xfrm>
          <a:prstGeom prst="line">
            <a:avLst/>
          </a:prstGeom>
          <a:ln w="28440">
            <a:solidFill>
              <a:srgbClr val="407d2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ИЧНАЯ ПРОДУКЦИЯ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ичная продукци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масса продуцентов, накопленная в результате фотосинтеза или хемосинтез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2997360"/>
            <a:ext cx="822960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ловая первичная продук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вся биомасса, накопленная в результате фотосинте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407664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истая первичная продук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фактическая скорость наращивания биома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ТОРИЧНАЯ ПРОДУКЦИЯ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ичная продукц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суммарная биомасса консументов и редуцентов.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684036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аких экосистемах наблюдается наибольшая продуктивность и почему?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672000" cy="2522520"/>
          </a:xfrm>
          <a:prstGeom prst="rect">
            <a:avLst/>
          </a:prstGeom>
          <a:ln w="9360">
            <a:solidFill>
              <a:srgbClr val="407d2f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1979640" y="342900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опически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356000" y="3789360"/>
            <a:ext cx="3672000" cy="2521080"/>
          </a:xfrm>
          <a:prstGeom prst="rect">
            <a:avLst/>
          </a:prstGeom>
          <a:ln w="9360">
            <a:solidFill>
              <a:srgbClr val="407d2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5364000" y="5877000"/>
            <a:ext cx="266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ес умеренной з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684036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аких экосистемах наблюдается наименьшая продуктивность и почему?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3305160" cy="24796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2411280" y="3716280"/>
            <a:ext cx="1222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сты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427640" y="4076640"/>
            <a:ext cx="3313080" cy="24480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4500720" y="4149720"/>
            <a:ext cx="107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унд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06:16:55Z</dcterms:created>
  <dc:creator>Admin</dc:creator>
  <dc:description/>
  <dc:language>en-US</dc:language>
  <cp:lastModifiedBy>Admin</cp:lastModifiedBy>
  <dcterms:modified xsi:type="dcterms:W3CDTF">2013-03-04T16:23:46Z</dcterms:modified>
  <cp:revision>17</cp:revision>
  <dc:subject/>
  <dc:title>Слайд 1</dc:title>
</cp:coreProperties>
</file>