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088-70FF-44D4-8A28-82D1A59D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037-85B2-41BE-B139-C995898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770-41F0-45C1-98CE-4373F2C7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F7F-1E5F-40F1-8A99-2DE66409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FA5-885E-43A7-8977-F3EDD0C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F4C-5811-4B3F-9705-C0C71BA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E9E-EABC-45DA-A100-2A2AB44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D51-7FDE-4246-99E3-0979841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C77-B829-4BFC-B343-A4061717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883-E815-45EF-A181-478E7E9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3A1-313D-4854-B2D7-A78C222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331-33D3-4FA3-AB36-0F3DE6C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963-6766-4EB6-822A-8FF3153A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www.zoofirma.ru//plugins/content/relatedThumbArticles/timthumb.php?src=images/knigi/0994/035.jpg&amp;w=300&amp;h=200&amp;zc=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ОСТАВ И СТРУКТУРА СООБ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504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 обитающих в сообществе видов и соотношение их численности опреде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овую структуру сооб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овой состав сообщества определяется рядом факторов: географическое местоположение, особенности климата и рельефа местности, высота над уровнем моря, водный режим, возраст сообществ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В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2415" t="24538" r="15295" b="44664"/>
          <a:stretch/>
        </p:blipFill>
        <p:spPr>
          <a:xfrm>
            <a:off x="5292720" y="2205000"/>
            <a:ext cx="367344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7848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ные типы внешнего строения организмов, возникшие как приспособления к условиям местообитания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ми форм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ор жизненных форм, их соотношение определя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фологическ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, по которой судят о его принадлежности к тому или иному т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РФОЛОГИЧЕСКА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27_06" descr="http://rusanova.nm.ru/tablica/27_06.jpg"/>
          <p:cNvPicPr/>
          <p:nvPr/>
        </p:nvPicPr>
        <p:blipFill>
          <a:blip r:embed="rId2"/>
          <a:srcRect l="2579" t="26468" r="3208" b="5167"/>
          <a:stretch/>
        </p:blipFill>
        <p:spPr>
          <a:xfrm>
            <a:off x="3795840" y="4132440"/>
            <a:ext cx="5348160" cy="272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е жизненные формы определенным образом пространственно обособлены друг от друга, образу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транственн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50799" t="28852" r="23002" b="40351"/>
          <a:stretch/>
        </p:blipFill>
        <p:spPr>
          <a:xfrm>
            <a:off x="4859280" y="2133720"/>
            <a:ext cx="388944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3-04T16:24:44Z</dcterms:modified>
  <cp:revision>35</cp:revision>
  <dc:subject/>
  <dc:title>Презентация PowerPoint</dc:title>
</cp:coreProperties>
</file>