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105-BA39-45A6-B61F-F10D5640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D1F-6DCE-42CA-BE34-44F1643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C2E-F35A-48D2-9471-B0199E47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524-077A-4E60-8021-F646981D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191B-C837-470A-A51E-37A69DD1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3C00-185F-4252-B4F3-66079D01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D08-BD7B-4E0D-9199-35FD2ECB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8C9-FC14-4EA4-AE3D-405CED14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CF0-A6E2-4F77-B761-4AC422F4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7C2B-D960-4883-B24C-27344E4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1AC1-3F02-4D22-A468-94B01CE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060-DA1E-493E-AE0C-A1E4D5E3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20E8-2955-4A22-9D88-2BA3843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1229-55D0-4921-B51D-1A2ED2E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C79-2A5D-43CD-9485-57B3A916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53A4-8673-4B05-B0F6-57AFD319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77CD-75CC-4FA2-8D19-6C73B068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6B0-1939-4003-B745-EBC30E02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180-BC69-441B-8EE2-CE64397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803-C8A1-4E60-A6F9-7A5DB56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F6A-B4C2-4D0A-A482-8F801676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9B8-1335-4E33-871B-7EF7791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A4B-A482-4DC2-B25A-48EC0AA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02F-3390-4B9A-A436-5AF4391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575-66B0-46BD-AF7A-6A51F7DA1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EB7-2F3C-4D84-A2B9-2E6BE0818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437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БЩЕСТВО. ЭКОСИСТЕМА. БИОГЕЦЕ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33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Поля и пестрые цветы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И с гор струящиеся воды –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тдельно взятые черт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Всецельно дышащей природы: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ая вас связала нить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дна другой светлей и кр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им законом объяснить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Родство таинственное н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                                         А. Толст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76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бъединяет различные организмы, жизнь которых проходит на одной террит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му воздействие, оказываемое на один или несколько видов растений или животных, часто приводит к нарушениям условий жизни всех остальных элементов сообщества организм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8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видов растений и животных, длительное время сосуществующих в определенном пространстве и представляющих собой определенное экологическое ед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&amp;Bcy;&amp;icy;&amp;ocy;&amp;tscy;&amp;icy;&amp;ncy;&amp;ocy;&amp;zcy; &amp;pcy;&amp;rcy;&amp;ucy;&amp;dcy;&amp;acy;"/>
          <p:cNvPicPr/>
          <p:nvPr/>
        </p:nvPicPr>
        <p:blipFill>
          <a:blip r:embed="rId1"/>
          <a:stretch/>
        </p:blipFill>
        <p:spPr>
          <a:xfrm>
            <a:off x="179280" y="3573360"/>
            <a:ext cx="3267360" cy="28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Bcy;&amp;icy;&amp;ocy;&amp;tscy;&amp;icy;&amp;ncy;&amp;ocy;&amp;zcy; &amp;dcy;&amp;ucy;&amp;bcy;&amp;rcy;&amp;acy;&amp;vcy;&amp;ycy;"/>
          <p:cNvPicPr/>
          <p:nvPr/>
        </p:nvPicPr>
        <p:blipFill>
          <a:blip r:embed="rId2"/>
          <a:stretch/>
        </p:blipFill>
        <p:spPr>
          <a:xfrm>
            <a:off x="3492360" y="3573360"/>
            <a:ext cx="30974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91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«биоценоз» ввел в науку немецкий ученый Карл Мебиус в 1877 г. Изучая, как увеличить продуктивность устричного хозяйства на отмелях Северного моря, он обнаружил, что устрицы образуют вместе с другими видами морских животных тесные сообщества, которые приурочены к определенному грунту, солености и температуре воды. В этих сообществах происходит борьба за существование и регуляция численности видов, поэтому их продуктивность имеет пределы. Отсюда следовал практический вывод: «Если желательно увеличить число животных и растений против того, что имеется в естественных сообществах, то следует защитить яйца и молодь от врагов, дать им необходимую пищу и достаточное пространство. Это имеет место при искусственном разведении устриц, в рыболовстве, в лесном, полевом и садовом хозяйстве. В них мы имеем дело с искусственными жизненными сообществами, в которых важным фактором является работа человеческой мысли и работа рук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52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&amp;Kcy;. &amp;Mcy;&amp;iecy;&amp;bcy;&amp;icy;&amp;ucy;&amp;scy; (1825 - 1908)"/>
          <p:cNvPicPr/>
          <p:nvPr/>
        </p:nvPicPr>
        <p:blipFill>
          <a:blip r:embed="rId1"/>
          <a:stretch/>
        </p:blipFill>
        <p:spPr>
          <a:xfrm>
            <a:off x="7308720" y="472428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КО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98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бщество живых организмов вместе с физической средой их обитания, объединенные обменов веществ и энергии в единый компле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270320" cy="32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44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й участок земной поверхности с определенным составом живых организмов (биоценоз) и определенными условиями среды обитания (биотоп), которые объединены обменом веществ и энергии в единый природный комплек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3.jpg"/>
          <p:cNvPicPr/>
          <p:nvPr/>
        </p:nvPicPr>
        <p:blipFill>
          <a:blip r:embed="rId1"/>
          <a:srcRect l="16144" t="6176" r="16580" b="4237"/>
          <a:stretch/>
        </p:blipFill>
        <p:spPr>
          <a:xfrm>
            <a:off x="250920" y="36939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5.jpg"/>
          <p:cNvPicPr/>
          <p:nvPr/>
        </p:nvPicPr>
        <p:blipFill>
          <a:blip r:embed="rId1"/>
          <a:stretch/>
        </p:blipFill>
        <p:spPr>
          <a:xfrm>
            <a:off x="0" y="1844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09" t="17932" r="9251" b="7674"/>
          <a:stretch/>
        </p:blipFill>
        <p:spPr>
          <a:xfrm>
            <a:off x="1116000" y="1773360"/>
            <a:ext cx="3595680" cy="4537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труируя лесополосы, парки, сады и т.п. , человек подбирает только небольшое число основных видов. В природных биоценозах видов во много раз больше. Значит ли это, что мы не можем создавать устойчивые сообществ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Могут ли в настоящее время сохраниться биоценозы, не подверженные никаким антропогенным воздействия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Как можно использовать опушечный эффект при планировании сельскохозяйственных угод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При удалении какого-либо вида из биоценоза остальные занимают его место, повышают численность и выполняют его роль. Зачем тогда заботиться о сохранении видового разнообразия сообществ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Существуют ли в природе неустойчивые сообщества?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Ы ДИСКУ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Admin</cp:lastModifiedBy>
  <dcterms:modified xsi:type="dcterms:W3CDTF">2013-03-04T16:10:26Z</dcterms:modified>
  <cp:revision>19</cp:revision>
  <dc:subject/>
  <dc:title>Слайд 1</dc:title>
</cp:coreProperties>
</file>