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C13-8D7B-4783-A7DF-944EBCF7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3E7-CE1A-4D7D-ABF4-3469C742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B6A9E-B078-4B1C-96D5-4DA11770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B83FC-8DF6-4EB1-B3A3-F7930C40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C41DD-9604-4E34-BA04-9476D18C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A4073-D624-4BB1-9A39-7475924E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9558D-520B-4827-9F45-13F9838B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C6504-2CEB-493E-BD73-B42D419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2DD63-000C-462C-B8B9-B6666C37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036E1-A8B1-437F-8C82-FE51128F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B250C-B6BA-4C73-841F-03F249E4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9D55F-3FCE-484A-BA6F-32AF9A67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BC5-3B28-4599-B0D3-BF529551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B92E3-628C-4829-B50B-92A9AFB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8B185-1834-417B-8191-2FDFBBA9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6AD0E-1F44-4EAF-AEF9-0D7D3C59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C5F28-247B-4F18-8F73-3520B497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410CD-856F-48BA-954B-D6B42C74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8C5DF-7C88-4BAE-AAEF-EEA6E49C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FB925-5161-4EDB-B3BF-6B13A09D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E2329-9742-47C6-A6D1-7B6F81A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5E34F-4754-4A69-AEB1-2C57C70D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6F86F-1E39-456E-9035-A3336119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596-11DA-4FD2-98E2-5EDD278B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0D927-010D-42F5-9C0A-EF938F11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F3B2B-D006-4298-AB1D-9CCB0022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4B62F-A8F0-4A93-B95B-B5AE4DB1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F80AD-5086-4EEC-87EF-B81E1130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C6C97-951B-42D6-98ED-BAA52687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3644D-F482-410A-9993-12F36A21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BAC3E-8E7C-4E97-95B1-A7B0A345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0B4BB-C9E9-4402-891C-4D2227A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2B81-6E5F-41EC-A28E-E32A8B8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4ECB4-ACD8-4F9F-863C-6B216C1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39EB-09D0-4459-A550-F24D3C8D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CEA22-063D-4036-871D-CDBEA7D5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1E704-A1C7-4901-960D-C3EC98DE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575B5-57C8-4EEF-8314-5E190635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21A74-5436-4D74-A9FB-8A11A810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90828-7E0F-47EF-B036-7CB0D1D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576BE-8078-43EE-8E74-E65B56BE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81EB45-0D48-4A34-8658-7ADB66C7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88815-B1D0-4231-ABF2-4FEED163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31448-BDC1-400B-885C-28AD91E6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CAF60-77F1-454E-967F-8EB3157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6CC3-6ACF-47C6-A302-01FE7608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4B70D-D19C-4635-B72C-56C9224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74ABB-5847-4115-B25F-9D7CD3B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6CF21-DD04-48B5-AE34-5DF25D90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0CF37-30A6-4E38-91C6-15FD5425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EB6D5-975A-4827-8B9D-1FE96E93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6AA6-D7C2-466D-BAFB-06C18E8E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694F-FC93-49D4-9C4C-9529EBA5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7AB1-CD65-4301-B831-50BF725B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48B7-49C2-4B15-9565-3834FF62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09FC-AA1C-4FA9-A464-B3113799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206-AD26-49C0-9B8B-02C0E55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58FD-B2B6-4D4D-BA6F-29FE5257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BDA7-1934-4B7A-B560-50831F29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2057-6570-4327-80A0-18FF6C37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AFF4-2863-44E4-9FB9-C2BFFE17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D505-7047-4CD9-BCBF-2577BCCC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5512-27AC-4632-BC06-FD891D80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CCFE-562B-4E98-9F99-EE2CC501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558A-AD1A-4051-A0DA-2F996D00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312B-E296-4DE5-A743-2929B15C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F4DB-AE2F-4956-88CA-EA5C4555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8EF-B238-4534-BA26-C3EC591E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E35A1-48A5-4A33-87D8-F8748264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BCB5-DEC6-4878-956D-5F9D312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81BC-843F-44DC-914E-54952D0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EEB2-DB9D-4155-99B1-D700543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2ED5-4F4D-4671-8985-B1361CBB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8210-07B1-4CB9-8475-A1F7A1C2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CE72-079A-453D-9C21-673939C3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8A37-198F-4548-8FA6-D6761FCD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F3FB5-32F7-4574-860A-9B65CFE2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87D6-37C1-49A6-AE7A-E1BAF66E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3F2-B446-4948-A8A2-7825B419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54F3-DA6E-4EF9-9B60-3B226513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407C-98BD-4DA7-969B-29292FB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CAA8-9A72-4E5D-9F59-9FAC547A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D513-6915-4047-8727-7304D0A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0E67-0DC2-4696-8D45-4C819289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6C976-24FA-46AB-8782-5518EADA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8ED1-B03A-4306-9946-A0DC5F01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39D7D-5B9B-49D3-A87D-3850850D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BCF3-74D6-4BA8-99B8-542C6A81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55AA-55BC-4F14-AA9A-1113E8A2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D65-56DB-48C5-8BE6-8660213A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51BFF-FCCE-4F4D-BA69-DB883A0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B084E-43A1-47A7-B987-A62B4087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EE676-6D42-4DE6-A8CF-5D1A1FB1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96703-28F4-4A74-952A-498730C4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3D571-5126-4444-9CF2-91E1D8C6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79EF-15D9-4ED6-8213-73932A1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32720-0201-4B63-99BD-06245993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3CCAC-F6F7-4ED7-A9FC-B6E9540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E42C-246A-49D7-ADC0-913A9AF1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54DB-1970-4054-8175-A0BD989F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407-898B-4949-9CEC-DD536061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FD18C-B685-44A0-9D3C-6FFAC863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4F313-30C4-4016-8FB5-CD5F22A3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2627-B733-4B17-AEAF-C6DCB288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BA566-3971-4D01-B58B-9E421D36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3FE71-EA03-43E6-A13E-BAF3E35A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50DEA-9AC6-4C14-BFAB-E7C0DF95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8B9E-5E46-4E98-B04B-5ED85EBF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74DC-83A4-46AA-B117-FDD63C98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0359B-3356-4FBF-B727-BA4CCDCC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BC166-3616-403D-A764-D860565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472-A918-4702-A38A-267457CD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A73D-8CB0-40DF-AAF6-0AC486B6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C8D5-D67E-4B1D-907A-61A404F9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D4EA3-CDEA-4974-B6A4-77D8910D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CB6D4-3663-492C-9996-15D197CE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5581A-B9E1-4BD9-B69A-85AC57AE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F8C92-67B5-4391-BBC6-95471165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5C714-2FC0-4653-B93F-2090C275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59AA4-77B6-46A5-9C16-2A022B71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FA06-EBFD-479E-82A9-D3487009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21D72-7A03-4352-9160-D0F12E27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F65-FF19-4B9A-BE4F-B8889DEF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6B8E-9011-47E5-8F51-C146C388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53EB-D274-4253-B445-D5A95C3E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6CB0C-21C5-41E7-854A-C058B31A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03685-FE74-45F5-BD8F-F55B174F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48AC4-0841-458C-9EF9-0DD399B7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9B2A0-A003-4065-8709-C07F0364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68879-934F-4EA5-8D95-B02605B6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B227-8BAB-4B8D-A098-1D8B2B6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57F71-E2CE-4EBA-A4C7-33FB1813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2F402-F6A8-45AD-8D69-AA595337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CC0-E0E7-4036-AF5E-A163AA10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56193-B32E-467C-9847-864E0F2A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1B1E-1283-4643-9C7A-AF8641E9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88AF2-1454-4463-AEEE-41584E6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5FD92-C39A-4BAE-9E6A-14171B0D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F0478-C5D3-4E6D-87D9-839AE292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B1763-C67E-428C-A72E-4A91CDFC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233B-E255-4235-A3E5-BF656F3A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DBC70-36D7-4D17-BA00-22F5660C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F155D-5D77-4AA5-A563-218DF402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605F2-ACA4-4860-A74E-18BC79E6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621E-80BB-4BEF-9D49-AFAFD14BC9F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7AE6-40FB-450A-ADDB-760A044FEC9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16F4-1B7A-4675-8E7B-4EEDB05A5F3A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375C-D998-420C-9F3C-428740DE61F1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C9AD-366F-472F-BB7B-6F65CF720392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7CF0-B98B-48C3-BF1E-CB0B9E1C10FD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F392-EE77-43E2-97CC-15A95AA42069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CCB-E0B8-4C2B-A5AD-014404221FF5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C5C1-8D17-4427-B957-03AB071F8F95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B5E3-1EBA-4672-ADB6-6F9E311CCD0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A4D2-EFCF-4C53-B964-07969341AB5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2A39-296A-4C86-A922-A96112FC798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io.1september.ru/2003/42/11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bio.1september.ru/2003/42/9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124080" y="685800"/>
            <a:ext cx="56390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ВИД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124080" y="685440"/>
            <a:ext cx="56390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два вида не могут занимать одну экологическую нишу. Следовательно, каждый вид характеризуется своими собственными отношениями со средой об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Текст 2"/>
          <p:cNvSpPr/>
          <p:nvPr/>
        </p:nvSpPr>
        <p:spPr>
          <a:xfrm>
            <a:off x="250920" y="3357720"/>
            <a:ext cx="252864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соби одного вида могут жить в несколько различающихся условия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дуванчик может расти и в лесу, и на лу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{59CA379D-97F2-428B-889F-896C00A210DC}"/>
          <p:cNvPicPr/>
          <p:nvPr/>
        </p:nvPicPr>
        <p:blipFill>
          <a:blip r:embed="rId1"/>
          <a:stretch/>
        </p:blipFill>
        <p:spPr>
          <a:xfrm>
            <a:off x="5508720" y="3213000"/>
            <a:ext cx="3349440" cy="31910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5840" y="914400"/>
            <a:ext cx="2457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4292640"/>
            <a:ext cx="24573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ть близкие виды, имеющие сходные процессы жизнедеятельн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132000" y="691920"/>
            <a:ext cx="56390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ходстве процессов жизнедеятельности и возможности получения плодовитого потомства при скрещиван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3" descr="C:\Documents and Settings\USER\Рабочий стол\урок\рисунки\горбуша.jpg"/>
          <p:cNvPicPr/>
          <p:nvPr/>
        </p:nvPicPr>
        <p:blipFill>
          <a:blip r:embed="rId1"/>
          <a:stretch/>
        </p:blipFill>
        <p:spPr>
          <a:xfrm>
            <a:off x="3059280" y="2276640"/>
            <a:ext cx="4213080" cy="2055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C:\Documents and Settings\USER\Рабочий стол\урок\рисунки\кета.jpeg"/>
          <p:cNvPicPr/>
          <p:nvPr/>
        </p:nvPicPr>
        <p:blipFill>
          <a:blip r:embed="rId2"/>
          <a:stretch/>
        </p:blipFill>
        <p:spPr>
          <a:xfrm>
            <a:off x="4716360" y="4276800"/>
            <a:ext cx="4213440" cy="20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124080" y="685440"/>
            <a:ext cx="56390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изучении истории вида или группы видов. Этот критерий носит комплексный характер, поскольку включает сравнительный анализ современных ареалов вид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т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928960" y="685440"/>
            <a:ext cx="621504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явлении репродуктивной изоля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ые сроки размнож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ое устройство половых аппарато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плодотворение произошло, то погибает зародыш или молодой организм рождается нежизнеспособны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гибрид жизнеспособен, то он неплодовит (примеры: лошак, мул, хонори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Documents and Settings\USER\Рабочий стол\урок\рисунки\xonorik.jpg"/>
          <p:cNvPicPr/>
          <p:nvPr/>
        </p:nvPicPr>
        <p:blipFill>
          <a:blip r:embed="rId1"/>
          <a:stretch/>
        </p:blipFill>
        <p:spPr>
          <a:xfrm>
            <a:off x="6300720" y="4149720"/>
            <a:ext cx="2397240" cy="2117880"/>
          </a:xfrm>
          <a:prstGeom prst="rect">
            <a:avLst/>
          </a:prstGeom>
          <a:ln w="0">
            <a:noFill/>
          </a:ln>
        </p:spPr>
      </p:pic>
      <p:sp>
        <p:nvSpPr>
          <p:cNvPr id="654" name="Текст 2"/>
          <p:cNvSpPr/>
          <p:nvPr/>
        </p:nvSpPr>
        <p:spPr>
          <a:xfrm>
            <a:off x="179280" y="4005360"/>
            <a:ext cx="2664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Хонорик – гибрид, полученный в результате  скрещивания хорька и европейской н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643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ирование выводов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916000" y="1052640"/>
            <a:ext cx="6048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определить принадлежность особи к какому-то вид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достаточно одного критер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обходимо учитывать совокуп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х критерие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Содержимое 3"/>
          <p:cNvSpPr/>
          <p:nvPr/>
        </p:nvSpPr>
        <p:spPr>
          <a:xfrm>
            <a:off x="2916360" y="2349360"/>
            <a:ext cx="604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овые критерии, по которым отличается один вид от другого, в совокупности обусловливают генетическую изоляцию видов, обеспечивая самостоятельность каждого вида и разнообразие их в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одержимое 3"/>
          <p:cNvSpPr/>
          <p:nvPr/>
        </p:nvSpPr>
        <p:spPr>
          <a:xfrm>
            <a:off x="2916360" y="4005360"/>
            <a:ext cx="6048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 ни одного видового критерия, который можно было признать абсолютным и универса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одержимое 3"/>
          <p:cNvSpPr/>
          <p:nvPr/>
        </p:nvSpPr>
        <p:spPr>
          <a:xfrm>
            <a:off x="2916360" y="5013360"/>
            <a:ext cx="60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 представляет собой генетически относительно изолированную систему, что доказывает реальность существования видо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842920" y="1341360"/>
            <a:ext cx="6048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 составить морфологическую характеристику двух растений одного рода, сравнить их и сделать вывод о причинах сходства и различ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РУДОВАНИЕ: живые растения, гербарные материалы (рисунки как дополнительный источник информац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987640" y="1125360"/>
          <a:ext cx="5870520" cy="4457880"/>
        </p:xfrm>
        <a:graphic>
          <a:graphicData uri="http://schemas.openxmlformats.org/drawingml/2006/table">
            <a:tbl>
              <a:tblPr/>
              <a:tblGrid>
                <a:gridCol w="3062160"/>
                <a:gridCol w="144000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РНЕВ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, сл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л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ие на стеб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распо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янистый, одревеснев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стоячий, стелющийся, цепляющийся, вьющий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ВЕ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 введения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987640" y="691920"/>
            <a:ext cx="5857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ж. Рей (1686 г.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мелкие совокупности организмов, тождественных морфологически, тождественно размножающихся и дающих потомство, сохраняющее эти свойств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33_127_06"/>
          <p:cNvPicPr/>
          <p:nvPr/>
        </p:nvPicPr>
        <p:blipFill>
          <a:blip r:embed="rId1"/>
          <a:stretch/>
        </p:blipFill>
        <p:spPr>
          <a:xfrm>
            <a:off x="285840" y="2000160"/>
            <a:ext cx="2500200" cy="381636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1" name="Picture 6" descr="45_178"/>
          <p:cNvPicPr/>
          <p:nvPr/>
        </p:nvPicPr>
        <p:blipFill>
          <a:blip r:embed="rId2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2" name="Picture 5" descr="45_179"/>
          <p:cNvPicPr/>
          <p:nvPr/>
        </p:nvPicPr>
        <p:blipFill>
          <a:blip r:embed="rId3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3" name="Picture 5" descr="42_162"/>
          <p:cNvPicPr/>
          <p:nvPr/>
        </p:nvPicPr>
        <p:blipFill>
          <a:blip r:embed="rId4"/>
          <a:stretch/>
        </p:blipFill>
        <p:spPr>
          <a:xfrm>
            <a:off x="250920" y="1989000"/>
            <a:ext cx="2571480" cy="4000680"/>
          </a:xfrm>
          <a:prstGeom prst="rect">
            <a:avLst/>
          </a:prstGeom>
          <a:ln w="1908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4" name="Picture 10" descr="C:\Documents and Settings\USER\Рабочий стол\урок\mayr_90.JPG"/>
          <p:cNvPicPr/>
          <p:nvPr/>
        </p:nvPicPr>
        <p:blipFill>
          <a:blip r:embed="rId5"/>
          <a:stretch/>
        </p:blipFill>
        <p:spPr>
          <a:xfrm>
            <a:off x="250920" y="1989000"/>
            <a:ext cx="2571480" cy="4071960"/>
          </a:xfrm>
          <a:prstGeom prst="rect">
            <a:avLst/>
          </a:prstGeom>
          <a:ln w="0">
            <a:noFill/>
          </a:ln>
        </p:spPr>
      </p:pic>
      <p:sp>
        <p:nvSpPr>
          <p:cNvPr id="615" name="Содержимое 3"/>
          <p:cNvSpPr/>
          <p:nvPr/>
        </p:nvSpPr>
        <p:spPr>
          <a:xfrm>
            <a:off x="2916360" y="1773360"/>
            <a:ext cx="58579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рл Линней (1735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жество родственных и сходных по строению организмов, при размножении непрерывно воспроизводящих себе подоб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 виды как объективно существующие группы живых организмов, достаточно легко отличимые друг от д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читал их неизменными, раз и навсегда созданными бо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одержимое 3"/>
          <p:cNvSpPr/>
          <p:nvPr/>
        </p:nvSpPr>
        <p:spPr>
          <a:xfrm>
            <a:off x="2916360" y="3500280"/>
            <a:ext cx="5857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.Б. Ламарк (180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постоянно изменяются, эволюционируют, поэтому реально в природе не существ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Содержимое 3"/>
          <p:cNvSpPr/>
          <p:nvPr/>
        </p:nvSpPr>
        <p:spPr>
          <a:xfrm>
            <a:off x="2916360" y="4365720"/>
            <a:ext cx="5857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рльз Дар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реально существуют, но изменяются, т.е. относительно постоянны и являются результатом эволюцион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одержимое 3"/>
          <p:cNvSpPr/>
          <p:nvPr/>
        </p:nvSpPr>
        <p:spPr>
          <a:xfrm>
            <a:off x="2987640" y="5157720"/>
            <a:ext cx="5857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рнст Майр (194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ологическая концепция вида: виды определяются не различием, а обособленностью, состоят из популяций, главным свойством вида является репродуктивная изоля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– исторически сложившаяся совокупность особей, обладающих наследственным сходством морфологических, физиологических и биохимических особенностей, свободно скрещивающихся и дающих плодовитое потомство, приспособленных к определенным условиям жизни и занимающих определенный ареа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Популяция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особей того или иного вида, в течение большого числа поколений населяющих определенное пространство, внутри которого особи могут относительно свободно скрещиваться друг с другом, в то время как обмен особями с соседними популяциями в значительной мере затрудне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вида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987280" y="1341360"/>
            <a:ext cx="56386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ВИДА – это признаки, по которым один вид можно отличить от другог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ф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т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граф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80" y="914400"/>
            <a:ext cx="266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928960" y="685800"/>
            <a:ext cx="60357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уществовании морфологических признаков, характерных для одного вида, но отсутствующих у други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5" descr="45_183"/>
          <p:cNvPicPr/>
          <p:nvPr/>
        </p:nvPicPr>
        <p:blipFill>
          <a:blip r:embed="rId1"/>
          <a:stretch/>
        </p:blipFill>
        <p:spPr>
          <a:xfrm>
            <a:off x="4140360" y="2708280"/>
            <a:ext cx="3421080" cy="3298680"/>
          </a:xfrm>
          <a:prstGeom prst="rect">
            <a:avLst/>
          </a:prstGeom>
          <a:ln w="19080">
            <a:solidFill>
              <a:srgbClr val="dbf5f9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786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245736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ществуют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иды-двойн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6" descr="i?id=40698598&amp;tov=4"/>
          <p:cNvPicPr/>
          <p:nvPr/>
        </p:nvPicPr>
        <p:blipFill>
          <a:blip r:embed="rId1"/>
          <a:stretch/>
        </p:blipFill>
        <p:spPr>
          <a:xfrm>
            <a:off x="5500800" y="2928960"/>
            <a:ext cx="3446280" cy="338616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1" name="Picture 4" descr="i?id=9041691&amp;tov=7"/>
          <p:cNvPicPr/>
          <p:nvPr/>
        </p:nvPicPr>
        <p:blipFill>
          <a:blip r:embed="rId2"/>
          <a:stretch/>
        </p:blipFill>
        <p:spPr>
          <a:xfrm>
            <a:off x="3000240" y="642960"/>
            <a:ext cx="2857680" cy="285732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sp>
        <p:nvSpPr>
          <p:cNvPr id="632" name=""/>
          <p:cNvSpPr/>
          <p:nvPr/>
        </p:nvSpPr>
        <p:spPr>
          <a:xfrm>
            <a:off x="298764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ха-журчалка и 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928960" y="685800"/>
            <a:ext cx="58341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каждый вид занимает определенную территорию (или акваторию) – географический ареа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10" descr="Картинка 1 из 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221000"/>
            <a:ext cx="3024360" cy="21434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6" name="Picture 8" descr="Картинка 1 из 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2708280"/>
            <a:ext cx="3024000" cy="212868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5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одном ареале могут жить особи разных видо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реал распространения серебристой чайки и клуши-хохотунь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Documents and Settings\USER\Рабочий стол\урок\рисунки\ареал чайки.jpg"/>
          <p:cNvPicPr/>
          <p:nvPr/>
        </p:nvPicPr>
        <p:blipFill>
          <a:blip r:embed="rId1"/>
          <a:stretch/>
        </p:blipFill>
        <p:spPr>
          <a:xfrm>
            <a:off x="3000240" y="571680"/>
            <a:ext cx="5929560" cy="58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4T16:06:17Z</dcterms:modified>
  <cp:revision>68</cp:revision>
  <dc:subject/>
  <dc:title>PowerPoint Presentation</dc:title>
</cp:coreProperties>
</file>