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340-4302-435A-BE93-624296ED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912-D91B-49BE-8769-030D99EF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078-8A98-44BF-B32D-6D30ABFD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432-13B3-4E8C-9402-0CAB84EA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A7AB-73A9-478A-B87F-F1B488B6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999E-EFB7-41DF-81B9-5A330DC9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B8FA-41BE-4619-8205-2D9E33DE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B3F1-D6D6-4F85-8C20-F0D9F5C5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AEE0-C28D-40D5-94EB-99FB9AF0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E804-9AC6-4391-A04A-29D7B15B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D54C-0664-46C9-AEF7-562D763E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5F0-96A7-4DEF-AA41-6A382C28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35BD-EE25-4B2D-A907-D04B160D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77E7-6AF2-491F-9A40-6CF95714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586C-42D4-4638-9F7F-DE80CEEF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39A2-7992-4FF1-A8FC-2A2A363A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D268-E495-4461-AC5B-E1C91B86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659C-51B1-4C6A-8B39-09CCC948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01FDB-FD90-48B4-9543-C6235296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6FE2-62CF-482E-829F-86DF1553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396A-5498-4FB2-BF1F-D435A933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3AD8-D348-4D52-B87C-248D9DE4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612-44D3-4ED5-9C17-829F528A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53086-9F62-4F30-ABE3-4DF43BFB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2E82-C879-4944-BBBC-9672C2C9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F8557-EAFA-4676-924B-7FA39DC1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5134-FBBE-4C37-8283-ED9FECB8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D895-4C9B-4501-A6EB-BE97D10B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D893-BE9E-4D51-86D0-D9390391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C83B-EE5D-4F92-9526-54D6B9BE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64B-0C61-4DC3-A68A-649CE587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1F6-3CD8-458C-8B49-B329E2B1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06D-51C1-45AD-9DFF-8EF3217F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F81-E226-4C1B-9BF4-DD348E8B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8E7-07A6-457D-8B85-86B161B3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ECC-CFC1-4F25-9B87-70FFEB8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9421-D1D7-4425-86A8-898AB3C1D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Блок-схема: задержка 6"/>
          <p:cNvSpPr/>
          <p:nvPr/>
        </p:nvSpPr>
        <p:spPr>
          <a:xfrm>
            <a:off x="142920" y="142920"/>
            <a:ext cx="1714320" cy="1357200"/>
          </a:xfrm>
          <a:prstGeom prst="flowChartDelay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Рисунок 7" descr="7d246940b435.png"/>
          <p:cNvPicPr/>
          <p:nvPr/>
        </p:nvPicPr>
        <p:blipFill>
          <a:blip r:embed="rId2"/>
          <a:stretch/>
        </p:blipFill>
        <p:spPr>
          <a:xfrm>
            <a:off x="285840" y="214200"/>
            <a:ext cx="1247760" cy="120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2FF-217A-470E-A9F4-FE519EF0E9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E595-665C-4F76-881B-50DBF81D1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2920" y="2492280"/>
            <a:ext cx="7629120" cy="1326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a42c"/>
                </a:solidFill>
                <a:latin typeface="Times New Roman"/>
              </a:rPr>
              <a:t>ЭКОЛОГИЧЕСКАЯ СУКЦЕССИЯ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4760" y="1824480"/>
            <a:ext cx="8358840" cy="2301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сходит снижение скорости прироста биомассы сообщества (продукции сообщества) и в увеличении количества энергии, требуемой для поддержания его жизни. Это наиболее важное явление сукцессии. На ранних стадиях первичной сукцессии скорость прироста биомассы растениями высока, но на последующих стадиях она падает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6220" t="19528" r="5827" b="16273"/>
          <a:stretch/>
        </p:blipFill>
        <p:spPr>
          <a:xfrm>
            <a:off x="2484360" y="4437000"/>
            <a:ext cx="3936960" cy="2156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71880" y="2289240"/>
            <a:ext cx="3647880" cy="155880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произойдёт с сообществом  при постепенном зарастании озера?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2288" t="0" r="824" b="0"/>
          <a:stretch/>
        </p:blipFill>
        <p:spPr>
          <a:xfrm>
            <a:off x="179280" y="333360"/>
            <a:ext cx="4445280" cy="61214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158080" y="630720"/>
            <a:ext cx="3363120" cy="2859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смотря на то, что биогеоценозы являются устойчивыми и саморегулирующимися системами, происходит постепенная смена менее устойчивых биогеоценозов на более устойчивые. </a:t>
            </a: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681800" cy="3511800"/>
          </a:xfrm>
          <a:prstGeom prst="rect">
            <a:avLst/>
          </a:prstGeom>
          <a:ln w="9360">
            <a:solidFill>
              <a:srgbClr val="11895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250920" y="4365720"/>
            <a:ext cx="8713800" cy="1584360"/>
          </a:xfrm>
          <a:prstGeom prst="roundRect">
            <a:avLst>
              <a:gd name="adj" fmla="val 16667"/>
            </a:avLst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довательная смена одних сообществ другими на определенной территории носит названи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кологической сукцесс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ВИЧНАЯ СУКЦЕСС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1080" y="1675440"/>
            <a:ext cx="8421840" cy="13910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кцессия, которая начинается на абсолютно лишенном жизни месте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rcRect l="0" t="16301" r="0" b="0"/>
          <a:stretch/>
        </p:blipFill>
        <p:spPr>
          <a:xfrm>
            <a:off x="1042920" y="3573360"/>
            <a:ext cx="7020000" cy="271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ТОРИЧНАЯ СУКЦЕСС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60720" y="1675440"/>
            <a:ext cx="8456760" cy="13910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ли сообщество развивается на месте, где существовал хорошо развитый биоценоз, то сукцессия буде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торич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61912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47920" y="268200"/>
            <a:ext cx="8100720" cy="14713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ДОЛЖИТЕЛЬНОСТЬ СУКЦЕССИИ ОПРЕДЕЛЯЕТ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34615" t="30699" r="13370" b="23102"/>
          <a:stretch/>
        </p:blipFill>
        <p:spPr>
          <a:xfrm>
            <a:off x="1042920" y="1989000"/>
            <a:ext cx="71280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39800" y="269640"/>
            <a:ext cx="814788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ДОЛЖИТЕЛЬНОСТЬ СУКЦЕСС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640" y="1710000"/>
            <a:ext cx="8386920" cy="2040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должительность основных стадий вторичной сукцессии в умеренном климате: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вая – травянистая растительность – около 1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торая – кустарники – 10-25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етья – лиственные деревья – 25-10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етвертая – хвойные деревья – более 10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1116000" y="3886200"/>
            <a:ext cx="70200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5680" y="1878120"/>
            <a:ext cx="8397000" cy="1950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растений и животных в процессе сукцессии непрерывно сменяются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е видового состава часто определяется соперничеством разных видов за одни и те же пищевые или иные ресурсы; ведь происходящие в ходе сукцессии изменения экосистемы создают благоприятные условия для колонизации сообщества новыми видами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6240" y="1785600"/>
            <a:ext cx="8435880" cy="158580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кцессионные изменения всегда сопровождаются повышением видового богатства, т.е. разнообразия организмов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8713800" cy="217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7160" y="1766520"/>
            <a:ext cx="8474040" cy="123516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сходит увеличение биомассы органического вещества. Население сообщества как бы уплотняется по мере увеличения видового богатства. 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29:43Z</dcterms:created>
  <dc:creator>Admin</dc:creator>
  <dc:description/>
  <dc:language>en-US</dc:language>
  <cp:lastModifiedBy>Admin</cp:lastModifiedBy>
  <dcterms:modified xsi:type="dcterms:W3CDTF">2013-03-10T14:10:21Z</dcterms:modified>
  <cp:revision>28</cp:revision>
  <dc:subject/>
  <dc:title>Слайд 1</dc:title>
</cp:coreProperties>
</file>