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4.png" ContentType="image/png"/>
  <Override PartName="/ppt/media/image17.gif" ContentType="image/gif"/>
  <Override PartName="/ppt/media/image3.png" ContentType="image/png"/>
  <Override PartName="/ppt/media/image15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13.gif" ContentType="image/gi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432-94E0-4F71-AB89-07B0EA1A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AC8-52A6-4F04-940F-AB68B75A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861-D311-4175-9084-22F6A373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12F-5B6A-42EF-947E-E7451A56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5536-3C2D-40C4-9F3D-2E5F840D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4F43-9FF0-4EDE-821B-C410ACEE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FD50-0AC8-4F21-B37C-A0F8B370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6765-E305-47CA-88C5-E9D0D77B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E632-5EB3-4A8F-9C1A-FD4E9165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62D8-8C78-4623-9C62-6691BBD2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7663-D17F-43AC-9494-560BE6A3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0A6-4A8A-4D07-83F9-053E6E01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987D-C045-49BA-B5BC-439B25EA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20E0-4FBB-4C91-B0F0-AEAC7D6A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93DB-A94B-42FB-97CC-0BC8731F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A4D0-F927-458B-9A58-85D9CEA5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50C4-97DE-409E-B8A3-1CBDA90F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90D-91DF-4187-BF13-B1F23CDA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B4A-6191-4640-9FD9-F0E48661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3B9-7DCF-4955-8B08-6D7F4180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29C-E061-4767-B649-2B60D6A5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920-A13D-4DF5-A1BC-2EA01FD6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BD1-7AF9-46D1-9718-6602BA31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E7DB-3789-41F4-94D3-DD4A2F83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8B90-48DE-4FDB-826D-F3D1AD9BE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 rot="20256000">
            <a:off x="7619760" y="5791320"/>
            <a:ext cx="1218960" cy="79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0320" y="990720"/>
            <a:ext cx="137160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1360" y="990720"/>
            <a:ext cx="1371600" cy="1295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92400" y="990720"/>
            <a:ext cx="1371600" cy="1295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86400" y="988920"/>
            <a:ext cx="1371600" cy="1295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3280" y="979560"/>
            <a:ext cx="1371600" cy="1295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88080" y="992160"/>
            <a:ext cx="1371600" cy="12952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467480" y="5181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2E2D-2717-4F4B-8BEA-DDE5AEE4A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07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ОФИЧЕСКАЯ СТРУКТУРА СООБ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15400" y="4017600"/>
            <a:ext cx="61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ы в биогеоценозе приспособл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уг к другу настолько, что их сообщ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ставляет системное ц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ы пищевых цепей, начинающиеся с фотосинтезирующих организмов, носят названи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стбищных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и цепей выедан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 пищевых цепей, начинающихся с отмерших остатков растений, трупов и экскрементов животных, относят к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тритным пищевым цепя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цепям разложен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на основе анализа текста, постройте пищевые цепи, состоящую из организмов, упомянутых в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лиганы-воробьишки – превосходные вори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 зерно лишь подавай – поуменьшат урож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т китайцы подсчитали, сколько зерен потеря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издали свой декрет – воробьев свести на н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били всех подряд, ждут – каков же результ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ачалу, в самом деле, закрома их пополн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потом пришла беда – отворяйте воро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 посевы, урожай насекомые сож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х в таком большом числе прежде не было ниг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азалось, воробьята не едят совсем зерна-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 родители с полей тащут мошек и 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ло тут властям понятно – надо птиц вернуть об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пришлось им воробьев из чужих вести кр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все с плеча рубить, можно дело загубит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на основе анализа текста, постройте пищевые цепи, состоящую из организмов, упомянутых в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36831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у что же, подведем балан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б в стихотво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косистему юный г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четливей уви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а система пот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 в ней по форме стро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обходимый всем проду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дет своей доро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кто системе служи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Живет себе, не туж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22600" y="3492720"/>
            <a:ext cx="3592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т на зеленый стебел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дится пестрый мотыле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пил нектар со всех цве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х опылил – и в путь г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тут попался – Боже мой!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завтрак птице луг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у нее гнездо в тр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куча птенчиков в гнез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уж, конечно, их пом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итание траве 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ЕБНЫЙ МОЗГОВОЙ ШТУР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Задача Чарльза Дарв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4652640"/>
            <a:ext cx="5219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какая существует связь между числом старых дев, проживающих в Англии, и удоем коров (количеством молока, которое дают коровы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5080" y="1700280"/>
            <a:ext cx="3054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днажды англич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метили, что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тет пшеница гуще 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де проживает больше д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чтенных старых ле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то больше всех на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ботятся о кошках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58640" y="1773360"/>
            <a:ext cx="337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умай-ка немножк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вот загадка реш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вет у ловкого ко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ышей переловил дав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мыши что едят? – Зе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почку разглядишь не ср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то наука есть и разум.      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М. Х. Левитман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57760" y="5084640"/>
            <a:ext cx="348624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ЕБНЫЙ МОЗГОВОЙ ШТУР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Задача Чарльза Дарв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059200"/>
            <a:ext cx="78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Постройте пищевые цепи на основе текста решения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07520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как вы думаете, какое значение имеют пищевые сети в природе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§ 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550px-9_5_22_5" descr="&amp;Scy;&amp;tcy;&amp;rcy;&amp;ucy;&amp;kcy;&amp;tcy;&amp;ucy;&amp;rcy;&amp;acy; &amp;dcy;&amp;vcy;&amp;ucy;&amp;khcy; &amp;tcy;&amp;icy;&amp;pcy;&amp;ocy;&amp;vcy; &amp;scy;&amp;ocy;&amp;ocy;&amp;bcy;&amp;shchcy;&amp;iecy;&amp;scy;&amp;tcy;&amp;vcy;"/>
          <p:cNvPicPr/>
          <p:nvPr/>
        </p:nvPicPr>
        <p:blipFill>
          <a:blip r:embed="rId1"/>
          <a:stretch/>
        </p:blipFill>
        <p:spPr>
          <a:xfrm>
            <a:off x="5292720" y="1413000"/>
            <a:ext cx="3381480" cy="411480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468360" y="2133720"/>
            <a:ext cx="4402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проанализируйте рис. 63 стр. 156 и выявите различия и сходства надземной и водной эко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195640" y="2060640"/>
            <a:ext cx="54007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на уроке было главн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было интересн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вы узнали новог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му вы научи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242100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403380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386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то является важным показателем разнообразия условий жизни организмов в сообще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765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ие факторы увеличивают видовое разнообразие в сообще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21337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ие свойства сообщества характеризуют разнообразие вид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ПОСОБЫ ПИТАНИЯ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1197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вт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119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кс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88000" y="1197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тер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191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ем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9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т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2708280"/>
            <a:ext cx="1513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лор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поро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2637000"/>
            <a:ext cx="151272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трифици-ру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к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3141720"/>
            <a:ext cx="151272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вглена зеле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ос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1916280"/>
            <a:ext cx="18000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втотроф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тер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9079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9079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80360" y="9079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62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852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2349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2349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436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протро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37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раз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4508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ищ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47973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авоя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4360" y="2492280"/>
            <a:ext cx="151308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ждевой чер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к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4365720"/>
            <a:ext cx="187164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уберкулезная па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ут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5229360"/>
            <a:ext cx="1513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373720"/>
            <a:ext cx="1512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л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8508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2276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1628640"/>
            <a:ext cx="0" cy="201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4149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156360" y="1628640"/>
            <a:ext cx="720720" cy="273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5013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932000" y="1628640"/>
            <a:ext cx="1655640" cy="3024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5157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345440" cy="466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2997000"/>
            <a:ext cx="843588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, что означает стрелка между редуцентами и продуцен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ет ли энергия передаваться по замкнутому кру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произойдёт, если Солнце перестанет существ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114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ищевая цеп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это последовательность организмов, в которой каждый из них съедает или разлагает друг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ждое звено пищевой цепи называют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офическим уровне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64000" y="4437000"/>
            <a:ext cx="1008000" cy="781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1727280" cy="1943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0920" y="4797360"/>
            <a:ext cx="122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4797360"/>
            <a:ext cx="1225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ИЩЕВЫЕ ЦЕ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аяц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ол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к розового кус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л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ожья коров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ау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комоядная пт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ищная п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960" y="465192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что объединяет эти цеп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ИЩЕВЫЕ ЦЕ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стовая подстил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ждевой черв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черный дроз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стреб-перепеля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ртвое животно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личинки падальных му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травяная лягуш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обыкновенный у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скременты животных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уки-навозник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т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832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чем они принципиально отличаются от цепей первой группы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7632720" cy="5340240"/>
          </a:xfrm>
          <a:prstGeom prst="rect">
            <a:avLst/>
          </a:prstGeom>
          <a:ln w="6480">
            <a:solidFill>
              <a:srgbClr val="c0c0c0"/>
            </a:solidFill>
            <a:miter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4:27:13Z</dcterms:created>
  <dc:creator>Admin</dc:creator>
  <dc:description/>
  <dc:language>en-US</dc:language>
  <cp:lastModifiedBy>Admin</cp:lastModifiedBy>
  <dcterms:modified xsi:type="dcterms:W3CDTF">2013-03-16T03:43:27Z</dcterms:modified>
  <cp:revision>49</cp:revision>
  <dc:subject>биология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