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gif" ContentType="image/gif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0E36-5113-4487-842E-752B26EC3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360" y="3814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DA90-5561-47E8-BEBC-5C56FB381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540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99FB-12DA-4FD8-A634-671B93885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836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5080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3324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E05D-9B78-4FE1-B109-3B937AC79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D67A8-C9FC-44AA-BB42-EB11CA377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185e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D88EC-06A9-43CF-A003-480395D49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8154A-F1A2-4E3E-9CFA-F2F2C029B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AB160-A44F-4CA2-912B-BE79BCAF3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887C9-4F29-44FF-A7B7-06F291BF4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37600"/>
            <a:ext cx="764388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185e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E8F1D-AF57-47B9-9C6A-B2E27D51D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CB816-3B6E-49DB-9D07-C7F9D62C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185e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2C5E-E7B4-4BAA-A0D9-A8B955B9B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8540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ECF3D-825B-4FAB-9C2F-9BC8BEDD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D708F-FA1D-4FC8-985B-9352F265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360" y="3814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789CB-E4C4-47D9-B9DC-C944A08E3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8540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D2F03-6D09-4392-B59C-EE09208AA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836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5080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3324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6F658-4A1A-41E2-985C-47F0E2C64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2B5D-4921-4945-9ADF-720153B9A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395E-A508-4D0B-88C4-9DABD07CC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6C0B-FF95-4D94-B768-8A5D05112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6840" y="237600"/>
            <a:ext cx="764388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185e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C481-2057-4B26-A304-2C2639A6C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287A-145E-40AA-90D2-5010981F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540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7694-CB84-4716-98D5-F5337D0E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B279-C699-4254-A571-0EA286D7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6840" y="6381720"/>
            <a:ext cx="8970840" cy="314280"/>
          </a:xfrm>
          <a:custGeom>
            <a:avLst/>
            <a:gdLst/>
            <a:ahLst/>
            <a:rect l="l" t="t" r="r" b="b"/>
            <a:pathLst>
              <a:path w="5651" h="198">
                <a:moveTo>
                  <a:pt x="4" y="198"/>
                </a:moveTo>
                <a:lnTo>
                  <a:pt x="5651" y="198"/>
                </a:lnTo>
                <a:lnTo>
                  <a:pt x="5646" y="94"/>
                </a:lnTo>
                <a:lnTo>
                  <a:pt x="1491" y="94"/>
                </a:lnTo>
                <a:lnTo>
                  <a:pt x="1343" y="2"/>
                </a:lnTo>
                <a:lnTo>
                  <a:pt x="0" y="0"/>
                </a:lnTo>
                <a:lnTo>
                  <a:pt x="4" y="198"/>
                </a:lnTo>
                <a:close/>
              </a:path>
            </a:pathLst>
          </a:cu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3320" y="6453360"/>
            <a:ext cx="8975520" cy="279360"/>
          </a:xfrm>
          <a:custGeom>
            <a:avLst/>
            <a:gdLst/>
            <a:ahLst/>
            <a:rect l="l" t="t" r="r" b="b"/>
            <a:pathLst>
              <a:path w="5650" h="176">
                <a:moveTo>
                  <a:pt x="0" y="176"/>
                </a:moveTo>
                <a:lnTo>
                  <a:pt x="5650" y="169"/>
                </a:lnTo>
                <a:lnTo>
                  <a:pt x="5646" y="95"/>
                </a:lnTo>
                <a:lnTo>
                  <a:pt x="1478" y="95"/>
                </a:lnTo>
                <a:lnTo>
                  <a:pt x="1317" y="3"/>
                </a:lnTo>
                <a:lnTo>
                  <a:pt x="0" y="0"/>
                </a:lnTo>
                <a:lnTo>
                  <a:pt x="0" y="176"/>
                </a:lnTo>
                <a:close/>
              </a:path>
            </a:pathLst>
          </a:custGeom>
          <a:gradFill rotWithShape="0">
            <a:gsLst>
              <a:gs pos="0">
                <a:srgbClr val="329a2a"/>
              </a:gs>
              <a:gs pos="100000">
                <a:srgbClr val="1746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92160" y="98280"/>
            <a:ext cx="8956440" cy="179640"/>
          </a:xfrm>
          <a:custGeom>
            <a:avLst/>
            <a:gdLst/>
            <a:ahLst/>
            <a:rect l="l" t="t" r="r" b="b"/>
            <a:pathLst>
              <a:path w="5639" h="113">
                <a:moveTo>
                  <a:pt x="0" y="0"/>
                </a:moveTo>
                <a:lnTo>
                  <a:pt x="5582" y="0"/>
                </a:lnTo>
                <a:cubicBezTo>
                  <a:pt x="5630" y="3"/>
                  <a:pt x="5639" y="45"/>
                  <a:pt x="5639" y="45"/>
                </a:cubicBezTo>
                <a:lnTo>
                  <a:pt x="5636" y="113"/>
                </a:lnTo>
                <a:lnTo>
                  <a:pt x="0" y="11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0cb35"/>
              </a:gs>
              <a:gs pos="100000">
                <a:srgbClr val="3b5d1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2160" y="307800"/>
            <a:ext cx="8955000" cy="93852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gradFill rotWithShape="0">
            <a:gsLst>
              <a:gs pos="0">
                <a:srgbClr val="dde89a"/>
              </a:gs>
              <a:gs pos="100000">
                <a:srgbClr val="656a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92160" y="306360"/>
            <a:ext cx="8955000" cy="83664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gradFill rotWithShape="0">
            <a:gsLst>
              <a:gs pos="0">
                <a:srgbClr val="75ba70"/>
              </a:gs>
              <a:gs pos="100000">
                <a:srgbClr val="329a2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95400" y="6722280"/>
            <a:ext cx="8977320" cy="55800"/>
          </a:xfrm>
          <a:prstGeom prst="rect">
            <a:avLst/>
          </a:prstGeom>
          <a:gradFill rotWithShape="0">
            <a:gsLst>
              <a:gs pos="0">
                <a:srgbClr val="80cb35"/>
              </a:gs>
              <a:gs pos="100000">
                <a:srgbClr val="3b5d1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896160" y="1047600"/>
            <a:ext cx="2155680" cy="52560"/>
          </a:xfrm>
          <a:custGeom>
            <a:avLst/>
            <a:gdLst/>
            <a:ahLst/>
            <a:rect l="l" t="t" r="r" b="b"/>
            <a:pathLst>
              <a:path w="1358" h="33">
                <a:moveTo>
                  <a:pt x="0" y="2"/>
                </a:moveTo>
                <a:lnTo>
                  <a:pt x="1358" y="0"/>
                </a:lnTo>
                <a:lnTo>
                  <a:pt x="1356" y="32"/>
                </a:lnTo>
                <a:lnTo>
                  <a:pt x="60" y="33"/>
                </a:lnTo>
                <a:lnTo>
                  <a:pt x="0" y="2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48120" y="631152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4830840" y="63226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92720" y="544464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96247-6188-4028-B5E3-865B13174D5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j0152694" descr=""/>
          <p:cNvPicPr/>
          <p:nvPr/>
        </p:nvPicPr>
        <p:blipFill>
          <a:blip r:embed="rId2"/>
          <a:stretch/>
        </p:blipFill>
        <p:spPr>
          <a:xfrm>
            <a:off x="8244000" y="18900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21160" y="115920"/>
            <a:ext cx="3822840" cy="6765840"/>
          </a:xfrm>
          <a:custGeom>
            <a:avLst/>
            <a:gdLst/>
            <a:ahLst/>
            <a:rect l="l" t="t" r="r" b="b"/>
            <a:pathLst>
              <a:path w="2502" h="4352">
                <a:moveTo>
                  <a:pt x="882" y="17"/>
                </a:moveTo>
                <a:cubicBezTo>
                  <a:pt x="2077" y="287"/>
                  <a:pt x="2361" y="1554"/>
                  <a:pt x="2105" y="2560"/>
                </a:cubicBezTo>
                <a:cubicBezTo>
                  <a:pt x="1849" y="3566"/>
                  <a:pt x="905" y="3993"/>
                  <a:pt x="0" y="4344"/>
                </a:cubicBezTo>
                <a:lnTo>
                  <a:pt x="1242" y="4352"/>
                </a:lnTo>
                <a:cubicBezTo>
                  <a:pt x="1563" y="4096"/>
                  <a:pt x="2205" y="3360"/>
                  <a:pt x="2336" y="2584"/>
                </a:cubicBezTo>
                <a:cubicBezTo>
                  <a:pt x="2468" y="1808"/>
                  <a:pt x="2502" y="416"/>
                  <a:pt x="1186" y="0"/>
                </a:cubicBezTo>
                <a:lnTo>
                  <a:pt x="882" y="17"/>
                </a:lnTo>
                <a:close/>
              </a:path>
            </a:pathLst>
          </a:custGeom>
          <a:gradFill rotWithShape="0">
            <a:gsLst>
              <a:gs pos="0">
                <a:srgbClr val="e2fcd7"/>
              </a:gs>
              <a:gs pos="100000">
                <a:srgbClr val="99fa7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755640" y="1197000"/>
            <a:ext cx="7849080" cy="4858560"/>
            <a:chOff x="755640" y="1197000"/>
            <a:chExt cx="7849080" cy="4858560"/>
          </a:xfrm>
        </p:grpSpPr>
        <p:grpSp>
          <p:nvGrpSpPr>
            <p:cNvPr id="51" name=""/>
            <p:cNvGrpSpPr/>
            <p:nvPr/>
          </p:nvGrpSpPr>
          <p:grpSpPr>
            <a:xfrm>
              <a:off x="985320" y="1197000"/>
              <a:ext cx="927720" cy="4833000"/>
              <a:chOff x="985320" y="1197000"/>
              <a:chExt cx="927720" cy="4833000"/>
            </a:xfrm>
          </p:grpSpPr>
          <p:sp>
            <p:nvSpPr>
              <p:cNvPr id="52" name=""/>
              <p:cNvSpPr/>
              <p:nvPr/>
            </p:nvSpPr>
            <p:spPr>
              <a:xfrm flipV="1">
                <a:off x="985320" y="120780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V="1">
                <a:off x="1284120" y="119700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flipV="1">
                <a:off x="1603800" y="122256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V="1">
                <a:off x="1913040" y="1222200"/>
                <a:ext cx="0" cy="48063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755640" y="1428120"/>
              <a:ext cx="7849080" cy="4352040"/>
              <a:chOff x="755640" y="1428120"/>
              <a:chExt cx="7849080" cy="4352040"/>
            </a:xfrm>
          </p:grpSpPr>
          <p:grpSp>
            <p:nvGrpSpPr>
              <p:cNvPr id="57" name=""/>
              <p:cNvGrpSpPr/>
              <p:nvPr/>
            </p:nvGrpSpPr>
            <p:grpSpPr>
              <a:xfrm>
                <a:off x="755640" y="1428120"/>
                <a:ext cx="7827120" cy="871920"/>
                <a:chOff x="755640" y="1428120"/>
                <a:chExt cx="7827120" cy="87192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755640" y="142812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836280" y="172008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793800" y="200772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769320" y="230004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" name=""/>
              <p:cNvGrpSpPr/>
              <p:nvPr/>
            </p:nvGrpSpPr>
            <p:grpSpPr>
              <a:xfrm>
                <a:off x="777240" y="2580840"/>
                <a:ext cx="7827480" cy="871920"/>
                <a:chOff x="777240" y="2580840"/>
                <a:chExt cx="7827480" cy="87192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777240" y="258084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57880" y="287280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815400" y="316044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790920" y="345276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" name=""/>
              <p:cNvGrpSpPr/>
              <p:nvPr/>
            </p:nvGrpSpPr>
            <p:grpSpPr>
              <a:xfrm>
                <a:off x="755640" y="3755880"/>
                <a:ext cx="7827120" cy="871920"/>
                <a:chOff x="755640" y="3755880"/>
                <a:chExt cx="7827120" cy="87192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755640" y="375588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836280" y="404784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793800" y="433548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69320" y="462780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777240" y="4908240"/>
                <a:ext cx="7827480" cy="871920"/>
                <a:chOff x="777240" y="4908240"/>
                <a:chExt cx="7827480" cy="87192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777240" y="490824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857880" y="520020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815400" y="548784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90920" y="578016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7" name=""/>
            <p:cNvGrpSpPr/>
            <p:nvPr/>
          </p:nvGrpSpPr>
          <p:grpSpPr>
            <a:xfrm>
              <a:off x="2240280" y="1222560"/>
              <a:ext cx="927720" cy="4833000"/>
              <a:chOff x="2240280" y="1222560"/>
              <a:chExt cx="927720" cy="4833000"/>
            </a:xfrm>
          </p:grpSpPr>
          <p:sp>
            <p:nvSpPr>
              <p:cNvPr id="78" name=""/>
              <p:cNvSpPr/>
              <p:nvPr/>
            </p:nvSpPr>
            <p:spPr>
              <a:xfrm flipV="1">
                <a:off x="2240280" y="12333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V="1">
                <a:off x="2539080" y="12225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V="1">
                <a:off x="2858760" y="124812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V="1">
                <a:off x="3168000" y="1247760"/>
                <a:ext cx="0" cy="48063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3513240" y="1222560"/>
              <a:ext cx="927720" cy="4833000"/>
              <a:chOff x="3513240" y="1222560"/>
              <a:chExt cx="927720" cy="4833000"/>
            </a:xfrm>
          </p:grpSpPr>
          <p:sp>
            <p:nvSpPr>
              <p:cNvPr id="83" name=""/>
              <p:cNvSpPr/>
              <p:nvPr/>
            </p:nvSpPr>
            <p:spPr>
              <a:xfrm flipV="1">
                <a:off x="3513240" y="12333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V="1">
                <a:off x="3812040" y="12225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>
                <a:off x="4131720" y="124812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>
                <a:off x="4440960" y="1247760"/>
                <a:ext cx="0" cy="48063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4785840" y="1222560"/>
              <a:ext cx="927720" cy="4833000"/>
              <a:chOff x="4785840" y="1222560"/>
              <a:chExt cx="927720" cy="4833000"/>
            </a:xfrm>
          </p:grpSpPr>
          <p:sp>
            <p:nvSpPr>
              <p:cNvPr id="88" name=""/>
              <p:cNvSpPr/>
              <p:nvPr/>
            </p:nvSpPr>
            <p:spPr>
              <a:xfrm flipV="1">
                <a:off x="4785840" y="12333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>
                <a:off x="5084640" y="12225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>
                <a:off x="5404320" y="124812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>
                <a:off x="5713560" y="1247760"/>
                <a:ext cx="0" cy="48063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6004080" y="1222560"/>
              <a:ext cx="927720" cy="4833000"/>
              <a:chOff x="6004080" y="1222560"/>
              <a:chExt cx="927720" cy="4833000"/>
            </a:xfrm>
          </p:grpSpPr>
          <p:sp>
            <p:nvSpPr>
              <p:cNvPr id="93" name=""/>
              <p:cNvSpPr/>
              <p:nvPr/>
            </p:nvSpPr>
            <p:spPr>
              <a:xfrm flipV="1">
                <a:off x="6004080" y="12333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V="1">
                <a:off x="6302880" y="12225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V="1">
                <a:off x="6622560" y="124812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V="1">
                <a:off x="6931800" y="1247760"/>
                <a:ext cx="0" cy="48063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7250760" y="1222560"/>
              <a:ext cx="927720" cy="4833000"/>
              <a:chOff x="7250760" y="1222560"/>
              <a:chExt cx="927720" cy="4833000"/>
            </a:xfrm>
          </p:grpSpPr>
          <p:sp>
            <p:nvSpPr>
              <p:cNvPr id="98" name=""/>
              <p:cNvSpPr/>
              <p:nvPr/>
            </p:nvSpPr>
            <p:spPr>
              <a:xfrm flipV="1">
                <a:off x="7250760" y="12333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7549560" y="12225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V="1">
                <a:off x="7869240" y="124812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V="1">
                <a:off x="8178480" y="1247760"/>
                <a:ext cx="0" cy="48063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sp>
        <p:nvSpPr>
          <p:cNvPr id="102" name=""/>
          <p:cNvSpPr/>
          <p:nvPr/>
        </p:nvSpPr>
        <p:spPr>
          <a:xfrm>
            <a:off x="1187280" y="5516640"/>
            <a:ext cx="743040" cy="743040"/>
          </a:xfrm>
          <a:prstGeom prst="rect">
            <a:avLst/>
          </a:prstGeom>
          <a:gradFill rotWithShape="0">
            <a:gsLst>
              <a:gs pos="0">
                <a:srgbClr val="99fa72"/>
              </a:gs>
              <a:gs pos="100000">
                <a:srgbClr val="46733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5680" y="76320"/>
            <a:ext cx="8977320" cy="500040"/>
          </a:xfrm>
          <a:custGeom>
            <a:avLst/>
            <a:gdLst/>
            <a:ahLst/>
            <a:rect l="l" t="t" r="r" b="b"/>
            <a:pathLst>
              <a:path w="5655" h="315">
                <a:moveTo>
                  <a:pt x="0" y="1"/>
                </a:moveTo>
                <a:lnTo>
                  <a:pt x="5546" y="0"/>
                </a:lnTo>
                <a:cubicBezTo>
                  <a:pt x="5652" y="0"/>
                  <a:pt x="5655" y="84"/>
                  <a:pt x="5655" y="84"/>
                </a:cubicBezTo>
                <a:lnTo>
                  <a:pt x="5649" y="315"/>
                </a:lnTo>
                <a:lnTo>
                  <a:pt x="1" y="314"/>
                </a:lnTo>
                <a:lnTo>
                  <a:pt x="0" y="1"/>
                </a:lnTo>
                <a:close/>
              </a:path>
            </a:pathLst>
          </a:custGeom>
          <a:gradFill rotWithShape="0">
            <a:gsLst>
              <a:gs pos="0">
                <a:srgbClr val="329a2a"/>
              </a:gs>
              <a:gs pos="100000">
                <a:srgbClr val="0e2d0c">
                  <a:alpha val="77254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4480" y="6610320"/>
            <a:ext cx="8931240" cy="163440"/>
          </a:xfrm>
          <a:prstGeom prst="rect">
            <a:avLst/>
          </a:prstGeom>
          <a:gradFill rotWithShape="0">
            <a:gsLst>
              <a:gs pos="0">
                <a:srgbClr val="80cb35"/>
              </a:gs>
              <a:gs pos="100000">
                <a:srgbClr val="3b5d1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5680" y="609480"/>
            <a:ext cx="8982000" cy="185760"/>
          </a:xfrm>
          <a:prstGeom prst="rect">
            <a:avLst/>
          </a:prstGeom>
          <a:gradFill rotWithShape="0">
            <a:gsLst>
              <a:gs pos="0">
                <a:srgbClr val="80cb35"/>
              </a:gs>
              <a:gs pos="100000">
                <a:srgbClr val="3b5d1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dt" idx="4"/>
          </p:nvPr>
        </p:nvSpPr>
        <p:spPr>
          <a:xfrm>
            <a:off x="231480" y="6445080"/>
            <a:ext cx="22050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ftr" idx="5"/>
          </p:nvPr>
        </p:nvSpPr>
        <p:spPr>
          <a:xfrm>
            <a:off x="2574720" y="6445080"/>
            <a:ext cx="299052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Num" idx="6"/>
          </p:nvPr>
        </p:nvSpPr>
        <p:spPr>
          <a:xfrm>
            <a:off x="5700240" y="6445080"/>
            <a:ext cx="22050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95569-E86F-43F2-BB95-151D1536D6E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5516640"/>
            <a:ext cx="742680" cy="743040"/>
          </a:xfrm>
          <a:prstGeom prst="rect">
            <a:avLst/>
          </a:prstGeom>
          <a:gradFill rotWithShape="0">
            <a:gsLst>
              <a:gs pos="0">
                <a:srgbClr val="80cb35">
                  <a:alpha val="50196"/>
                </a:srgbClr>
              </a:gs>
              <a:gs pos="100000">
                <a:srgbClr val="3b5d1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4653000"/>
            <a:ext cx="741240" cy="743040"/>
          </a:xfrm>
          <a:prstGeom prst="rect">
            <a:avLst/>
          </a:prstGeom>
          <a:gradFill rotWithShape="0">
            <a:gsLst>
              <a:gs pos="0">
                <a:srgbClr val="329a2a">
                  <a:alpha val="50196"/>
                </a:srgbClr>
              </a:gs>
              <a:gs pos="100000">
                <a:srgbClr val="17461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title"/>
          </p:nvPr>
        </p:nvSpPr>
        <p:spPr>
          <a:xfrm>
            <a:off x="1619280" y="1699920"/>
            <a:ext cx="6019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85e25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185e25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50920" y="5460840"/>
            <a:ext cx="865080" cy="865440"/>
          </a:xfrm>
          <a:prstGeom prst="rect">
            <a:avLst/>
          </a:prstGeom>
          <a:ln w="0">
            <a:noFill/>
          </a:ln>
        </p:spPr>
      </p:pic>
      <p:pic>
        <p:nvPicPr>
          <p:cNvPr id="113" name="j0152694" descr=""/>
          <p:cNvPicPr/>
          <p:nvPr/>
        </p:nvPicPr>
        <p:blipFill>
          <a:blip r:embed="rId3"/>
          <a:stretch/>
        </p:blipFill>
        <p:spPr>
          <a:xfrm>
            <a:off x="7885080" y="11592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185e25"/>
                </a:solidFill>
                <a:latin typeface="Times New Roman"/>
              </a:rPr>
              <a:t>Click to edit the outline text format</a:t>
            </a:r>
            <a:endParaRPr b="0" i="1" lang="en-US" sz="1600" spc="-1" strike="noStrike">
              <a:solidFill>
                <a:srgbClr val="185e25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5280" y="1699920"/>
            <a:ext cx="7777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85e25"/>
                </a:solidFill>
                <a:latin typeface="Times New Roman"/>
              </a:rPr>
              <a:t>ПОТОКИ ВЕЩЕСТВА И ЭНЕРГИИ В ЭКОСИСТЕМЕ</a:t>
            </a:r>
            <a:endParaRPr b="1" lang="en-US" sz="4400" spc="-1" strike="noStrike">
              <a:solidFill>
                <a:srgbClr val="185e25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56000" y="4867920"/>
            <a:ext cx="5914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«Энергия не возникает из ничего и не превращается ни во что, но из одного вида может превратиться в другое и передаваться от одного тела другому». 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95280" y="2205000"/>
            <a:ext cx="813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ведите примеры разных пищевых цепей в лесном (озерном, степном) сообществах.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5280" y="422100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ие процессы происходят при переходе с одного трофического уровня на другой?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237600"/>
            <a:ext cx="914400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РУГОВОРОТ ВЕЩЕСТВ В ЭКОСИСТЕМ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rcRect l="63516" t="24519" r="12520" b="41248"/>
          <a:stretch/>
        </p:blipFill>
        <p:spPr>
          <a:xfrm>
            <a:off x="395280" y="1484280"/>
            <a:ext cx="4643280" cy="4149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37600"/>
            <a:ext cx="914400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ЕВРАЩЕНИЕ ЭНЕРГИИ В ЭКОСИСТЕМ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Рисунок 1" descr="10.jpg"/>
          <p:cNvPicPr/>
          <p:nvPr/>
        </p:nvPicPr>
        <p:blipFill>
          <a:blip r:embed="rId1"/>
          <a:srcRect l="1978" t="0" r="1775" b="4429"/>
          <a:stretch/>
        </p:blipFill>
        <p:spPr>
          <a:xfrm>
            <a:off x="4356000" y="2997360"/>
            <a:ext cx="4579920" cy="34099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971640" y="1557360"/>
            <a:ext cx="63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чему общее число трофических уровней редко превышает три – четыре?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0920" y="3213000"/>
            <a:ext cx="3960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тери энергии при переходе с одного трофического уровня на другой определяют количество этих уровней и соотношение численности хищников и жертв. Подсчитано, что на любой трофический уровень поступает лишь около 10% энергии предыдущего уровня.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237600"/>
            <a:ext cx="845964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ИРАМИДЫ ЧИСЛЕННОСТИ И БИОМАССЫ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1268280"/>
            <a:ext cx="49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ирамида численности отражает численность отдельных организмов на каждом уровне. 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29746" t="27618" r="41811" b="35423"/>
          <a:stretch/>
        </p:blipFill>
        <p:spPr>
          <a:xfrm>
            <a:off x="4932360" y="3290760"/>
            <a:ext cx="3992400" cy="32432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50920" y="436572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авило экологической пирамиды: чем выше уровень, тем ниже общая биомасса и численность составляющих ее организмов.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0920" y="2565360"/>
            <a:ext cx="49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ирамида биомасс – соотношение масс организмов разных трофических уровней. 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237600"/>
            <a:ext cx="89647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ЕРЕВЕРНУТАЯ ПИРАМИД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24360" y="1989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чему в природе появляются перевернутые пирамиды численности?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rcRect l="60224" t="27618" r="14383" b="35423"/>
          <a:stretch/>
        </p:blipFill>
        <p:spPr>
          <a:xfrm>
            <a:off x="179280" y="1197000"/>
            <a:ext cx="2952720" cy="26859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50920" y="3860640"/>
            <a:ext cx="856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ирамида численности отражает только плотность организмов на каждом трофическом уровне, но не скорость самообразования организмов, поэтому пирамиды могут быть перевернутыми, т.е. плотность организмов в данный конкретный момент времени на низком трофическом уровне может быть ниже, чем плотность организмов на высоком уровне.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1T05:31:11Z</dcterms:created>
  <dc:creator>Admin</dc:creator>
  <dc:description/>
  <dc:language>en-US</dc:language>
  <cp:lastModifiedBy>Admin</cp:lastModifiedBy>
  <dcterms:modified xsi:type="dcterms:W3CDTF">2013-03-04T16:07:43Z</dcterms:modified>
  <cp:revision>12</cp:revision>
  <dc:subject>урок</dc:subject>
  <dc:title>Слайд 1</dc:title>
</cp:coreProperties>
</file>