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DC7-3C70-4FBE-BC2E-EF6CB529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71E-06B9-4FC5-8D0A-0D8116EE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4A3-04BE-4603-B035-8896308E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530-9EF8-4725-B243-07E3BE7F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95B-F7CC-4B45-A17F-64A704B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B74-41B2-438F-8902-CFC52884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239-E27C-4EEA-BE60-8E1A3FF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DE1-05BB-4889-8781-0BC5C4F8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557-7D3D-4497-B4A6-D3BA433F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77B-02DF-4FC9-A731-5E2F849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655-7A4A-4FF7-8CB0-FEDD2C5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FAC-CBBF-419A-B98F-087C4BC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31A-4D2B-48D0-80D6-22ABE38D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952560"/>
            <a:ext cx="73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Comic Sans MS"/>
              </a:rPr>
              <a:t>Экология как нау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опия ecology"/>
          <p:cNvPicPr/>
          <p:nvPr/>
        </p:nvPicPr>
        <p:blipFill>
          <a:blip r:embed="rId1"/>
          <a:stretch/>
        </p:blipFill>
        <p:spPr>
          <a:xfrm>
            <a:off x="6227640" y="3213000"/>
            <a:ext cx="2025720" cy="1652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 rot="1091400">
            <a:off x="5866920" y="2997360"/>
            <a:ext cx="26434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03280" y="9810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363920" cy="327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484360" y="5661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692360" y="134136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124000" y="18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5364000" y="2637000"/>
            <a:ext cx="352908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403280" y="2276640"/>
            <a:ext cx="381636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00360" y="4508640"/>
            <a:ext cx="388764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63640" y="3860640"/>
            <a:ext cx="684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30920" y="2997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802560" y="2997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7020000" y="1917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2565360"/>
            <a:ext cx="6840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03280" y="1341360"/>
            <a:ext cx="77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332000" y="83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547640" y="148428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00720" y="3645000"/>
            <a:ext cx="381636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32000" y="9079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42670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1052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5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Admin</cp:lastModifiedBy>
  <dcterms:modified xsi:type="dcterms:W3CDTF">2013-03-04T16:18:06Z</dcterms:modified>
  <cp:revision>18</cp:revision>
  <dc:subject/>
  <dc:title>Экология Рядом!</dc:title>
</cp:coreProperties>
</file>