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041-8142-45D1-A6F5-333F9C75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1EE-D504-4A6E-A802-54F38B2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F0E-9465-494D-822F-3C6239A3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A71-5DDB-4184-A302-3DA381C9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91BB-DAB1-413A-876B-F200F339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0C9A-DB16-443A-83EC-84F58DA9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D62-99A5-4090-8059-ED867D6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F355-4E6C-4576-B44C-705AD5EC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F9E0-B5E9-4B48-9111-E8A2968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16A1-18C9-49FA-A252-11894D52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B84C-5D37-40DF-8EAF-9D50CC7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2FA-F54D-4594-9DB9-ECE3846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97EF-8AA6-4121-BA4C-FF8DC2F8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ECFD-936F-4C2A-8E82-AF79F70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20AD-0CBC-4822-841B-CD7079A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2189-A93F-4F9D-B42D-27A304B5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7059-33AE-4E51-8318-CE14CC00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B45-4363-4D71-A287-6AF3F44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B19-655B-4915-BF2D-EA85422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AE4-4036-4D29-9432-EBE318F1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499-8502-424C-945C-A107E75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533-14BC-4A25-93B7-80A46DE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FBC-10F6-4146-8922-5C1038E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CD5-5A52-43E6-8B19-9A70928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536-C071-43FA-9E54-4AB13DCC0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140-005A-471F-AE26-2D8121066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lbl.ru/" TargetMode="External"/><Relationship Id="rId2" Type="http://schemas.openxmlformats.org/officeDocument/2006/relationships/hyperlink" Target="http://www.poleznayagazeta.ru/news/news2/4807/" TargetMode="External"/><Relationship Id="rId3" Type="http://schemas.openxmlformats.org/officeDocument/2006/relationships/hyperlink" Target="http://www.poleznayagazeta.ru/news/news2/4807/" TargetMode="External"/><Relationship Id="rId4" Type="http://schemas.openxmlformats.org/officeDocument/2006/relationships/hyperlink" Target="http://www.poleznayagazeta.ru/news/news2/4807/" TargetMode="External"/><Relationship Id="rId5" Type="http://schemas.openxmlformats.org/officeDocument/2006/relationships/hyperlink" Target="http://www.poleznayagazeta.ru/news/news2/4807/" TargetMode="External"/><Relationship Id="rId6" Type="http://schemas.openxmlformats.org/officeDocument/2006/relationships/hyperlink" Target="http://www.zaserbiu.ru/news/new-100206.html" TargetMode="External"/><Relationship Id="rId7" Type="http://schemas.openxmlformats.org/officeDocument/2006/relationships/hyperlink" Target="http://www.zaserbiu.ru/news/new-100206.html" TargetMode="External"/><Relationship Id="rId8" Type="http://schemas.openxmlformats.org/officeDocument/2006/relationships/hyperlink" Target="http://www.zaserbiu.ru/news/new-100206.html" TargetMode="External"/><Relationship Id="rId9" Type="http://schemas.openxmlformats.org/officeDocument/2006/relationships/hyperlink" Target="http://www.zaserbiu.ru/news/new-100206.html" TargetMode="External"/><Relationship Id="rId10" Type="http://schemas.openxmlformats.org/officeDocument/2006/relationships/hyperlink" Target="http://gtrk-saratov.ru/news/rezultaty_oprosa_po_vyboru_osnov_religioznyh_kultur_i_svetskoj_etiki/" TargetMode="External"/><Relationship Id="rId11" Type="http://schemas.openxmlformats.org/officeDocument/2006/relationships/hyperlink" Target="http://gtrk-saratov.ru/news/rezultaty_oprosa_po_vyboru_osnov_religioznyh_kultur_i_svetskoj_etiki/" TargetMode="External"/><Relationship Id="rId12" Type="http://schemas.openxmlformats.org/officeDocument/2006/relationships/hyperlink" Target="http://gtrk-saratov.ru/news/rezultaty_oprosa_po_vyboru_osnov_religioznyh_kultur_i_svetskoj_etiki/" TargetMode="External"/><Relationship Id="rId13" Type="http://schemas.openxmlformats.org/officeDocument/2006/relationships/hyperlink" Target="http://gtrk-saratov.ru/news/rezultaty_oprosa_po_vyboru_osnov_religioznyh_kultur_i_svetskoj_etiki/" TargetMode="External"/><Relationship Id="rId14" Type="http://schemas.openxmlformats.org/officeDocument/2006/relationships/hyperlink" Target="http://www.wazzup.su/" TargetMode="External"/><Relationship Id="rId15" Type="http://schemas.openxmlformats.org/officeDocument/2006/relationships/hyperlink" Target="http://www.wazzup.s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осударство и религия на современном этапе. Вероисповедная полит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16360" y="4652640"/>
            <a:ext cx="237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620640"/>
            <a:ext cx="410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я-это убеждение, что все происходящее с нами необычайно важно. И именно поэтому она будет существовать 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заре Пове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Бор 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Использованные интернет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albl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www.poleznayagazeta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www.zaserbiu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gtrk-saratov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http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www.wazzup.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яснить сущность понятий: вероисповедная политика, светское государство, свобода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арактеризовать вероисповедную политику России на современном эта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00748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литики государства в сфере свободы совести и вероисповед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ключающая целеполагание, правовое обоснование, регулирование деятельности религиозных организаций, которая выходит за рамки канонического устройства и культовой практики , осуществление сотрудничества с ними,  достижение межрелигиозного мир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4684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ОБОДА СОВ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511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 из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общечеловеческих цен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основополагающее неотъемлемое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еловека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а свободный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ключае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аждого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споведов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ндивидуально или совместно с другим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любую религ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исповедовать никак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3) свободно выбирать, менять и распространять религиоз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ли иные убеждения и действовать в соответствии с н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е ущемляя свободы и личного достоинства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276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ЕТСКОЕ ГОСУДАРСТВО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6920" y="1125000"/>
            <a:ext cx="4778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принимает никакую из религий или мировоззренческих систем в качестве своей официальной идеолог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обеспеч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граждана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можность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самим делать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религиозные объединения отделены от государства и равны перед зако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2256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Религиозные объединения отделены от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3995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определение гражданином своего отношения к рели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озлагает на религиозные объединения функции органов государственной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деятельность религиозных объединений, если их деятельность не противоречит законам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светский характер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51483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авовые акты религиозной полити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22400" y="2266200"/>
            <a:ext cx="3967200" cy="3713760"/>
            <a:chOff x="2822400" y="2266200"/>
            <a:chExt cx="3967200" cy="3713760"/>
          </a:xfrm>
        </p:grpSpPr>
        <p:sp>
          <p:nvSpPr>
            <p:cNvPr id="118" name="_s14343"/>
            <p:cNvSpPr/>
            <p:nvPr/>
          </p:nvSpPr>
          <p:spPr>
            <a:xfrm flipV="1">
              <a:off x="4145040" y="2265840"/>
              <a:ext cx="1322280" cy="1237320"/>
            </a:xfrm>
            <a:custGeom>
              <a:avLst/>
              <a:gdLst>
                <a:gd name="textAreaLeft" fmla="*/ 474480 w 1322280"/>
                <a:gd name="textAreaRight" fmla="*/ 847800 w 1322280"/>
                <a:gd name="textAreaTop" fmla="*/ 443880 h 1237320"/>
                <a:gd name="textAreaBottom" fmla="*/ 793440 h 123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Нормы международного права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дународные догово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 flipV="1">
              <a:off x="3483000" y="3503160"/>
              <a:ext cx="2644920" cy="1238760"/>
            </a:xfrm>
            <a:custGeom>
              <a:avLst/>
              <a:gdLst>
                <a:gd name="textAreaLeft" fmla="*/ 581400 w 2644920"/>
                <a:gd name="textAreaRight" fmla="*/ 2063520 w 2644920"/>
                <a:gd name="textAreaTop" fmla="*/ 272160 h 1238760"/>
                <a:gd name="textAreaBottom" fmla="*/ 966600 h 12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ституция Р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4345"/>
            <p:cNvSpPr/>
            <p:nvPr/>
          </p:nvSpPr>
          <p:spPr>
            <a:xfrm flipV="1">
              <a:off x="2822400" y="4743000"/>
              <a:ext cx="3967200" cy="1236960"/>
            </a:xfrm>
            <a:custGeom>
              <a:avLst/>
              <a:gdLst>
                <a:gd name="textAreaLeft" fmla="*/ 688680 w 3967200"/>
                <a:gd name="textAreaRight" fmla="*/ 3278520 w 3967200"/>
                <a:gd name="textAreaTop" fmla="*/ 214560 h 1236960"/>
                <a:gd name="textAreaBottom" fmla="*/ 1022400 h 12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Федеральные закон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«О свободе совести и религиозных объединений»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ругие нормативные ак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 Российского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07196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етский характер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прав и свобод независимо от их отношения к религии, принадлежности к религиозным организац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религиозных организаций перед закон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ажение обычаев, традиций народов, связанных с их религ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скаются ограничения в вопросах религии в случае необходимости защиты нравственности, законов, здоровья, прав и свобод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ость государственной политики в религиозных вопро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8402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Особенности религиозной жизни современного российского обще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0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наиболее массовой религией в РФ – православие ( 75—80 % общего числа верующих) В основном это представители славянских народов, однако среди них немало и людей иных национальностей — марийцев, мордвы, чувашей, молдаван, осетин, представителей народностей Севера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последователей православия примерно 45 % мужчин; наиболее многочисленную возрастную группу — около 30 % — образуют лица 36—45 лет; около 85 % имеют среднее, среднее специальное или высшее образование; около 80 % живут в гор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ходы Московской патриархии имеются на всей территории России, их количество за последнее десятилетие увеличилось более чем втр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екоторых регионах Сибири и Дальнего Востока наметилась тенденция к снижению удельного веса православных общин, что обусловлено ростом влияния протестантизма, католицизма, нетрадиционных религиозных 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современная политика Российского государства в области вероисповеданий отражает те социокультурные и политические процессы, которые протекают сегодня в обществе, и призвана способствовать формированию его высокой культуры и нрав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9:14:12Z</dcterms:created>
  <dc:creator>user</dc:creator>
  <dc:description/>
  <dc:language>en-US</dc:language>
  <cp:lastModifiedBy>user</cp:lastModifiedBy>
  <dcterms:modified xsi:type="dcterms:W3CDTF">2013-02-17T19:01:30Z</dcterms:modified>
  <cp:revision>27</cp:revision>
  <dc:subject/>
  <dc:title>Государство и религия на современном этапе. Вероисповедная политика»</dc:title>
</cp:coreProperties>
</file>