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820-C780-40BC-B21A-2BAF980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B10-0A18-48FD-ABDE-781723B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02D-52E7-43F1-8B87-DF1D64A9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4C4-0109-46FF-9BF2-CA1FE52C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FE6-F545-404E-AA1B-6484A7AA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320-6CD6-4E19-BA3D-95F820E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B970-D674-4470-9C95-7C251CC7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BE0-7BD9-44FA-BC04-6FE53B5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D35-2A3E-40F3-AA96-0A2430D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197D-CFEC-488F-AF83-A645E4C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AFA9-42F1-4B5E-87A7-B706C2B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BF2-0A9B-4E77-A681-4BE099A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B75D-0904-4301-A792-EC21EEB5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F5C-ACDE-4FB0-860A-52E811D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DF18-58D6-4D6F-A53B-5FF626E3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846-7A52-4FB9-A6FC-B5740F8C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C4A4-4F18-49C5-ACD0-426163D3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69C-EE41-4769-9A4E-AA53CB55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624-1EA2-4CBB-9654-6025089A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250-DF0F-4FFB-9E05-2EB68FCC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621-91B7-4F07-A835-D48CCB00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626-A321-437D-9EB6-8298DD4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9DB-9C3D-4EA3-AA8D-C6A9482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1C8-ABC8-4B58-A300-A716314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1135-CF47-4907-B4DF-BCC8EA523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645-220F-44C3-8C92-8DB0E2A64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lbl.ru/" TargetMode="External"/><Relationship Id="rId2" Type="http://schemas.openxmlformats.org/officeDocument/2006/relationships/hyperlink" Target="http://www.poleznayagazeta.ru/news/news2/4807/" TargetMode="External"/><Relationship Id="rId3" Type="http://schemas.openxmlformats.org/officeDocument/2006/relationships/hyperlink" Target="http://www.poleznayagazeta.ru/news/news2/4807/" TargetMode="External"/><Relationship Id="rId4" Type="http://schemas.openxmlformats.org/officeDocument/2006/relationships/hyperlink" Target="http://www.poleznayagazeta.ru/news/news2/4807/" TargetMode="External"/><Relationship Id="rId5" Type="http://schemas.openxmlformats.org/officeDocument/2006/relationships/hyperlink" Target="http://www.poleznayagazeta.ru/news/news2/4807/" TargetMode="External"/><Relationship Id="rId6" Type="http://schemas.openxmlformats.org/officeDocument/2006/relationships/hyperlink" Target="http://www.zaserbiu.ru/news/new-100206.html" TargetMode="External"/><Relationship Id="rId7" Type="http://schemas.openxmlformats.org/officeDocument/2006/relationships/hyperlink" Target="http://www.zaserbiu.ru/news/new-100206.html" TargetMode="External"/><Relationship Id="rId8" Type="http://schemas.openxmlformats.org/officeDocument/2006/relationships/hyperlink" Target="http://www.zaserbiu.ru/news/new-100206.html" TargetMode="External"/><Relationship Id="rId9" Type="http://schemas.openxmlformats.org/officeDocument/2006/relationships/hyperlink" Target="http://www.zaserbiu.ru/news/new-100206.html" TargetMode="External"/><Relationship Id="rId10" Type="http://schemas.openxmlformats.org/officeDocument/2006/relationships/hyperlink" Target="http://gtrk-saratov.ru/news/rezultaty_oprosa_po_vyboru_osnov_religioznyh_kultur_i_svetskoj_etiki/" TargetMode="External"/><Relationship Id="rId11" Type="http://schemas.openxmlformats.org/officeDocument/2006/relationships/hyperlink" Target="http://gtrk-saratov.ru/news/rezultaty_oprosa_po_vyboru_osnov_religioznyh_kultur_i_svetskoj_etiki/" TargetMode="External"/><Relationship Id="rId12" Type="http://schemas.openxmlformats.org/officeDocument/2006/relationships/hyperlink" Target="http://gtrk-saratov.ru/news/rezultaty_oprosa_po_vyboru_osnov_religioznyh_kultur_i_svetskoj_etiki/" TargetMode="External"/><Relationship Id="rId13" Type="http://schemas.openxmlformats.org/officeDocument/2006/relationships/hyperlink" Target="http://gtrk-saratov.ru/news/rezultaty_oprosa_po_vyboru_osnov_religioznyh_kultur_i_svetskoj_etiki/" TargetMode="External"/><Relationship Id="rId14" Type="http://schemas.openxmlformats.org/officeDocument/2006/relationships/hyperlink" Target="http://www.wazzup.su/" TargetMode="External"/><Relationship Id="rId15" Type="http://schemas.openxmlformats.org/officeDocument/2006/relationships/hyperlink" Target="http://www.wazzup.s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осударство и религия на современном этапе. Вероисповедная поли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16360" y="4652640"/>
            <a:ext cx="237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620640"/>
            <a:ext cx="410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я-это убеждение, что все происходящее с нами необычайно важно. И именно поэтому она будет существовать 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заре Пов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Бор 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Использованные интернет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albl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www.poleznayagazet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www.zaserbi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gtrk-sarato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http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www.wazzup.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яснить сущность понятий: вероисповедная политика, светское государство, свобода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арактеризовать вероисповедную политику Росс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0074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литики государства в сфере свободы совести и вероиспове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ключающая целеполагание, правовое обоснование, регулирование деятельности религиозных организаций, которая выходит за рамки канонического устройства и культовой практики , осуществление сотрудничества с ними,  достижение межрелигиозного мир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4684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ОБОДА СОВ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511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 из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общечеловеческих цен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сновополагающее неотъемлемое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а свободный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клю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аждого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споведо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ндивидуально или совместно с другим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любую религ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исповедовать никак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3) свободно выбирать, менять и распространять религиоз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ли иные убеждения и действовать в соответствии с н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е ущемляя свободы и личного достоинства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ЕТСКОЕ ГОСУДАРСТВО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1125000"/>
            <a:ext cx="4778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принимает никакую из религий или мировоззренческих систем в качестве своей официальной идеолог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обеспеч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граждана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можность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самим делать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религиозные объединения отделены от государства и равны перед зако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56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Религиозные объединения отделены от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995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определение гражданином своего отношения к рели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озлагает на религиозные объединения функции органов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деятельность религиозных объединений, если их деятельность не противоречит законам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светский характер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51483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авовые акты религиозной полити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22400" y="2266200"/>
            <a:ext cx="3967200" cy="3713760"/>
            <a:chOff x="2822400" y="2266200"/>
            <a:chExt cx="3967200" cy="3713760"/>
          </a:xfrm>
        </p:grpSpPr>
        <p:sp>
          <p:nvSpPr>
            <p:cNvPr id="118" name="_s14343"/>
            <p:cNvSpPr/>
            <p:nvPr/>
          </p:nvSpPr>
          <p:spPr>
            <a:xfrm flipV="1">
              <a:off x="4145040" y="2265840"/>
              <a:ext cx="1322280" cy="1237320"/>
            </a:xfrm>
            <a:custGeom>
              <a:avLst/>
              <a:gdLst>
                <a:gd name="textAreaLeft" fmla="*/ 474480 w 1322280"/>
                <a:gd name="textAreaRight" fmla="*/ 847800 w 1322280"/>
                <a:gd name="textAreaTop" fmla="*/ 443880 h 1237320"/>
                <a:gd name="textAreaBottom" fmla="*/ 793440 h 123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Нормы международного права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дународные догово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 flipV="1">
              <a:off x="3483000" y="3503160"/>
              <a:ext cx="2644920" cy="1238760"/>
            </a:xfrm>
            <a:custGeom>
              <a:avLst/>
              <a:gdLst>
                <a:gd name="textAreaLeft" fmla="*/ 581400 w 2644920"/>
                <a:gd name="textAreaRight" fmla="*/ 2063520 w 2644920"/>
                <a:gd name="textAreaTop" fmla="*/ 272160 h 1238760"/>
                <a:gd name="textAreaBottom" fmla="*/ 966600 h 12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4345"/>
            <p:cNvSpPr/>
            <p:nvPr/>
          </p:nvSpPr>
          <p:spPr>
            <a:xfrm flipV="1">
              <a:off x="2822400" y="4743000"/>
              <a:ext cx="3967200" cy="1236960"/>
            </a:xfrm>
            <a:custGeom>
              <a:avLst/>
              <a:gdLst>
                <a:gd name="textAreaLeft" fmla="*/ 688680 w 3967200"/>
                <a:gd name="textAreaRight" fmla="*/ 3278520 w 3967200"/>
                <a:gd name="textAreaTop" fmla="*/ 214560 h 1236960"/>
                <a:gd name="textAreaBottom" fmla="*/ 102240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едеральные закон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«О свободе совести и религиозных объединений»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ругие нормативные ак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 Российского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07196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тский характер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прав и свобод независимо от их отношения к религии, принадлежности к религиозным организац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религиозных организаций перед зако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ажение обычаев, традиций народов, связанных с их религ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скаются ограничения в вопросах религии в случае необходимости защиты нравственности, законов, здоровья, прав и свобод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ость государственной политики в религиозных вопро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402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Особенности религиозной жизни современного российского обще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0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наиболее массовой религией в РФ – православие ( 75—80 % общего числа верующих) В основном это представители славянских народов, однако среди них немало и людей иных национальностей — марийцев, мордвы, чувашей, молдаван, осетин, представителей народностей Север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следователей православия примерно 45 % мужчин; наиболее многочисленную возрастную группу — около 30 % — образуют лица 36—45 лет; около 85 % имеют среднее, среднее специальное или высшее образование; около 80 % живут в гор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ы Московской патриархии имеются на всей территории России, их количество за последнее десятилетие увеличилось более чем вт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которых регионах Сибири и Дальнего Востока наметилась тенденция к снижению удельного веса православных общин, что обусловлено ростом влияния протестантизма, католицизма, нетрадиционных религиоз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овременная политика Российского государства в области вероисповеданий отражает те социокультурные и политические процессы, которые протекают сегодня в обществе, и призвана способствовать формированию его высокой культуры и нрав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14:12Z</dcterms:created>
  <dc:creator>user</dc:creator>
  <dc:description/>
  <dc:language>en-US</dc:language>
  <cp:lastModifiedBy>user</cp:lastModifiedBy>
  <dcterms:modified xsi:type="dcterms:W3CDTF">2013-02-17T19:01:30Z</dcterms:modified>
  <cp:revision>27</cp:revision>
  <dc:subject/>
  <dc:title>Государство и религия на современном этапе. Вероисповедная политика»</dc:title>
</cp:coreProperties>
</file>