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364-9AA3-40CE-BFD4-D6F40E1D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626-5B4B-4076-8F19-042C56D1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C65-5494-4F4F-A635-545962BB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C91-311F-43ED-8647-FAA12B17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020-C447-459D-B2BA-62CDF55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C53-0684-4B65-A80F-BC1597D1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391-FB64-4DF7-A770-C34B663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ACF-1CDF-41D9-935C-3544E40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E71-CD7B-4FCA-AEF5-EDE35C6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D4E-82C3-4757-9E47-32FCFA4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D1D-53F6-46CD-A0BE-3A7DE04B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655-C262-4336-A0E3-259180B5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BC46-947E-45DF-ADE3-159FE1B78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cc00"/>
                </a:solidFill>
                <a:latin typeface="Arial"/>
                <a:ea typeface="Arial"/>
              </a:rPr>
              <a:t>Нетрадиционные религии на территории Нижегородской обла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3885840"/>
            <a:ext cx="4286160" cy="2685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Выполнил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Учитель МОУ ООШ №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г. Б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Саблукова Е.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г. Б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20</a:t>
            </a:r>
            <a:r>
              <a:rPr b="1" lang="en-US" sz="2500" spc="-1" strike="noStrike">
                <a:solidFill>
                  <a:srgbClr val="ddd9c3"/>
                </a:solidFill>
                <a:latin typeface="Comic Sans MS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явление новых религ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14480" y="1142640"/>
            <a:ext cx="5429160" cy="5715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d7e4bd"/>
                </a:solidFill>
                <a:latin typeface="Calibri"/>
              </a:rPr>
              <a:t>Одновременно с традиционными в мире распространяются и укрепляют  свои позиции  новые религии, которые называют нетрадиционными. Их последователи и руководители обычно подчеркивают, что их вероучение совсем не новое, а «исправленное», «усовершенствованное» или вновь обретенное стар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religii"/>
          <p:cNvPicPr/>
          <p:nvPr/>
        </p:nvPicPr>
        <p:blipFill>
          <a:blip r:embed="rId1"/>
          <a:stretch/>
        </p:blipFill>
        <p:spPr>
          <a:xfrm>
            <a:off x="214200" y="1357200"/>
            <a:ext cx="3786480" cy="4862520"/>
          </a:xfrm>
          <a:prstGeom prst="rect">
            <a:avLst/>
          </a:prstGeom>
          <a:ln w="9360">
            <a:solidFill>
              <a:srgbClr val="632523"/>
            </a:solidFill>
            <a:miter/>
          </a:ln>
          <a:effectLst>
            <a:outerShdw dist="50760" dir="5400000" blurRad="0" rotWithShape="0">
              <a:srgbClr val="632523"/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чему людям не хватает традиционных религ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28680" y="1499760"/>
            <a:ext cx="507204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Традиционные религии кажутся многим не  соответствующими духу времени и  современному ритму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Они  сложны и требуют  для восприятия большой внутренне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Причиной успеха новых вероучений  стало массовое разочарование в современной цивилизации с ее несправедливостью и жесто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im3-tub-ru.yandex.net/i?id=427475103-09-72&amp;n=21"/>
          <p:cNvPicPr/>
          <p:nvPr/>
        </p:nvPicPr>
        <p:blipFill>
          <a:blip r:embed="rId1"/>
          <a:stretch/>
        </p:blipFill>
        <p:spPr>
          <a:xfrm>
            <a:off x="214200" y="1714680"/>
            <a:ext cx="3929040" cy="45720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Нетрадиционные религии в Нижегоро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14880" y="1785600"/>
            <a:ext cx="4929120" cy="4714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Нетрадиционные религии получили    свое распространение  и    в Нижегородской области. Церковь «Свидетелей Иеговы»,  Церковь Иисуса Христа последних дней (мормоны), Общество сознания Кришны действуют здесь уже несколько лет и имеют своих последовател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&amp;Vcy; &amp;Rcy;&amp;ocy;&amp;scy;&amp;scy;&amp;icy;&amp;icy; &amp;mcy;&amp;ocy;&amp;zhcy;&amp;iecy;&amp;tcy; &amp;ncy;&amp;acy;&amp;chcy;&amp;acy;&amp;tcy;&amp;softcy;&amp;scy;&amp;yacy; &amp;bcy;&amp;ocy;&amp;rcy;&amp;softcy;&amp;bcy;&amp;acy; &amp;scy; &amp;pcy;&amp;rcy;&amp;iecy;&amp;dcy;&amp;scy;&amp;tcy;&amp;acy;&amp;vcy;&amp;icy;&amp;tcy;&amp;iecy;&amp;lcy;&amp;yacy;&amp;mcy;&amp;icy; &quot;&amp;ncy;&amp;iecy;&amp;tcy;&amp;rcy;&amp;acy;&amp;dcy;&amp;icy;&amp;tscy;&amp;icy;&amp;ocy;&amp;ncy;&amp;ncy;&amp;ycy;&amp;khcy; &amp;rcy;&amp;iecy;&amp;lcy;&amp;icy;&amp;gcy;&amp;icy;&amp;jcy;&quot;"/>
          <p:cNvPicPr/>
          <p:nvPr/>
        </p:nvPicPr>
        <p:blipFill>
          <a:blip r:embed="rId1"/>
          <a:stretch/>
        </p:blipFill>
        <p:spPr>
          <a:xfrm>
            <a:off x="214200" y="1928880"/>
            <a:ext cx="4000680" cy="42148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Церковь «Свидетелей Иегов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213920"/>
            <a:ext cx="4114800" cy="5643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Церковь возникла в США в 70-е г. </a:t>
            </a: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XIX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«Свидетели» не признают Троицу,  верят в ангелов и демонов, которых возглавляет сатана. Главная идея их учения- ожидание конца света и установление рая на земле. По их мнению скоро грянет Армагеддон- последняя борьба добра со з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5-tub-ru.yandex.net/i?id=15692025-55-72&amp;n=21"/>
          <p:cNvPicPr/>
          <p:nvPr/>
        </p:nvPicPr>
        <p:blipFill>
          <a:blip r:embed="rId1"/>
          <a:stretch/>
        </p:blipFill>
        <p:spPr>
          <a:xfrm>
            <a:off x="214200" y="1500120"/>
            <a:ext cx="3048120" cy="24289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5" name="Picture 4" descr="http://im5-tub-ru.yandex.net/i?id=82770418-07-72&amp;n=21"/>
          <p:cNvPicPr/>
          <p:nvPr/>
        </p:nvPicPr>
        <p:blipFill>
          <a:blip r:embed="rId2"/>
          <a:stretch/>
        </p:blipFill>
        <p:spPr>
          <a:xfrm>
            <a:off x="785880" y="2571840"/>
            <a:ext cx="307188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6" name="Picture 6" descr="http://news.spbmy.ru/wp-content/uploads/2012/09/c114d67526b6860e4eb5740a7848f3_thumb.jpg"/>
          <p:cNvPicPr/>
          <p:nvPr/>
        </p:nvPicPr>
        <p:blipFill>
          <a:blip r:embed="rId3"/>
          <a:stretch/>
        </p:blipFill>
        <p:spPr>
          <a:xfrm>
            <a:off x="1357200" y="3714840"/>
            <a:ext cx="316728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im2-tub-ru.yandex.net/i?id=165532065-30-72&amp;n=21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25714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8" name="Picture 2" descr="http://im7-tub-ru.yandex.net/i?id=456104261-21-72&amp;n=21"/>
          <p:cNvPicPr/>
          <p:nvPr/>
        </p:nvPicPr>
        <p:blipFill>
          <a:blip r:embed="rId2"/>
          <a:stretch/>
        </p:blipFill>
        <p:spPr>
          <a:xfrm>
            <a:off x="357120" y="2714760"/>
            <a:ext cx="3614760" cy="23572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Церковь Иисуса Христа последних дней (мормон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71600" y="1599840"/>
            <a:ext cx="5072040" cy="5257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Церковь основана в 1830 г. в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Мормоны признают Библию и книгу Мормона.  Они   сохраняют элементы христианства (учение о Троице, искуплении, спасении ит. д.), верят в Христа, но он для них не единственный Б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Каждый мормон считает своим долгом вести миссионерскую  работу и проповедовать сво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2-tub-ru.yandex.net/i?id=68502035-05-72&amp;n=21"/>
          <p:cNvPicPr/>
          <p:nvPr/>
        </p:nvPicPr>
        <p:blipFill>
          <a:blip r:embed="rId3"/>
          <a:stretch/>
        </p:blipFill>
        <p:spPr>
          <a:xfrm>
            <a:off x="500040" y="3857760"/>
            <a:ext cx="3571920" cy="26431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Общество сознания Криш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440" y="1071360"/>
            <a:ext cx="4786200" cy="5429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Религиозная организация  возникла  во второй половине </a:t>
            </a: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XX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в. в Индии, быстро распространилась в США, а за тем и по всему ми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Кришнаиты взяли за основу своего учения Священное Писание  древних индусов – Веды и национальную индийскую религию- инду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Последователи общества  считают необходимым освободиться от всего личного, включая собственность, и полностью отдаться своему служ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2-tub-ru.yandex.net/i?id=318791549-27-72&amp;n=21"/>
          <p:cNvPicPr/>
          <p:nvPr/>
        </p:nvPicPr>
        <p:blipFill>
          <a:blip r:embed="rId1"/>
          <a:stretch/>
        </p:blipFill>
        <p:spPr>
          <a:xfrm>
            <a:off x="357120" y="1357200"/>
            <a:ext cx="3363840" cy="28576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5" name="Picture 4" descr="http://im7-tub-ru.yandex.net/i?id=75354235-33-72&amp;n=21"/>
          <p:cNvPicPr/>
          <p:nvPr/>
        </p:nvPicPr>
        <p:blipFill>
          <a:blip r:embed="rId2"/>
          <a:stretch/>
        </p:blipFill>
        <p:spPr>
          <a:xfrm>
            <a:off x="714240" y="2786040"/>
            <a:ext cx="341640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6" name="Picture 6" descr="http://im5-tub-ru.yandex.net/i?id=479321557-51-72&amp;n=21"/>
          <p:cNvPicPr/>
          <p:nvPr/>
        </p:nvPicPr>
        <p:blipFill>
          <a:blip r:embed="rId3"/>
          <a:stretch/>
        </p:blipFill>
        <p:spPr>
          <a:xfrm>
            <a:off x="1071720" y="3857760"/>
            <a:ext cx="3402000" cy="25714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Влияние нетрадиционных религий на совреме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1928520"/>
            <a:ext cx="8572680" cy="4714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Кто чаще всего  попадает в нетрадиционные церковные организации и тоталитарные сект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Опасна ли деятельность новых религиозных сообщест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Перечислите правила религиозной безопас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Какие государственные и общественные организации могут оказать помощь, если ты попал в тоталитарную религиозную общи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Что может стать альтернативой обращения к нетрадиционным религия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49:03Z</dcterms:modified>
  <cp:revision>71</cp:revision>
  <dc:subject/>
  <dc:title>Слайд 1</dc:title>
</cp:coreProperties>
</file>