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F31-F58E-4457-BF87-6DA8C002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1C1-CBD4-4A34-964E-BD44D07C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05A-C626-4C45-9250-E30CCF37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F64-19CC-4EDC-846B-320E9376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20F-04E5-4E59-9074-99E96E2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204-27A9-442D-BE8F-9F3D937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E79-8183-4DDE-9854-B398D8B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0C8-A4DD-493A-A253-1E171FF3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5B3-72B6-48BF-8323-A48A9C2E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081-D9DB-4CB4-8446-13D2493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5B9-AD7D-4F01-9E8B-97C0395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98E-08EC-4BF7-A583-3468890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63AF-6EC3-4C82-ACE2-48E6DF80DF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8;&#1072;&#1073;&#1088;&#1072;&#1080;&#1083;" TargetMode="External"/><Relationship Id="rId2" Type="http://schemas.openxmlformats.org/officeDocument/2006/relationships/hyperlink" Target="http://ru.wikipedia.org/wiki/&#1060;&#1072;&#1081;&#1083;:FirstSurahKor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8;&#1072;_(&#1050;&#1086;&#1088;&#1072;&#1085;)" TargetMode="External"/><Relationship Id="rId2" Type="http://schemas.openxmlformats.org/officeDocument/2006/relationships/hyperlink" Target="http://ru.wikipedia.org/wiki/&#1040;&#1103;&#1090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hammad_letter_muqawqi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оран и Сунна -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вященные книги мусульма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Islamic-69"/>
          <p:cNvPicPr/>
          <p:nvPr/>
        </p:nvPicPr>
        <p:blipFill>
          <a:blip r:embed="rId1"/>
          <a:stretch/>
        </p:blipFill>
        <p:spPr>
          <a:xfrm>
            <a:off x="285840" y="2143080"/>
            <a:ext cx="5072040" cy="372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000240" y="21420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БОУ СОШ № 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72120" y="48578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истор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БОУ СОШ № 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умилова Е.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000680" y="62866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2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Monotype Corsiva"/>
              </a:rPr>
              <a:t>Сунна 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(вторая священная книга мусульман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3927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унна - собрание изречений Мухаммада и рассказов о его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Эти рассказы называются хадисами. Все хадисы долгое время существовали устно. Позднее, в IX-X вв., их записали видные богословы: Бухари, Нишапури, Маджа, Сиджистани, Нисаи и Тирмизи. Они и считаются авторами-составителями сборников хади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6" descr="Деревянная табличка с сурами Корана у шатра бедуинов."/>
          <p:cNvPicPr/>
          <p:nvPr/>
        </p:nvPicPr>
        <p:blipFill>
          <a:blip r:embed="rId1"/>
          <a:stretch/>
        </p:blipFill>
        <p:spPr>
          <a:xfrm>
            <a:off x="5219640" y="1125360"/>
            <a:ext cx="3376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нна дополняет и разъясняет Коран, уступая ему только своей религиозной значим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Баки Урманче. Шахада. 70-е гг. ХХв. Бумага, тушь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Шари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ждый мусульманин обязан вести образ жизни, который требует шари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ариат (от арабского “шариа” - “правильный путь”) - это свод правил поведения, одобренных мусульманскими авторитетами. Шариат опирается на Коран и Сун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689_1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3008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вы узнали сегодня на уроке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214280" y="5716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Цель урока: сформировать  понимание  значения Корана и Сунны  как священных книг мусульма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1)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изучить  появление  и  особенности священных книг мусульман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2) 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выделять главное, существенное в изучаемой теме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твечать на вопросы по содержанию текста, задавать вопросы  для уточнения непонятного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 работать в коллективе.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3) 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особствовать развитию информационной культуры учащихся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оспитание толерантности к другой вере и культур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1280" y="549360"/>
            <a:ext cx="44132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Коран 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— священная книга ислама. Согласно учению ислама, Коран является прямым, вечным и несотворённым словом Божьим. Коран был ниспослан Всевышним Богом на Седьмое Небо, а затем ангел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Джебраил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передавал его по частям пророку Мухаммеду путём Откровения в течение 23 лет его пророческой деятель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180px-FirstSurahKor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3344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 и ответьте  на вопросы к н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«Коран» (от арабского «аль –Куран») означает «то, что читают вслух, декламирую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н состоит из 114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су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глав) и около 6600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ая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стих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ологически выделяют мекканск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нские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ры включают определенное количество стихов , айят. Айят- это фраза или фрагмент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557" t="16089" r="6945" b="56136"/>
          <a:stretch/>
        </p:blipFill>
        <p:spPr>
          <a:xfrm>
            <a:off x="428760" y="428760"/>
            <a:ext cx="8215200" cy="208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3.png"/>
          <p:cNvPicPr/>
          <p:nvPr/>
        </p:nvPicPr>
        <p:blipFill>
          <a:blip r:embed="rId2"/>
          <a:stretch/>
        </p:blipFill>
        <p:spPr>
          <a:xfrm>
            <a:off x="428760" y="2500200"/>
            <a:ext cx="82152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81583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вые систематизированные записи полного текста священной книги были сделаны ближайшими сподвижниками Мухаммеда вскоре после ег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f25c09ad23ae4fa3c5f7271966_prev"/>
          <p:cNvPicPr/>
          <p:nvPr/>
        </p:nvPicPr>
        <p:blipFill>
          <a:blip r:embed="rId1"/>
          <a:stretch/>
        </p:blipFill>
        <p:spPr>
          <a:xfrm>
            <a:off x="1619280" y="189000"/>
            <a:ext cx="561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9640" y="18864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pperplate Gothic Light"/>
              </a:rPr>
              <a:t>По приказу халифа Османа группа авторитетных соратников пророка во главе с Заидом ибн Сабитом      ( личным писцом Мухаммеда) создала единый свод текста Ко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Islamic-70"/>
          <p:cNvPicPr/>
          <p:nvPr/>
        </p:nvPicPr>
        <p:blipFill>
          <a:blip r:embed="rId1"/>
          <a:stretch/>
        </p:blipFill>
        <p:spPr>
          <a:xfrm>
            <a:off x="179280" y="26028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ервая сура Корана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Аль-Фатиха» («Открывающая»)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имя Бога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тив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лава Богу, Господу миров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Милостив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ржащему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воем распоряжени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нь суда!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ебе поклоняемся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у тебя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сим помощи…                 Перевод Г.С.Саблуков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180px-Muhammad_letter_muqawq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642960"/>
            <a:ext cx="42181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4:02Z</dcterms:created>
  <dc:creator>Lena</dc:creator>
  <dc:description/>
  <dc:language>en-US</dc:language>
  <cp:lastModifiedBy>Екатерина</cp:lastModifiedBy>
  <dcterms:modified xsi:type="dcterms:W3CDTF">2012-05-13T12:11:14Z</dcterms:modified>
  <cp:revision>8</cp:revision>
  <dc:subject/>
  <dc:title>Коран и Сунна - священные книги мусульман</dc:title>
</cp:coreProperties>
</file>