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512-0736-4B68-A28E-51C486FA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A4E9-A5E4-4590-9EC9-E16965C8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F99-09D2-48D3-BE84-55DF1A5B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F086-7DA9-4A15-9F3D-3AB3B668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A7C-BCFF-4444-8F0A-BDB8662C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471F-DC46-4D39-9EA9-43062799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9D6E-41B6-4A8B-8F8F-C82B59F9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407-32E5-4A3C-B557-1AE4E793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B6B-819F-4521-9088-E3781CC9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6E5-73AF-487B-82F1-B814CE3C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AB6-929A-4717-9A6E-2D6398CE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D3F-94C5-4D0A-9395-FFE3320D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D455-78CA-4F7D-89C0-91C664403E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8;&#1072;&#1073;&#1088;&#1072;&#1080;&#1083;" TargetMode="External"/><Relationship Id="rId2" Type="http://schemas.openxmlformats.org/officeDocument/2006/relationships/hyperlink" Target="http://ru.wikipedia.org/wiki/&#1060;&#1072;&#1081;&#1083;:FirstSurahKoran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1;&#1088;&#1072;_(&#1050;&#1086;&#1088;&#1072;&#1085;)" TargetMode="External"/><Relationship Id="rId2" Type="http://schemas.openxmlformats.org/officeDocument/2006/relationships/hyperlink" Target="http://ru.wikipedia.org/wiki/&#1040;&#1103;&#1090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uhammad_letter_muqawqi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Коран и Сунна -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священные книги мусульман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Islamic-69"/>
          <p:cNvPicPr/>
          <p:nvPr/>
        </p:nvPicPr>
        <p:blipFill>
          <a:blip r:embed="rId1"/>
          <a:stretch/>
        </p:blipFill>
        <p:spPr>
          <a:xfrm>
            <a:off x="285840" y="2143080"/>
            <a:ext cx="5072040" cy="372276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3000240" y="214200"/>
            <a:ext cx="31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БОУ СОШ № 1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072120" y="4857840"/>
            <a:ext cx="2571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полнила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читель истори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БОУ СОШ № 12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Шумилова Е.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000680" y="628668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012 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Monotype Corsiva"/>
              </a:rPr>
              <a:t>Сунна </a:t>
            </a:r>
            <a:r>
              <a:rPr b="0" lang="ru-RU" sz="3200" spc="-1" strike="noStrike">
                <a:solidFill>
                  <a:srgbClr val="e5ffff"/>
                </a:solidFill>
                <a:latin typeface="Monotype Corsiva"/>
              </a:rPr>
              <a:t>(вторая священная книга мусульман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39272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унна - собрание изречений Мухаммада и рассказов о его жиз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Эти рассказы называются хадисами. Все хадисы долгое время существовали устно. Позднее, в IX-X вв., их записали видные богословы: Бухари, Нишапури, Маджа, Сиджистани, Нисаи и Тирмизи. Они и считаются авторами-составителями сборников хади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6" descr="Деревянная табличка с сурами Корана у шатра бедуинов."/>
          <p:cNvPicPr/>
          <p:nvPr/>
        </p:nvPicPr>
        <p:blipFill>
          <a:blip r:embed="rId1"/>
          <a:stretch/>
        </p:blipFill>
        <p:spPr>
          <a:xfrm>
            <a:off x="5219640" y="1125360"/>
            <a:ext cx="3376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нна дополняет и разъясняет Коран, уступая ему только своей религиозной значимост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Баки Урманче. Шахада. 70-е гг. ХХв. Бумага, тушь"/>
          <p:cNvPicPr/>
          <p:nvPr/>
        </p:nvPicPr>
        <p:blipFill>
          <a:blip r:embed="rId1"/>
          <a:stretch/>
        </p:blipFill>
        <p:spPr>
          <a:xfrm>
            <a:off x="1692360" y="2637000"/>
            <a:ext cx="525600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Monotype Corsiva"/>
              </a:rPr>
              <a:t>Шариа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аждый мусульманин обязан вести образ жизни, который требует шариа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Шариат (от арабского “шариа” - “правильный путь”) - это свод правил поведения, одобренных мусульманскими авторитетами. Шариат опирается на Коран и Сун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6" descr="689_1"/>
          <p:cNvPicPr/>
          <p:nvPr/>
        </p:nvPicPr>
        <p:blipFill>
          <a:blip r:embed="rId1"/>
          <a:stretch/>
        </p:blipFill>
        <p:spPr>
          <a:xfrm>
            <a:off x="4643280" y="1557360"/>
            <a:ext cx="432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1714320"/>
            <a:ext cx="830088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Что вы узнали сегодня на уроке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214280" y="57168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еплен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90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Цель урока: сформировать  понимание  значения Корана и Сунны  как священных книг мусульман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Задачи:</a:t>
            </a:r>
            <a:br>
              <a:rPr sz="20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1) </a:t>
            </a: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образовательные: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изучить  появление  и  особенности священных книг мусульман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2) развивающие: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развивать умение выделять главное, существенное в изучаемой теме;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отвечать на вопросы по содержанию текста, задавать вопросы  для уточнения непонятного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развивать умение  работать в коллективе.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3) воспитательные: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способствовать развитию информационной культуры учащихся;</a:t>
            </a:r>
            <a:br>
              <a:rPr sz="1600"/>
            </a:br>
            <a:r>
              <a:rPr b="0" lang="ru-RU" sz="16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воспитание толерантности к другой вере и культуре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11280" y="549360"/>
            <a:ext cx="441324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imes New Roman"/>
              </a:rPr>
              <a:t>Коран </a:t>
            </a: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— священная книга ислама. Согласно учению ислама, Коран является прямым, вечным и несотворённым словом Божьим. Коран был ниспослан Всевышним Богом на Седьмое Небо, а затем ангел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imes New Roman"/>
                <a:hlinkClick r:id="rId1"/>
              </a:rPr>
              <a:t>Джебраил</a:t>
            </a: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 передавал его по частям пророку Мухаммеду путём Откровения в течение 23 лет его пророческой деятельности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4" descr="180px-FirstSurahKora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04640"/>
            <a:ext cx="33447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Работа с текст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читайте текст и ответьте  на вопросы к не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ово «Коран» (от арабского «аль –Куран») означает «то, что читают вслух, декламируют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ран состоит из 114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imes New Roman"/>
                <a:hlinkClick r:id="rId1"/>
              </a:rPr>
              <a:t>сур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глав) и около 6600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аят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стихов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ронологически выделяют мекканские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динские сур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уры включают определенное количество стихов , айят. Айят- это фраза или фрагмент сур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5557" t="16089" r="6945" b="56136"/>
          <a:stretch/>
        </p:blipFill>
        <p:spPr>
          <a:xfrm>
            <a:off x="428760" y="428760"/>
            <a:ext cx="8215200" cy="2085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23.png"/>
          <p:cNvPicPr/>
          <p:nvPr/>
        </p:nvPicPr>
        <p:blipFill>
          <a:blip r:embed="rId2"/>
          <a:stretch/>
        </p:blipFill>
        <p:spPr>
          <a:xfrm>
            <a:off x="428760" y="2500200"/>
            <a:ext cx="82152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3715920"/>
            <a:ext cx="81583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ервые систематизированные записи полного текста священной книги были сделаны ближайшими сподвижниками Мухаммеда вскоре после его смер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5" descr="0f25c09ad23ae4fa3c5f7271966_prev"/>
          <p:cNvPicPr/>
          <p:nvPr/>
        </p:nvPicPr>
        <p:blipFill>
          <a:blip r:embed="rId1"/>
          <a:stretch/>
        </p:blipFill>
        <p:spPr>
          <a:xfrm>
            <a:off x="1619280" y="189000"/>
            <a:ext cx="56196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579640" y="188640"/>
            <a:ext cx="3313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opperplate Gothic Light"/>
              </a:rPr>
              <a:t>По приказу халифа Османа группа авторитетных соратников пророка во главе с Заидом ибн Сабитом      ( личным писцом Мухаммеда) создала единый свод текста Кор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Islamic-70"/>
          <p:cNvPicPr/>
          <p:nvPr/>
        </p:nvPicPr>
        <p:blipFill>
          <a:blip r:embed="rId1"/>
          <a:stretch/>
        </p:blipFill>
        <p:spPr>
          <a:xfrm>
            <a:off x="179280" y="260280"/>
            <a:ext cx="561672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47527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ервая сура Корана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«Аль-Фатиха» («Открывающая»)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о имя Бога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Милостивого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Милосердного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лава Богу, Господу миров,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Милостивому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Милосердному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держащему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 Своем распоряжении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День суда!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Тебе поклоняемся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и у тебя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осим помощи…                 Перевод Г.С.Саблуков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4" descr="180px-Muhammad_letter_muqawq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9080" y="642960"/>
            <a:ext cx="421812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14:02Z</dcterms:created>
  <dc:creator>Lena</dc:creator>
  <dc:description/>
  <dc:language>en-US</dc:language>
  <cp:lastModifiedBy>Екатерина</cp:lastModifiedBy>
  <dcterms:modified xsi:type="dcterms:W3CDTF">2012-05-13T12:11:14Z</dcterms:modified>
  <cp:revision>8</cp:revision>
  <dc:subject/>
  <dc:title>Коран и Сунна - священные книги мусульман</dc:title>
</cp:coreProperties>
</file>