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937-7D30-4F4D-A0B7-B144EC5D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785-D4DF-46A0-B042-4BE4FAB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4FB-CC45-4E46-8B98-7B87ABCD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A07-5DD3-441B-9B19-F14CFC53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2A7-47A9-4D63-8BF5-26E7598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EF48-0CD6-4D32-A884-BF1EC2A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A6C-3EAC-4C37-902F-E6FEFF20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141C-67E7-4D9D-B26E-C926D51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7FE0-575F-4C70-BFE9-6FBD887E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A650-97BE-402A-B9D5-F700F01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78CA-ABA3-442E-A946-68EE8E9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98A-54C6-42B0-A1EF-4A75BC17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BF31-7B09-422D-BBCE-9028A3D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6899-3D46-4D63-BA6A-2991CF6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60AC-5B26-4902-8DF1-D5F24FB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4213-FC8E-4A3E-861C-9E98DFFB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1BAF-261F-41B3-BA26-E84D4FFA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B74-B6E2-443B-89DA-27504B4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E53-04FC-4B96-A00D-0064D2F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7EC-5888-4EB8-8BD4-259D4468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2EA-C2BF-4538-9990-A5F9587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D4A-448F-412C-84B2-22AF7FD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C90-556A-4BFC-9621-DFA98D3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613-EF5B-4C1E-981A-5EA7610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411-E0BA-40CC-9F29-59E664851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9CE2-E72A-4241-9F1A-783936279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дейные истоки и вероучение ислам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021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.Бор 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29264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ель истор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БОУ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402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Структура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87" name="_s3103"/>
            <p:cNvCxnSpPr>
              <a:stCxn id="88" idx="0"/>
              <a:endCxn id="8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3101"/>
            <p:cNvCxnSpPr>
              <a:stCxn id="91" idx="0"/>
              <a:endCxn id="8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3097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ислам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098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ма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вера - догматы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310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Ди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религиозная практика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лигиозные обряды, мораль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радици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лл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нге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ис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ороков и посл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а Последний(Судный де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едопреде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6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341360"/>
          <a:ext cx="8497800" cy="5176800"/>
        </p:xfrm>
        <a:graphic>
          <a:graphicData uri="http://schemas.openxmlformats.org/drawingml/2006/table">
            <a:tbl>
              <a:tblPr/>
              <a:tblGrid>
                <a:gridCol w="2016000"/>
                <a:gridCol w="6481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г един-Алл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тель всего сущего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могу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дыка мира, управляет природой и обществ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должны ему повиноваться, быть покорными, богобоязнен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нге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елы-творения Аллаха, созданные из света, выполняют его поручения. Между ними существует раздел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моны – созданные Аллахом из огня существа, они искушают люд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вный из них-Шайт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сульманин должен верить во все писания, посланные Всевышним пророкам (Псалтырь, Тору, евангелие, Коран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81080"/>
          <a:ext cx="8229600" cy="394344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ороков и послан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роки-люди, через которых вещает господь. В исламе их не менее 1000, Мухаммед –последний из них. Он образец для подражания и поч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а 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удный д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тупит День воздаяния за земные дела. Он будет последним днем этого мира. За ним следует блаженство( в раю) или мучение (в аду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едопре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зависит от воли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37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6:54:20Z</dcterms:created>
  <dc:creator>user</dc:creator>
  <dc:description/>
  <dc:language>en-US</dc:language>
  <cp:lastModifiedBy>user</cp:lastModifiedBy>
  <dcterms:modified xsi:type="dcterms:W3CDTF">2013-02-05T20:40:50Z</dcterms:modified>
  <cp:revision>15</cp:revision>
  <dc:subject/>
  <dc:title>Идейные истоки и вероучение ислама </dc:title>
</cp:coreProperties>
</file>