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040E-6A54-4898-BF61-09A3497C9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9847-B8CC-4565-BA34-FBCB8BC9A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F5C9-BC26-4882-BF24-022FD14DE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5124-D870-4EFC-A454-5DFBBAF43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9A154-0AB7-4DA2-A96B-4629ED76A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50D4C-7D63-4D14-B2C5-88EFCD51B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B6DCB-0EC0-4768-BCED-99CA762F7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EB91A-8761-4EE6-B7D8-9DB67E646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FBFB6-D605-445B-84D3-A555D88D9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7C18F-9857-41AD-86F2-C0FC6BC85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1D3C4-8117-4C59-8BDC-0F097ADE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ABC9-6295-4B6D-BEA7-F625D83C6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25054-6095-403B-93E6-776AE9AE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77941-B3DA-4311-9B48-66D89916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E5458-E749-4C49-9A92-2D9A7C6A8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D9F07-F610-4309-B393-871F11688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075AB-8F92-492D-9349-86A3E8C0D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A11A-B714-48FF-B370-5DE86DA6E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715A-2CA7-4B72-9CCC-1DD148DB1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BAB1-E8C9-482A-876B-D29EF68B0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53FD-6CCD-4788-A4F2-DAC8E4157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248D-1887-473F-A6DB-4840A6E2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D4CC-4F0B-432B-8119-1D34BEBA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C99C-0CE4-45DB-A91E-FCD744C2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62DC6-E83D-4CAB-9341-4A40939F6B3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E021D-1AD8-4D8C-BD9F-D28DE125E24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ffff"/>
                </a:solidFill>
                <a:latin typeface="Tahoma"/>
              </a:rPr>
              <a:t>Идейные истоки и вероучение ислама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2411280" y="6021360"/>
            <a:ext cx="44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Г.Бор 2012 г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508720" y="4292640"/>
            <a:ext cx="29527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аксимович Л.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учитель истории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бществозн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БОУ СОШ №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68360" y="2492280"/>
            <a:ext cx="440208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1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ffff"/>
                </a:solidFill>
                <a:latin typeface="Tahoma"/>
              </a:rPr>
              <a:t>Структура ислама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431640" y="1585800"/>
            <a:ext cx="8208000" cy="4462560"/>
            <a:chOff x="431640" y="1585800"/>
            <a:chExt cx="8208000" cy="4462560"/>
          </a:xfrm>
        </p:grpSpPr>
        <p:cxnSp>
          <p:nvCxnSpPr>
            <p:cNvPr id="87" name="_s3103"/>
            <p:cNvCxnSpPr>
              <a:stCxn id="88" idx="0"/>
              <a:endCxn id="89" idx="2"/>
            </p:cNvCxnSpPr>
            <p:nvPr/>
          </p:nvCxnSpPr>
          <p:spPr>
            <a:xfrm flipV="1" rot="16200000">
              <a:off x="5194080" y="2711520"/>
              <a:ext cx="893160" cy="221004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0" name="_s3101"/>
            <p:cNvCxnSpPr>
              <a:stCxn id="91" idx="0"/>
              <a:endCxn id="89" idx="2"/>
            </p:cNvCxnSpPr>
            <p:nvPr/>
          </p:nvCxnSpPr>
          <p:spPr>
            <a:xfrm flipH="1" flipV="1" rot="5400000">
              <a:off x="2984400" y="2711160"/>
              <a:ext cx="893160" cy="221076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89" name="_s3097"/>
            <p:cNvSpPr/>
            <p:nvPr/>
          </p:nvSpPr>
          <p:spPr>
            <a:xfrm>
              <a:off x="2642040" y="158580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Arial"/>
                </a:rPr>
                <a:t>ислам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_s3098"/>
            <p:cNvSpPr/>
            <p:nvPr/>
          </p:nvSpPr>
          <p:spPr>
            <a:xfrm>
              <a:off x="431640" y="426348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Иман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(вера - догматы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_s3100"/>
            <p:cNvSpPr/>
            <p:nvPr/>
          </p:nvSpPr>
          <p:spPr>
            <a:xfrm>
              <a:off x="4851360" y="426348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Дин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(религиозная практика-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религиозные обряды, мораль,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традиции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ffff"/>
                </a:solidFill>
                <a:latin typeface="Tahoma"/>
              </a:rPr>
              <a:t>Основные догматы ислама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ера в Аллах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ера в ангел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ера в пис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ера в пророков и посланник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ера а Последний(Судный день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ера в предопределе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211640" y="2205000"/>
            <a:ext cx="46195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ffff"/>
                </a:solidFill>
                <a:latin typeface="Tahoma"/>
              </a:rPr>
              <a:t>Основные догматы ислама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95280" y="1341360"/>
          <a:ext cx="8497800" cy="5176800"/>
        </p:xfrm>
        <a:graphic>
          <a:graphicData uri="http://schemas.openxmlformats.org/drawingml/2006/table">
            <a:tbl>
              <a:tblPr/>
              <a:tblGrid>
                <a:gridCol w="2016000"/>
                <a:gridCol w="6481800"/>
              </a:tblGrid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огма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го сущ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ера в Аллах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ог един-Аллах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ccff"/>
                        </a:buClr>
                        <a:buSzPct val="6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здатель всего сущего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ccff"/>
                        </a:buClr>
                        <a:buSzPct val="6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семогущ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ccff"/>
                        </a:buClr>
                        <a:buSzPct val="6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ладыка мира, управляет природой и обществом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се должны ему повиноваться, быть покорными, богобоязненным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5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ера в ангел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нгелы-творения Аллаха, созданные из света, выполняют его поручения. Между ними существует разделение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емоны – созданные Аллахом из огня существа, они искушают людей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лавный из них-Шайтан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ера в пис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усульманин должен верить во все писания, посланные Всевышним пророкам (Псалтырь, Тору, евангелие, Коран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Основные догматы ислам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1981080"/>
          <a:ext cx="8229600" cy="3943440"/>
        </p:xfrm>
        <a:graphic>
          <a:graphicData uri="http://schemas.openxmlformats.org/drawingml/2006/table">
            <a:tbl>
              <a:tblPr/>
              <a:tblGrid>
                <a:gridCol w="3672000"/>
                <a:gridCol w="4557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огма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го сущ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ера в пророков и посланник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ороки-люди, через которых вещает господь. В исламе их не менее 1000, Мухаммед –последний из них. Он образец для подражания и почит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ера а послед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Судный день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ступит День воздаяния за земные дела. Он будет последним днем этого мира. За ним следует блаженство( в раю) или мучение (в аду)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ера в предопредел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се зависит от воли Аллах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268360" y="1052640"/>
            <a:ext cx="3708720" cy="53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1T16:54:20Z</dcterms:created>
  <dc:creator>user</dc:creator>
  <dc:description/>
  <dc:language>en-US</dc:language>
  <cp:lastModifiedBy>user</cp:lastModifiedBy>
  <dcterms:modified xsi:type="dcterms:W3CDTF">2013-02-05T20:40:50Z</dcterms:modified>
  <cp:revision>15</cp:revision>
  <dc:subject/>
  <dc:title>Идейные истоки и вероучение ислама </dc:title>
</cp:coreProperties>
</file>