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451-05D5-409C-BC20-45060224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25F-52BF-411C-A88E-E017B1F3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9AC-FB6D-4361-B41E-4C21DA9A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782-B2C9-49D9-89D8-6361B61C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A161-34DC-4B00-9797-9FC2871C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E6FD-5C99-40BB-A1F3-F742CC17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2F2F-ED6F-4DB4-8679-14CBDE1C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811D-A537-42D7-A2B2-354EA35F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ED49-655D-4279-A896-3F75E458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CD13-B6A6-4CE6-8AA0-8E4A682F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D304-FC38-4996-87D8-3821958E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55E-540C-4017-B427-90DE7996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D3E7-89EC-4660-ADEB-8088DC4D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76D4-22B9-4676-A424-B8C6A0C9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C753-1B27-4F29-A724-011C1713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736C-4B54-4F58-AD83-4CA75C83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A7B5-AB0B-4745-9F57-E03C9B9C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6A7-EA6F-435E-BEC7-CD7AE901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171-1025-4FF1-9678-75CE8861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731-C71E-43A4-894B-FF4D1DFA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920-64C3-4C3F-BDC1-9BDFC316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252-74A8-430E-B40B-461F90FC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CD7-8A14-4790-A005-9BBF1314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2D1-708D-4227-B0F3-D1D15F3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71BD-8211-4B72-A21F-624DD024B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962C-AE8A-45F5-AD77-5160C78345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Идейные истоки и вероучение ислама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602136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.Бор 201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4292640"/>
            <a:ext cx="295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итель истори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ствозн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БОУ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4020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Структура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87" name="_s3103"/>
            <p:cNvCxnSpPr>
              <a:stCxn id="88" idx="0"/>
              <a:endCxn id="8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3101"/>
            <p:cNvCxnSpPr>
              <a:stCxn id="91" idx="0"/>
              <a:endCxn id="8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" name="_s3097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ислам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3098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Има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(вера - догматы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3100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Ди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религиозная практика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лигиозные обряды, мораль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традиции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Алл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анге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ис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ророков и послан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а Последний(Судный ден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а в предопредел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4619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5280" y="1341360"/>
          <a:ext cx="8497800" cy="5176800"/>
        </p:xfrm>
        <a:graphic>
          <a:graphicData uri="http://schemas.openxmlformats.org/drawingml/2006/table">
            <a:tbl>
              <a:tblPr/>
              <a:tblGrid>
                <a:gridCol w="2016000"/>
                <a:gridCol w="6481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г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Алла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г един-Аллах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тель всего сущего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могу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ccff"/>
                        </a:buClr>
                        <a:buSzPct val="6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ладыка мира, управляет природой и обществ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должны ему повиноваться, быть покорными, богобоязненным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анге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елы-творения Аллаха, созданные из света, выполняют его поручения. Между ними существует раздел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моны – созданные Аллахом из огня существа, они искушают люде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вный из них-Шайта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ис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сульманин должен верить во все писания, посланные Всевышним пророкам (Псалтырь, Тору, евангелие, Коран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сновные догматы исла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981080"/>
          <a:ext cx="8229600" cy="3943440"/>
        </p:xfrm>
        <a:graphic>
          <a:graphicData uri="http://schemas.openxmlformats.org/drawingml/2006/table">
            <a:tbl>
              <a:tblPr/>
              <a:tblGrid>
                <a:gridCol w="3672000"/>
                <a:gridCol w="45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г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го сущ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ророков и послан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роки-люди, через которых вещает господь. В исламе их не менее 1000, Мухаммед –последний из них. Он образец для подражания и почит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а посл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удный ден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ступит День воздаяния за земные дела. Он будет последним днем этого мира. За ним следует блаженство( в раю) или мучение (в аду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ра в предопреде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 зависит от воли Аллах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68360" y="1052640"/>
            <a:ext cx="37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6:54:20Z</dcterms:created>
  <dc:creator>user</dc:creator>
  <dc:description/>
  <dc:language>en-US</dc:language>
  <cp:lastModifiedBy>user</cp:lastModifiedBy>
  <dcterms:modified xsi:type="dcterms:W3CDTF">2013-02-05T20:40:50Z</dcterms:modified>
  <cp:revision>15</cp:revision>
  <dc:subject/>
  <dc:title>Идейные истоки и вероучение ислама </dc:title>
</cp:coreProperties>
</file>