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5A23-0682-4D63-B4E3-3F874C059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B3D8-54C2-4908-B83C-06F6AC19C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B62E-088E-44B8-A0A7-7CEE8A9A6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3B0A-7D85-46A3-8762-6F4C00DED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AC3F-2A55-4916-9342-641689C69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976E-08E9-436F-AF02-C9B73F559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A12B-2743-4D0F-B3A5-394038982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6B06-AAB6-4D92-ABE4-BCCDD6E54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378E-D3D4-44D8-9AA4-24DD28F23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A13A-CA8F-4507-A719-59096A108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CDE1-D53E-43E1-9336-93A610744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B4A6-FD35-49D9-A59F-A92CC51EE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5EB5C-9993-4B8A-AA5F-111AD47796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Облачение священнослужителей РП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324480" y="5105160"/>
            <a:ext cx="24386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Учитель истории и обществозн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Максимович Л.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533520"/>
            <a:ext cx="8381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Муниципальное бюджетное образовательное учреждение СОШ №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33720" y="6105600"/>
            <a:ext cx="3429000" cy="7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Г. Бор 2012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Облачение епископа и священ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990720" y="2362320"/>
            <a:ext cx="658944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Одеяние диак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04920" y="1371600"/>
            <a:ext cx="701028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Одеяние священ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11280" y="1557360"/>
            <a:ext cx="3863880" cy="4525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867280" y="1676520"/>
            <a:ext cx="226548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Одеяние еписко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09480" y="1066680"/>
            <a:ext cx="4722840" cy="5291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5670720" y="1371600"/>
            <a:ext cx="3149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Принадлежности богослу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352680" y="1523880"/>
            <a:ext cx="2775240" cy="45259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7162920" y="1143000"/>
            <a:ext cx="1511280" cy="31240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228600" y="4191120"/>
            <a:ext cx="2352600" cy="23526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6858000" y="4495680"/>
            <a:ext cx="2011320" cy="19576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990720" y="1676520"/>
            <a:ext cx="115416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2-22T20:03:48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