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74A-42F0-4C7E-ADB2-98872FE2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23B-B0E4-4B3D-92C2-7967B1D6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42-2AD8-45A1-B653-AEE6D6F1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2A1-CA0B-4328-AF93-01451350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50D-C993-4BF1-AD49-C6C4CA48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DF2-27AE-48C5-9BFF-0C1158E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775-9D88-4BD2-8D37-AF0DA682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98A-F01E-4F50-8380-823AE8A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5D4-7D86-4E05-A648-8573D134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7B6-B8A1-4114-BA29-25E053F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492-92D2-4BB0-9A78-1D05830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EB1-CB35-4CBF-B2AD-8608607D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06E-ED52-49B6-B707-5AA4B543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Облачение священнослужителей РП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480" y="5105160"/>
            <a:ext cx="243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3352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униципальное бюджет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105600"/>
            <a:ext cx="34290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. Бор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лачение епископа и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5894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ди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0102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638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265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епи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4722840" cy="529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70720" y="1371600"/>
            <a:ext cx="314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надлежности богосл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77524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1143000"/>
            <a:ext cx="15112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235260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858000" y="4495680"/>
            <a:ext cx="2011320" cy="19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90720" y="1676520"/>
            <a:ext cx="11541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2T20:0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