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306-EDBF-44FA-A895-2C555537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44E-E2CC-4363-8F15-B147DACB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AE1-D464-45A2-8A2E-643F6268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374-F1C3-4213-A4AD-CD183979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D63-1231-4A5F-BA9A-255158D4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286-5D6A-4CC8-B9FA-FCDAC8F7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083-5CEF-4054-8B2B-135F9835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5F9-A2A3-4329-87E0-088ADEE3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90B-9115-4F7E-9BE8-2D486443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0D-7610-4127-B1DC-8C323B9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B6F-E5F2-4B25-88BE-2E5F9BAB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A37-03E1-48A1-83D8-737273D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35DC-EF44-4EFE-9C6E-A863C1185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организации и управления РП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истории Максимович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СОШ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собенности православных церк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 еди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5 автокефальных(самостоятельных) церквей+2 автоном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опольский патриарх – «первый среди равных»(всел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ы автономных церквей избираются поместными соборами с последующим утверждением их патриархами автокефальных церк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православные церкви не проводят Вселенских(общих) со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ерархический принцип управ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следовательное подчинение низшего духовенства выс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т единого управления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907920"/>
          <a:ext cx="7848720" cy="5553360"/>
        </p:xfrm>
        <a:graphic>
          <a:graphicData uri="http://schemas.openxmlformats.org/drawingml/2006/table">
            <a:tbl>
              <a:tblPr/>
              <a:tblGrid>
                <a:gridCol w="3960720"/>
                <a:gridCol w="388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 автокефал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автоном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инопо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ий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охийская (Сирия, Лива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усалим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и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б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га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п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ладская (гре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ба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мы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ословац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ерикан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рганизация автокефа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5167440"/>
        </p:xfrm>
        <a:graphic>
          <a:graphicData uri="http://schemas.openxmlformats.org/drawingml/2006/table">
            <a:tbl>
              <a:tblPr/>
              <a:tblGrid>
                <a:gridCol w="2243160"/>
                <a:gridCol w="3243240"/>
                <a:gridCol w="27432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щие принц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собенности РП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дминистративное устройств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рхаты, епархии(округа, приходы –православные общины), викариа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ругих православных церквях - благочиния, мисси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 экзарха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Украинский, Западной Европы, Средней Европы, Центральной и Южной Америки) +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76 епарх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России и за рубежом)+11 викариа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Автокефалия: Патриарх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рхиепископы, митрополиты) – избираются поместными соборами пожизнен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инод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 управления припаттриарх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Экзархаты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р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Епархия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архиальные архиер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Патриарх, син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6 постоянных членов, 3 – непостоянны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оды управляются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церковными советами –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ираются на общих собраниях верующ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ерархия церковнослуж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11280" y="2060280"/>
            <a:ext cx="5991120" cy="3672000"/>
            <a:chOff x="611280" y="2060280"/>
            <a:chExt cx="5991120" cy="3672000"/>
          </a:xfrm>
        </p:grpSpPr>
        <p:sp>
          <p:nvSpPr>
            <p:cNvPr id="56" name="_s34824"/>
            <p:cNvSpPr/>
            <p:nvPr/>
          </p:nvSpPr>
          <p:spPr>
            <a:xfrm flipV="1">
              <a:off x="3952800" y="2059920"/>
              <a:ext cx="1058760" cy="91764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29040 h 917640"/>
                <a:gd name="textAreaBottom" fmla="*/ 58860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4f3f4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рхиере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4827"/>
            <p:cNvSpPr/>
            <p:nvPr/>
          </p:nvSpPr>
          <p:spPr>
            <a:xfrm flipV="1">
              <a:off x="3422520" y="2977560"/>
              <a:ext cx="2119320" cy="91908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01960 h 919080"/>
                <a:gd name="textAreaBottom" fmla="*/ 71712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d7edef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ященн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вященство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есвитер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4825"/>
            <p:cNvSpPr/>
            <p:nvPr/>
          </p:nvSpPr>
          <p:spPr>
            <a:xfrm flipV="1">
              <a:off x="2892600" y="3896640"/>
              <a:ext cx="3179520" cy="917640"/>
            </a:xfrm>
            <a:custGeom>
              <a:avLst/>
              <a:gdLst>
                <a:gd name="textAreaLeft" fmla="*/ 551880 w 3179520"/>
                <a:gd name="textAreaRight" fmla="*/ 2627640 w 3179520"/>
                <a:gd name="textAreaTop" fmla="*/ 159120 h 917640"/>
                <a:gd name="textAreaBottom" fmla="*/ 75852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9e6e9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иако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4826"/>
            <p:cNvSpPr/>
            <p:nvPr/>
          </p:nvSpPr>
          <p:spPr>
            <a:xfrm flipV="1">
              <a:off x="2362320" y="4814280"/>
              <a:ext cx="4240080" cy="91764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37880 h 917640"/>
                <a:gd name="textAreaBottom" fmla="*/ 77976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4b59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подиакон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саломщики, пономар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bRRectCallout"/>
            <p:cNvSpPr/>
            <p:nvPr/>
          </p:nvSpPr>
          <p:spPr>
            <a:xfrm>
              <a:off x="611280" y="2133720"/>
              <a:ext cx="1828800" cy="1523880"/>
            </a:xfrm>
            <a:custGeom>
              <a:avLst/>
              <a:gdLst>
                <a:gd name="textAreaLeft" fmla="*/ 12240 w 1828800"/>
                <a:gd name="textAreaRight" fmla="*/ 1812960 w 1828800"/>
                <a:gd name="textAreaTop" fmla="*/ 10080 h 1523880"/>
                <a:gd name="textAreaBottom" fmla="*/ 12070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2" y="0"/>
                  </a:moveTo>
                  <a:arcTo wR="532" hR="532" stAng="16200000" swAng="-5400000"/>
                  <a:lnTo>
                    <a:pt x="0" y="16745"/>
                  </a:lnTo>
                  <a:arcTo wR="532" hR="532" stAng="10800000" swAng="-5400000"/>
                  <a:lnTo>
                    <a:pt x="2623" y="17277"/>
                  </a:lnTo>
                  <a:lnTo>
                    <a:pt x="8607" y="21600"/>
                  </a:lnTo>
                  <a:lnTo>
                    <a:pt x="6515" y="17277"/>
                  </a:lnTo>
                  <a:lnTo>
                    <a:pt x="21016" y="17277"/>
                  </a:lnTo>
                  <a:arcTo wR="584" hR="532" stAng="5400000" swAng="-5400000"/>
                  <a:lnTo>
                    <a:pt x="21600" y="532"/>
                  </a:lnTo>
                  <a:arcTo wR="584" hR="532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вященнослуж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484360" y="1989000"/>
            <a:ext cx="719280" cy="2808360"/>
          </a:xfrm>
          <a:custGeom>
            <a:avLst/>
            <a:gdLst>
              <a:gd name="textAreaLeft" fmla="*/ 459720 w 719280"/>
              <a:gd name="textAreaRight" fmla="*/ 719640 w 719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1"/>
                  <a:pt x="10800" y="1802"/>
                </a:cubicBezTo>
                <a:lnTo>
                  <a:pt x="10800" y="8998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1"/>
                  <a:pt x="10800" y="12602"/>
                </a:cubicBezTo>
                <a:lnTo>
                  <a:pt x="10800" y="19798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RRectCallout"/>
          <p:cNvSpPr/>
          <p:nvPr/>
        </p:nvSpPr>
        <p:spPr>
          <a:xfrm>
            <a:off x="611280" y="4508640"/>
            <a:ext cx="1828800" cy="152388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зшие служебные дол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ерархия православного духо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600200"/>
          <a:ext cx="8785440" cy="3808440"/>
        </p:xfrm>
        <a:graphic>
          <a:graphicData uri="http://schemas.openxmlformats.org/drawingml/2006/table">
            <a:tbl>
              <a:tblPr/>
              <a:tblGrid>
                <a:gridCol w="2198880"/>
                <a:gridCol w="1833480"/>
                <a:gridCol w="1994040"/>
                <a:gridCol w="27590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епени свящ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вященнослужител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«Бело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женатое) духо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«Черное» (монашествующее) духо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яза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ере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риар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еписк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роп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вершают все таинства и церковные служб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свящать(рукополагать) в священнослужители, освящать ми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пресви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и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ей(священни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манд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у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ом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вершают таинства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священства и освящения мира)</a:t>
                      </a:r>
                      <a:r>
                        <a:rPr b="0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и церковные служб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благословления  архиерее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ероди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 епископу или священнику при богослужении и совершении таинств, сами совершать их не мог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вященнослужите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рез таинства священства получают благодать Святого Духа для священного служения Церкви (совершать богослужения, учить людей христианской вере и доброй жизни, управлять церковными дела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479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изшие служебные дол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5280" y="1844640"/>
          <a:ext cx="8353440" cy="3960720"/>
        </p:xfrm>
        <a:graphic>
          <a:graphicData uri="http://schemas.openxmlformats.org/drawingml/2006/table">
            <a:tbl>
              <a:tblPr/>
              <a:tblGrid>
                <a:gridCol w="2671920"/>
                <a:gridCol w="56815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подиак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т только в архиерейском богослужении(облачают архиерея в священные одежды, держат светильники, подают их архиере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аломщики (дьяч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ть  и петь при богослужении , совершении духовных треб в домах прихож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ом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ывают верующих к богослужению колокольным звоном, возжигают свечи в храме, подают кадило, помогают псаломщикам в чтении и п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54:24Z</dcterms:created>
  <dc:creator>папа</dc:creator>
  <dc:description/>
  <dc:language>en-US</dc:language>
  <cp:lastModifiedBy>user</cp:lastModifiedBy>
  <dcterms:modified xsi:type="dcterms:W3CDTF">2012-02-22T07:48:57Z</dcterms:modified>
  <cp:revision>21</cp:revision>
  <dc:subject/>
  <dc:title>Слайд 1</dc:title>
</cp:coreProperties>
</file>