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A816-97B7-42AF-8061-C08CB1945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837E-CD85-4A9C-B9E8-A6888D4C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CF6F-F169-4E6A-A507-96E7FA58D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4639-A904-4923-B36B-277A4B7E5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CB30-696B-40A0-8674-9F3B193F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D6AE-011C-478D-BD49-A23734E7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1C5B-6C67-4426-B23F-8B2DBA72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08CF-CB21-48D2-8EB4-111CFE78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06A2-442F-42E9-8457-D3500F9C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6BD2-E58E-4B16-8D83-FF775509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3302-2782-4FE2-89FF-1A17E184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5E47-BC8A-4390-97B5-0480CB01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F272-9AE8-47E2-B0A4-0798C052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A7F8-8C4B-485F-9F59-CFF7443D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F493-B4FC-4671-B67C-DB1C0E5A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F0C4-BE13-47C7-87A5-ABD5A38B9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2C8A-1406-47FF-BFDD-F9AB90FF4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4DB6-0630-455F-A624-D896804B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D425-D6E8-4BAF-8572-D148A140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F9D6-0E71-4E0D-B85F-C7ECD7EE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BEEF-0AF5-4494-B329-6C2D47C3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AA9F-B511-4485-9A16-E053FAD8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C732-9841-43F3-936C-BECE954D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AE89-44B4-4261-9CFB-A42796EF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C4F6-5146-4291-931C-9B31995794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2BBB-A33A-4D71-BD49-58B560051A6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42960" y="3786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«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ТАПЫ ИСТОРИИ РУССКОЙ ПРАВОСЛАВНОЙ ЦЕРКВИ. 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ериод 988 – 1448 гг.                                                                                                               Автокефалия Русской православной церкви 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1448 – 1589 гг.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ловарная работ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2876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естяжател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оронники Нила Сорского, считавшего, что авторитет церкви должен подниматься только путем строгого исполнения правил и обрядов, строго образа жизни без излишества. Осуждение стяжения церковью богатств, владение землями.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осифлян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торонники игумена Волоцкого монастыря Иосифа, который настаивал на необходимости для церкви иметь большие материальные сред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143280" y="-360"/>
            <a:ext cx="9286920" cy="79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Учреждение патриаршества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Содержимое 3" descr=""/>
          <p:cNvPicPr/>
          <p:nvPr/>
        </p:nvPicPr>
        <p:blipFill>
          <a:blip r:embed="rId1"/>
          <a:stretch/>
        </p:blipFill>
        <p:spPr>
          <a:xfrm>
            <a:off x="1714680" y="714240"/>
            <a:ext cx="5715000" cy="61437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ДОМАШНЕЕ ЗАДАНИЕ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Содержимое 3" descr=""/>
          <p:cNvPicPr/>
          <p:nvPr/>
        </p:nvPicPr>
        <p:blipFill>
          <a:blip r:embed="rId1"/>
          <a:stretch/>
        </p:blipFill>
        <p:spPr>
          <a:xfrm>
            <a:off x="0" y="642960"/>
            <a:ext cx="3357720" cy="314316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4" descr=""/>
          <p:cNvPicPr/>
          <p:nvPr/>
        </p:nvPicPr>
        <p:blipFill>
          <a:blip r:embed="rId2"/>
          <a:stretch/>
        </p:blipFill>
        <p:spPr>
          <a:xfrm>
            <a:off x="0" y="3938760"/>
            <a:ext cx="2357280" cy="291924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5" descr=""/>
          <p:cNvPicPr/>
          <p:nvPr/>
        </p:nvPicPr>
        <p:blipFill>
          <a:blip r:embed="rId3"/>
          <a:stretch/>
        </p:blipFill>
        <p:spPr>
          <a:xfrm>
            <a:off x="2786040" y="4143240"/>
            <a:ext cx="2214720" cy="271476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6" descr=""/>
          <p:cNvPicPr/>
          <p:nvPr/>
        </p:nvPicPr>
        <p:blipFill>
          <a:blip r:embed="rId4"/>
          <a:stretch/>
        </p:blipFill>
        <p:spPr>
          <a:xfrm>
            <a:off x="3429000" y="642960"/>
            <a:ext cx="5500800" cy="314316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7" descr=""/>
          <p:cNvPicPr/>
          <p:nvPr/>
        </p:nvPicPr>
        <p:blipFill>
          <a:blip r:embed="rId5"/>
          <a:stretch/>
        </p:blipFill>
        <p:spPr>
          <a:xfrm>
            <a:off x="5286240" y="3857760"/>
            <a:ext cx="2857680" cy="30002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учить записи в тетради;                                                                                                                     подготовить индивидуальные опережающие задании(Приложение №3) – сообщения о Гермогене, Дионисии,  Никоне, Аввакуме;                                                                                                                                    причины польско-шведской интервенции в начале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VI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ПЛАН УРО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«Основные периоды русской церковной истории» .                                                                                                                                                                       2. «Крещение Руси» .                                                                                                                                                                                                    3. «РПЦ во времена монголо-татарского ига».                                                                                             4. «Становление автокефалии РПЦ».                                                                                                                  5. «Москва – Третий Рим».                                                                                                                                  6. Иосифляне и нестяжатели.                                                                                                                         7. Учреждение патриарше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сновные периоды русской церковной истории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000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988-1448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г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– Русская православная церковь в юрисдикции Константинопольского патриарх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1448-1589г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– автокефалия Русской митропол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1589г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начало 18 век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патриарше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ачало 18 века – 1917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– синодальный пери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1917- 1988 гг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Русская православная церковь в условиях атеистического государ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 1988 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– до наших дн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Выбор веры.wmv" descr=""/>
          <p:cNvPicPr/>
          <p:nvPr/>
        </p:nvPicPr>
        <p:blipFill>
          <a:blip r:embed="rId1"/>
          <a:stretch/>
        </p:blipFill>
        <p:spPr>
          <a:xfrm>
            <a:off x="500040" y="357120"/>
            <a:ext cx="8001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8760" y="-142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ергий Радонежск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Содержимое 3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60008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Становление автокефалии РПЦ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42560" y="1428480"/>
            <a:ext cx="8643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ловарная работа:                                                             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автокефал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зависимость, самоуправление православных церкве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;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митрополит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равославной церкви глава крупнейшей епархии, подчиняется непосредственно патриарх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;                                                                                     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епарх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ая церковно-административная территориальная единиц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;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атриарх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востоятель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ысший священноначальник (архиерей) стра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143400" y="571320"/>
            <a:ext cx="2571480" cy="3500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Задание:</a:t>
            </a:r>
            <a:br>
              <a:rPr sz="1600"/>
            </a:br>
            <a:r>
              <a:rPr b="1" lang="ru-RU" sz="1600" spc="-1" strike="noStrike">
                <a:solidFill>
                  <a:srgbClr val="ccecff"/>
                </a:solidFill>
                <a:latin typeface="Arial"/>
              </a:rPr>
              <a:t> «Заметки на полях». Прочитайте документ (Приложение №1) и выполните предложенное задание.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ccecff"/>
                </a:solidFill>
                <a:latin typeface="Arial"/>
              </a:rPr>
              <a:t>«+» -узнал новое.   </a:t>
            </a:r>
            <a:br>
              <a:rPr sz="1600"/>
            </a:br>
            <a:r>
              <a:rPr b="0" lang="ru-RU" sz="1600" spc="-1" strike="noStrike">
                <a:solidFill>
                  <a:srgbClr val="ccecff"/>
                </a:solidFill>
                <a:latin typeface="Arial"/>
              </a:rPr>
              <a:t> «!» - думал иначе .       </a:t>
            </a:r>
            <a:br>
              <a:rPr sz="1600"/>
            </a:br>
            <a:r>
              <a:rPr b="0" lang="ru-RU" sz="1600" spc="-1" strike="noStrike">
                <a:solidFill>
                  <a:srgbClr val="ccecff"/>
                </a:solidFill>
                <a:latin typeface="Arial"/>
              </a:rPr>
              <a:t>«?» - требуется дополнительное разъяснение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«</a:t>
            </a: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ccecff"/>
                </a:solidFill>
                <a:latin typeface="Arial"/>
              </a:rPr>
              <a:t>» - не совсем согласен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500076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естяжатели и иосифлян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Содержимое 3" descr=""/>
          <p:cNvPicPr/>
          <p:nvPr/>
        </p:nvPicPr>
        <p:blipFill>
          <a:blip r:embed="rId1"/>
          <a:stretch/>
        </p:blipFill>
        <p:spPr>
          <a:xfrm>
            <a:off x="2286000" y="928800"/>
            <a:ext cx="4071960" cy="57150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3:00:05Z</dcterms:created>
  <dc:creator>Валерия</dc:creator>
  <dc:description/>
  <dc:language>en-US</dc:language>
  <cp:lastModifiedBy>Admin</cp:lastModifiedBy>
  <dcterms:modified xsi:type="dcterms:W3CDTF">2012-02-13T13:10:46Z</dcterms:modified>
  <cp:revision>9</cp:revision>
  <dc:subject/>
  <dc:title>«ЭТАПЫ ИСТОРИИ РУССКОЙ ПРАВОСЛАВНОЙ ЦЕРКВИ.  Период 988 – 1448 гг.                                                                                                               Автокефалия Русской православной церкви  1448 – 1589 гг.»</dc:title>
</cp:coreProperties>
</file>