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DD6-8354-47CA-A450-491FEEB4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481-B5E9-4E45-BF49-ED51B48B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0F4-24CA-4DD5-BA0B-8C3882AF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4CD-C3EC-4D0F-8537-14ACEF66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7096-6510-4837-AF15-F5E1F834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421A-8C72-414B-AF8B-1D80F4E8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9AD7-5428-41A3-88C3-7725C980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2AD0-94DB-41B5-AEC2-6BDC748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3875-0D4B-4654-9AB5-FFAFA145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4CFE-8EB8-4FCD-843E-822AA1C8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A17B-0D59-4579-8E19-1B86B312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4EC-0141-4EAE-8582-B59632E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F3A3-6DCA-4B25-8DE5-EB3FB612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883A-E4CB-4725-A121-7CEE5ABB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5EE6-94AA-47BC-95B6-9053E841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8209-DA4B-49DF-9A9F-35C52C6D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B558-AF3C-4226-9ED3-338F3D14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41E-3E7B-4393-8926-44070FDE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E37-5D50-44C2-A9A8-A2891894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445-9322-491E-8219-7D54FE06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FE4-8A70-4B98-A53B-8537A033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486-BAB8-4BF5-8CB1-83B1CD0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AE0-9A23-44A1-8A1A-538EDAE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15A-9060-45AE-AEBF-DF002BE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DD71-3CB3-479B-BE7E-2A59FBFF27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77D1-DB59-4FF7-AE2D-3771CF7EF2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3786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ТАПЫ ИСТОРИИ РУССКОЙ ПРАВОСЛАВНОЙ ЦЕРКВИ.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иод 988 – 1448 гг.                                                                                                               Автокефалия Русской православной церкви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448 – 1589 гг.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ловар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тяжате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ники Нила Сорского, считавшего, что авторитет церкви должен подниматься только путем строгого исполнения правил и обрядов, строго образа жизни без излишества. Осуждение стяжения церковью богатств, владение землями.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осифл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оронники игумена Волоцкого монастыря Иосифа, который настаивал на необходимости для церкви иметь большие материальные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28692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Учреждение патриаршеств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tretch/>
        </p:blipFill>
        <p:spPr>
          <a:xfrm>
            <a:off x="1714680" y="714240"/>
            <a:ext cx="5715000" cy="6143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Содержимое 3" descr=""/>
          <p:cNvPicPr/>
          <p:nvPr/>
        </p:nvPicPr>
        <p:blipFill>
          <a:blip r:embed="rId1"/>
          <a:stretch/>
        </p:blipFill>
        <p:spPr>
          <a:xfrm>
            <a:off x="0" y="642960"/>
            <a:ext cx="3357720" cy="31431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"/>
          <p:cNvPicPr/>
          <p:nvPr/>
        </p:nvPicPr>
        <p:blipFill>
          <a:blip r:embed="rId2"/>
          <a:stretch/>
        </p:blipFill>
        <p:spPr>
          <a:xfrm>
            <a:off x="0" y="3938760"/>
            <a:ext cx="2357280" cy="2919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3"/>
          <a:stretch/>
        </p:blipFill>
        <p:spPr>
          <a:xfrm>
            <a:off x="2786040" y="4143240"/>
            <a:ext cx="2214720" cy="27147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6" descr=""/>
          <p:cNvPicPr/>
          <p:nvPr/>
        </p:nvPicPr>
        <p:blipFill>
          <a:blip r:embed="rId4"/>
          <a:stretch/>
        </p:blipFill>
        <p:spPr>
          <a:xfrm>
            <a:off x="3429000" y="642960"/>
            <a:ext cx="5500800" cy="31431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"/>
          <p:cNvPicPr/>
          <p:nvPr/>
        </p:nvPicPr>
        <p:blipFill>
          <a:blip r:embed="rId5"/>
          <a:stretch/>
        </p:blipFill>
        <p:spPr>
          <a:xfrm>
            <a:off x="5286240" y="3857760"/>
            <a:ext cx="2857680" cy="3000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учить записи в тетради;                                                                                                                     подготовить индивидуальные опережающие задании(Приложение №3) – сообщения о Гермогене, Дионисии,  Никоне, Аввакуме;                                                                                                                                    причины польско-шведской интервенции в нача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«Основные периоды русской церковной истории» .                                                                                                                                                                       2. «Крещение Руси» .                                                                                                                                                                                                    3. «РПЦ во времена монголо-татарского ига».                                                                                             4. «Становление автокефалии РПЦ».                                                                                                                  5. «Москва – Третий Рим».                                                                                                                                  6. Иосифляне и нестяжатели.                                                                                                                         7. Учреждение патриарш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периоды русской церковной истории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988-1448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Русская православная церковь в юрисдикции Константинопольского патриар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448-1589г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автокефалия Русской митропо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589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начало 18 ве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патриарш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чало 18 века – 1917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синодальный пери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917- 1988 гг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Русская православная церковь в условиях атеистиче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988 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до наших д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Выбор веры.wmv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-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ергий Радонеж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тановление автокефалии РПЦ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42560" y="142848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варная работа:                              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втокефал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висимость, самоуправление православных церкв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трополи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авославной церкви глава крупнейшей епархии, подчиняется непосредственно патриарх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парх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церковно-административная территориальная единиц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триар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стоятель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сший священноначальник (архиерей)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43400" y="571320"/>
            <a:ext cx="2571480" cy="350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адание:</a:t>
            </a:r>
            <a:br>
              <a:rPr sz="1600"/>
            </a:b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«Заметки на полях». Прочитайте документ (Приложение №1) и выполните предложенное задание.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«+» -узнал новое.  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 «!» - думал иначе .      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«?» - требуется дополнительное разъяснение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«</a:t>
            </a: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» - не совсем согласен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стяжатели и иосифля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2286000" y="92880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3:00:05Z</dcterms:created>
  <dc:creator>Валерия</dc:creator>
  <dc:description/>
  <dc:language>en-US</dc:language>
  <cp:lastModifiedBy>Admin</cp:lastModifiedBy>
  <dcterms:modified xsi:type="dcterms:W3CDTF">2012-02-13T13:10:46Z</dcterms:modified>
  <cp:revision>9</cp:revision>
  <dc:subject/>
  <dc:title>«ЭТАПЫ ИСТОРИИ РУССКОЙ ПРАВОСЛАВНОЙ ЦЕРКВИ.  Период 988 – 1448 гг.                                                                                                               Автокефалия Русской православной церкви  1448 – 1589 гг.»</dc:title>
</cp:coreProperties>
</file>