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6AB-BB76-49E2-9532-56417ADC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307-3C4D-47B2-8208-68633932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766-AFB3-4B40-B23C-34F0F38F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E7E-0D5B-4D84-8F13-CB542159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390-D96E-4BC7-9832-2059E7F4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EEF3-33C2-4786-9748-2A22B348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A1B-CCDD-4453-9BB2-F15496F8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A28C-93E3-4C85-9B58-97F4A01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1ABC-1F15-407D-8BE0-60ABA21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37E8-2312-41B0-8A94-052C0629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32BC-4F85-493D-8AFF-2A5BF9E3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55A8-AC5B-4198-85EB-BA9D908D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336B-2E24-4E74-9A3A-371F7C8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E38D-024E-4B7B-9132-CA400CEF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436D-82A5-460F-9D89-2144A907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EE8-D8C8-4F91-8766-CE64FBBE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0025-4C06-4E31-9D9F-4832397A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D17-1ABF-4CE3-B04D-5C3621FD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342-8E12-43F6-9FDD-46BDFBC6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F42-3528-4DAD-8D6A-ACF88385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DCC-E78D-4A31-9D3F-C7861259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457-51F3-4DDF-917A-02B6132C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868B-C091-4CB4-BD41-F5C145F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819-8B8C-4150-BEA3-BC38306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6B78-0A89-44DB-94C1-AF91A1AC6A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EF7F-4484-4CCC-ABCE-B93CA104A2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2960" y="3786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ТАПЫ ИСТОРИИ РУССКОЙ ПРАВОСЛАВНОЙ ЦЕРКВИ.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риод 988 – 1448 гг.                                                                                                               Автокефалия Русской православной церкви 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1448 – 1589 гг.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ловарная работ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стяжател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ники Нила Сорского, считавшего, что авторитет церкви должен подниматься только путем строгого исполнения правил и обрядов, строго образа жизни без излишества. Осуждение стяжения церковью богатств, владение землями.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осифлян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торонники игумена Волоцкого монастыря Иосифа, который настаивал на необходимости для церкви иметь большие материальные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143280" y="-360"/>
            <a:ext cx="928692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Учреждение патриаршеств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Содержимое 3" descr=""/>
          <p:cNvPicPr/>
          <p:nvPr/>
        </p:nvPicPr>
        <p:blipFill>
          <a:blip r:embed="rId1"/>
          <a:stretch/>
        </p:blipFill>
        <p:spPr>
          <a:xfrm>
            <a:off x="1714680" y="714240"/>
            <a:ext cx="5715000" cy="61437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3" name="Содержимое 3" descr=""/>
          <p:cNvPicPr/>
          <p:nvPr/>
        </p:nvPicPr>
        <p:blipFill>
          <a:blip r:embed="rId1"/>
          <a:stretch/>
        </p:blipFill>
        <p:spPr>
          <a:xfrm>
            <a:off x="0" y="642960"/>
            <a:ext cx="3357720" cy="31431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"/>
          <p:cNvPicPr/>
          <p:nvPr/>
        </p:nvPicPr>
        <p:blipFill>
          <a:blip r:embed="rId2"/>
          <a:stretch/>
        </p:blipFill>
        <p:spPr>
          <a:xfrm>
            <a:off x="0" y="3938760"/>
            <a:ext cx="2357280" cy="2919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5" descr=""/>
          <p:cNvPicPr/>
          <p:nvPr/>
        </p:nvPicPr>
        <p:blipFill>
          <a:blip r:embed="rId3"/>
          <a:stretch/>
        </p:blipFill>
        <p:spPr>
          <a:xfrm>
            <a:off x="2786040" y="414324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6" descr=""/>
          <p:cNvPicPr/>
          <p:nvPr/>
        </p:nvPicPr>
        <p:blipFill>
          <a:blip r:embed="rId4"/>
          <a:stretch/>
        </p:blipFill>
        <p:spPr>
          <a:xfrm>
            <a:off x="3429000" y="642960"/>
            <a:ext cx="550080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"/>
          <p:cNvPicPr/>
          <p:nvPr/>
        </p:nvPicPr>
        <p:blipFill>
          <a:blip r:embed="rId5"/>
          <a:stretch/>
        </p:blipFill>
        <p:spPr>
          <a:xfrm>
            <a:off x="5286240" y="3857760"/>
            <a:ext cx="2857680" cy="3000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учить записи в тетради;                                                                                                                     подготовить индивидуальные опережающие задании(Приложение №3) – сообщения о Гермогене, Дионисии,  Никоне, Аввакуме;                                                                                                                                    причины польско-шведской интервенции в начал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«Основные периоды русской церковной истории» .                                                                                                                                                                       2. «Крещение Руси» .                                                                                                                                                                                                    3. «РПЦ во времена монголо-татарского ига».                                                                                             4. «Становление автокефалии РПЦ».                                                                                                                  5. «Москва – Третий Рим».                                                                                                                                  6. Иосифляне и нестяжатели.                                                                                                                         7. Учреждение патриарш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новные периоды русской церковной истории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000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988-1448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Русская православная церковь в юрисдикции Константинопольского патриарх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448-1589г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автокефалия Русской митропо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589г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– начало 18 ве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патриарш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чало 18 века – 1917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синодальный пери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917- 1988 гг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Русская православная церковь в условиях атеистиче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 1988 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– до наших дн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Выбор веры.wmv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-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ергий Радонежски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тановление автокефалии РПЦ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42560" y="142848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варная работа: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втокефал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висимость, самоуправление православных церкв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трополит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авославной церкви глава крупнейшей епархии, подчиняется непосредственно патриарх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пархия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ая церковно-административная территориальная единиц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;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триар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востоятель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сший священноначальник (архиерей)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143400" y="571320"/>
            <a:ext cx="2571480" cy="3500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Задание:</a:t>
            </a:r>
            <a:br>
              <a:rPr sz="1600"/>
            </a:br>
            <a:r>
              <a:rPr b="1" lang="ru-RU" sz="1600" spc="-1" strike="noStrike">
                <a:solidFill>
                  <a:srgbClr val="ccecff"/>
                </a:solidFill>
                <a:latin typeface="Arial"/>
              </a:rPr>
              <a:t> «Заметки на полях». Прочитайте документ (Приложение №1) и выполните предложенное задание.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+» -узнал новое.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 «!» - думал иначе .       </a:t>
            </a:r>
            <a:br>
              <a:rPr sz="1600"/>
            </a:b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«?» - требуется дополнительное разъяснение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«</a:t>
            </a: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ccecff"/>
                </a:solidFill>
                <a:latin typeface="Arial"/>
              </a:rPr>
              <a:t>» - не совсем согласен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5" name="Содержимое 3" descr=""/>
          <p:cNvPicPr/>
          <p:nvPr/>
        </p:nvPicPr>
        <p:blipFill>
          <a:blip r:embed="rId1"/>
          <a:stretch/>
        </p:blipFill>
        <p:spPr>
          <a:xfrm>
            <a:off x="0" y="0"/>
            <a:ext cx="500076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стяжатели и иосифля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Содержимое 3" descr=""/>
          <p:cNvPicPr/>
          <p:nvPr/>
        </p:nvPicPr>
        <p:blipFill>
          <a:blip r:embed="rId1"/>
          <a:stretch/>
        </p:blipFill>
        <p:spPr>
          <a:xfrm>
            <a:off x="2286000" y="928800"/>
            <a:ext cx="40719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3:00:05Z</dcterms:created>
  <dc:creator>Валерия</dc:creator>
  <dc:description/>
  <dc:language>en-US</dc:language>
  <cp:lastModifiedBy>Admin</cp:lastModifiedBy>
  <dcterms:modified xsi:type="dcterms:W3CDTF">2012-02-13T13:10:46Z</dcterms:modified>
  <cp:revision>9</cp:revision>
  <dc:subject/>
  <dc:title>«ЭТАПЫ ИСТОРИИ РУССКОЙ ПРАВОСЛАВНОЙ ЦЕРКВИ.  Период 988 – 1448 гг.                                                                                                               Автокефалия Русской православной церкви  1448 – 1589 гг.»</dc:title>
</cp:coreProperties>
</file>