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DEFD5-FA31-4BC3-ABAA-790B91DE7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031AD-A892-46B3-8739-406E2A6D6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FF707-E2F8-48DF-8D8B-C6383F691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76E4F-C833-448A-A288-8EB1DEEF3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1FBAB-72A7-4CE2-85A8-A87A6DA7A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59491-4E4C-4E37-B97E-CD3C9DBD2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25BF6-1573-4C58-B515-40AE6B638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2A843-42EE-42FA-9FE1-C6682DD81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6E6BB-659C-4E4F-9E71-ACBB8E7B3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C7D96-95BE-4714-A88E-57155530C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47EFC-E15B-4294-9B95-337DA8DC3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2A0BE-B85B-47F4-9E07-FE50310F2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22535-E292-42D6-B8FB-AB12D17373B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&#1074;-1.docx" TargetMode="External"/><Relationship Id="rId2" Type="http://schemas.openxmlformats.org/officeDocument/2006/relationships/hyperlink" Target="file:///&#1074;-4.docx" TargetMode="External"/><Relationship Id="rId3" Type="http://schemas.openxmlformats.org/officeDocument/2006/relationships/hyperlink" Target="file:///&#1074;-7.docx" TargetMode="External"/><Relationship Id="rId4" Type="http://schemas.openxmlformats.org/officeDocument/2006/relationships/hyperlink" Target="file:///&#1074;-10.docx" TargetMode="External"/><Relationship Id="rId5" Type="http://schemas.openxmlformats.org/officeDocument/2006/relationships/hyperlink" Target="file:///&#1074;-2.docx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&amp;Kcy;&amp;ucy;&amp;pcy;&amp;ocy;&amp;lcy;&amp;acy;"/>
          <p:cNvPicPr/>
          <p:nvPr/>
        </p:nvPicPr>
        <p:blipFill>
          <a:blip r:embed="rId1"/>
          <a:stretch/>
        </p:blipFill>
        <p:spPr>
          <a:xfrm>
            <a:off x="-22320" y="0"/>
            <a:ext cx="91663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714560" y="428760"/>
            <a:ext cx="4429080" cy="3171600"/>
          </a:xfrm>
          <a:prstGeom prst="rect">
            <a:avLst/>
          </a:prstGeom>
          <a:noFill/>
          <a:ln w="0">
            <a:noFill/>
          </a:ln>
          <a:effectLst>
            <a:outerShdw dist="50760" dir="5400000" blurRad="0" rotWithShape="0">
              <a:srgbClr val="1f497d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  <a:ea typeface="Arial"/>
              </a:rPr>
              <a:t>Игра </a:t>
            </a:r>
            <a:br>
              <a:rPr sz="4400"/>
            </a:br>
            <a:r>
              <a:rPr b="1" lang="ru-RU" sz="4400" spc="-1" strike="noStrike">
                <a:solidFill>
                  <a:srgbClr val="ffffff"/>
                </a:solidFill>
                <a:latin typeface="Arial"/>
                <a:ea typeface="Arial"/>
              </a:rPr>
              <a:t>Двунадесятые праздни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357440" y="4500720"/>
            <a:ext cx="4500360" cy="2038320"/>
          </a:xfrm>
          <a:prstGeom prst="rect">
            <a:avLst/>
          </a:prstGeom>
          <a:noFill/>
          <a:ln w="0">
            <a:noFill/>
          </a:ln>
          <a:effectLst>
            <a:outerShdw dist="50760" dir="5400000" blurRad="0" rotWithShape="0">
              <a:srgbClr val="000000"/>
            </a:outerShdw>
          </a:effectLst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 Black"/>
              </a:rPr>
              <a:t>Выполнил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 Black"/>
              </a:rPr>
              <a:t>Учитель МОУ ООШ №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 Black"/>
              </a:rPr>
              <a:t>г. Бор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 Black"/>
              </a:rPr>
              <a:t>Саблукова Е.В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 Black"/>
              </a:rPr>
              <a:t>г. Бор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 Black"/>
              </a:rPr>
              <a:t>20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500040" y="428760"/>
          <a:ext cx="8215200" cy="6072120"/>
        </p:xfrm>
        <a:graphic>
          <a:graphicData uri="http://schemas.openxmlformats.org/drawingml/2006/table">
            <a:tbl>
              <a:tblPr/>
              <a:tblGrid>
                <a:gridCol w="2054160"/>
                <a:gridCol w="2054160"/>
                <a:gridCol w="2052720"/>
                <a:gridCol w="2054160"/>
              </a:tblGrid>
              <a:tr h="2023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6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1"/>
                        </a:rPr>
                        <a:t>1</a:t>
                      </a:r>
                      <a:endParaRPr b="0" lang="en-US" sz="9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6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2"/>
                        </a:rPr>
                        <a:t>4</a:t>
                      </a:r>
                      <a:endParaRPr b="0" lang="en-US" sz="9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6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3"/>
                        </a:rPr>
                        <a:t>7</a:t>
                      </a:r>
                      <a:endParaRPr b="0" lang="en-US" sz="9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6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4"/>
                        </a:rPr>
                        <a:t>10</a:t>
                      </a:r>
                      <a:endParaRPr b="0" lang="en-US" sz="9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2023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6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5"/>
                        </a:rPr>
                        <a:t>2</a:t>
                      </a:r>
                      <a:endParaRPr b="0" lang="en-US" sz="9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6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5</a:t>
                      </a:r>
                      <a:endParaRPr b="0" lang="en-US" sz="9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6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8</a:t>
                      </a:r>
                      <a:endParaRPr b="0" lang="en-US" sz="9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6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11</a:t>
                      </a:r>
                      <a:endParaRPr b="0" lang="en-US" sz="9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02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6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3</a:t>
                      </a:r>
                      <a:endParaRPr b="0" lang="en-US" sz="9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6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6</a:t>
                      </a:r>
                      <a:endParaRPr b="0" lang="en-US" sz="9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6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9</a:t>
                      </a:r>
                      <a:endParaRPr b="0" lang="en-US" sz="9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6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12</a:t>
                      </a:r>
                      <a:endParaRPr b="0" lang="en-US" sz="9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3-07-10T08:29:52Z</dcterms:modified>
  <cp:revision>10</cp:revision>
  <dc:subject/>
  <dc:title>Игра  двунадесятые праздники</dc:title>
</cp:coreProperties>
</file>