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5CEC-B4C1-4589-97B4-A3535963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A80-19DA-4364-AFCC-4E0CE133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90F-B75F-4289-A3E6-1D408688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247-17CF-45A7-8356-E7589FA8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A6E-025B-42E7-AFC7-9595FFDC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478-5771-463B-93D3-D0628E49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8B9-AC76-4098-B17E-34A3E2AD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D28-AEE1-4808-AE2B-5A3675D9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462-FEAE-4529-BD81-DD271BF1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D6B-A36C-4611-892F-62F5F258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2FC-32B4-41D8-AC4B-953297E7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42B-E0AD-45E2-A9A8-2D24B82C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4DBA-480A-4C74-AB8B-9707360F2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74;-1.docx" TargetMode="External"/><Relationship Id="rId2" Type="http://schemas.openxmlformats.org/officeDocument/2006/relationships/hyperlink" Target="file:///&#1074;-4.docx" TargetMode="External"/><Relationship Id="rId3" Type="http://schemas.openxmlformats.org/officeDocument/2006/relationships/hyperlink" Target="file:///&#1074;-7.docx" TargetMode="External"/><Relationship Id="rId4" Type="http://schemas.openxmlformats.org/officeDocument/2006/relationships/hyperlink" Target="file:///&#1074;-10.docx" TargetMode="External"/><Relationship Id="rId5" Type="http://schemas.openxmlformats.org/officeDocument/2006/relationships/hyperlink" Target="file:///&#1074;-2.docx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&amp;Kcy;&amp;ucy;&amp;pcy;&amp;ocy;&amp;lcy;&amp;acy;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4560" y="428760"/>
            <a:ext cx="4429080" cy="3171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Двунадесятые праз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357440" y="4500720"/>
            <a:ext cx="4500360" cy="20383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ыполни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Учитель МОУ ООШ №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г. 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аблукова Е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г. 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00040" y="428760"/>
          <a:ext cx="8215200" cy="607212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20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10T08:29:52Z</dcterms:modified>
  <cp:revision>10</cp:revision>
  <dc:subject/>
  <dc:title>Игра  двунадесятые праздники</dc:title>
</cp:coreProperties>
</file>