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963-FFDC-4661-AF4C-877220D9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DCEE-8D20-40CF-9719-67822C99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CB2-E264-4D00-90A7-81BCDF67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438-918B-4D15-84E1-7CD40CE7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4DE-6700-4859-9B78-339FFC1F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10E-DB5B-4F87-B273-3915EFD8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724-92EF-403E-952D-0E48B75A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AC6-03BB-4283-B6EB-2B437893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E91-FABB-496A-BB31-3B22154C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32E-78C4-49CB-A1BE-88878D18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1B3-8B2A-41D9-B8FA-12AA53A2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B27-8DBE-4C75-A583-72AB7C9D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3C29-7DA1-4FB0-A350-D398A75BF6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74;-1.docx" TargetMode="External"/><Relationship Id="rId2" Type="http://schemas.openxmlformats.org/officeDocument/2006/relationships/hyperlink" Target="file:///&#1074;-4.docx" TargetMode="External"/><Relationship Id="rId3" Type="http://schemas.openxmlformats.org/officeDocument/2006/relationships/hyperlink" Target="file:///&#1074;-7.docx" TargetMode="External"/><Relationship Id="rId4" Type="http://schemas.openxmlformats.org/officeDocument/2006/relationships/hyperlink" Target="file:///&#1074;-10.docx" TargetMode="External"/><Relationship Id="rId5" Type="http://schemas.openxmlformats.org/officeDocument/2006/relationships/hyperlink" Target="file:///&#1074;-2.docx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&amp;Kcy;&amp;ucy;&amp;pcy;&amp;ocy;&amp;lcy;&amp;acy;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4560" y="428760"/>
            <a:ext cx="4429080" cy="3171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Двунадесятые праз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357440" y="4500720"/>
            <a:ext cx="4500360" cy="20383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ыполни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Учитель МОУ ООШ №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г. 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аблукова Е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г. 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00040" y="428760"/>
          <a:ext cx="8215200" cy="607212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20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10T08:29:52Z</dcterms:modified>
  <cp:revision>10</cp:revision>
  <dc:subject/>
  <dc:title>Игра  двунадесятые праздники</dc:title>
</cp:coreProperties>
</file>