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D1B-7655-4615-B384-7BD54A8E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902-0D7D-4B89-82EB-D4DCF5D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D1D-CAE1-4366-A35C-41D65D9D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952-8F69-4BE0-BD07-F94952BC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4E2-8C7C-4336-BF7A-5BEC951B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8A1-651B-4DE9-87F3-5A5DDE13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CC8-B498-4015-AE56-64026F1C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4BB-4403-4AAC-A6E5-61C36C14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4EF-0CAB-471C-8259-A7DDDB61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472-210D-42A1-8497-A55BE561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8DC-54F4-48EE-B615-2740670B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CB80-1E6F-4FB1-8FFC-6EFB873D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A24A-1F51-49F7-8B3C-08F648BFD6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naturewall.ru/_ph/483/8025277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3643200"/>
            <a:ext cx="8344080" cy="15004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0" y="5143680"/>
            <a:ext cx="2571840" cy="1714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Выполнил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Учитель МОУ ООШ №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г. Бор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Саблукова Е.В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г. Бор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1de"/>
                </a:solidFill>
                <a:latin typeface="Arial Black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Православные церкви уделяют большое внимание не только доказательствам непогрешимости своего вероучения, но и пропаганде его среди верующих. От них требуется знание наизусть символа веры, его хорового исполнения во время литургии. Однако главным средством усвоения верующим всех основных моментов вероучения в православии является культ и вся связанная с ним система богослужения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600200"/>
            <a:ext cx="8786880" cy="5043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тличительной особенностью православия является то, что оно со времен семи первых Вселенских соборов не добавило ни одного догмата к своему вероучению, в отличие от католицизма, и не отказалось ни от одного их них, как это имело место в протестантизме. Именно это православная церковь считает   главной из своих заслуг, свидетельствующих о верности  первоначальному христианству. Православие придает догматическое значение не только одному из важнейших таинств  (крещению, но и всем другим – причащению, покаянию, священству, миропомазанию, браку, елеосвящению) и связанными с ними обрядами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5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Православие как разновидность христианст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357360" y="1499760"/>
            <a:ext cx="5786280" cy="5357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6d9f1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авославие (от греч. правоверие) -- одно из трех главных, наряду с католицизмом и протестантизмом, христианских вероисповеданий распространенное преимущественно в странах Восточной Европы Ближнего Востока и на Балканах. Сложилось православие как восточная ветвь христианства после разделения Римской империи (395г.) и оформилось после разделения церквей (1054г.). среди рав</a:t>
            </a:r>
            <a:r>
              <a:rPr b="0" lang="ru-RU" sz="2400" spc="-1" strike="noStrike">
                <a:solidFill>
                  <a:srgbClr val="c6d9f1"/>
                </a:solidFill>
                <a:latin typeface="Calibri"/>
              </a:rPr>
              <a:t>ны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&amp;Kcy;&amp;rcy;&amp;iecy;&amp;scy;&amp;tcy; &amp;ncy;&amp;acy; &amp;Scy;&amp;vcy;&amp;yacy;&amp;tcy;&amp;ocy;&amp;jcy; &amp;Scy;&amp;ocy;&amp;fcy;&amp;icy;&amp;icy;"/>
          <p:cNvPicPr/>
          <p:nvPr/>
        </p:nvPicPr>
        <p:blipFill>
          <a:blip r:embed="rId1"/>
          <a:stretch/>
        </p:blipFill>
        <p:spPr>
          <a:xfrm>
            <a:off x="428760" y="1571760"/>
            <a:ext cx="2857320" cy="428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&amp;Kcy;&amp;rcy;&amp;iecy;&amp;scy;&amp;tcy; &amp;ncy;&amp;acy; &amp;Scy;&amp;vcy;&amp;yacy;&amp;tcy;&amp;ocy;&amp;jcy; &amp;Scy;&amp;ocy;&amp;fcy;&amp;icy;&amp;icy;"/>
          <p:cNvPicPr/>
          <p:nvPr/>
        </p:nvPicPr>
        <p:blipFill>
          <a:blip r:embed="rId2"/>
          <a:stretch/>
        </p:blipFill>
        <p:spPr>
          <a:xfrm>
            <a:off x="785880" y="2071800"/>
            <a:ext cx="2936880" cy="41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Священное Писа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29040" y="1285560"/>
            <a:ext cx="4757760" cy="5357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Христиане опираются в своем учении на Священное Писание – Библию, которая содержит в себе множество  книг, написанных в разное время. Вторая часть Библии – </a:t>
            </a:r>
            <a:r>
              <a:rPr b="1" i="1" lang="ru-RU" sz="3000" spc="-1" strike="noStrike">
                <a:solidFill>
                  <a:srgbClr val="ffffff"/>
                </a:solidFill>
                <a:latin typeface="Calibri"/>
              </a:rPr>
              <a:t>Новый Завет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- создана после того, как родился Иисус Христос, и является главной частью  христианского Священного Писания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img-fotki.yandex.ru/get/5606/poetree.1/0_5c428_14a39312_XL"/>
          <p:cNvPicPr/>
          <p:nvPr/>
        </p:nvPicPr>
        <p:blipFill>
          <a:blip r:embed="rId1"/>
          <a:stretch/>
        </p:blipFill>
        <p:spPr>
          <a:xfrm>
            <a:off x="285840" y="1214280"/>
            <a:ext cx="3000240" cy="421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litres.ru/static/bookimages/00/94/43/00944365.bin.dir/00944365.cover.jpg"/>
          <p:cNvPicPr/>
          <p:nvPr/>
        </p:nvPicPr>
        <p:blipFill>
          <a:blip r:embed="rId2"/>
          <a:stretch/>
        </p:blipFill>
        <p:spPr>
          <a:xfrm>
            <a:off x="1000080" y="2000160"/>
            <a:ext cx="2900520" cy="431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Calibri"/>
              </a:rPr>
              <a:t>Священное Пре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4000680"/>
            <a:ext cx="8858160" cy="26431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Постановления  соборов,  писания Святых отцов составляют значительную часть Священного Предания, помимо этого в его состав входит устав и порядок совершения церковных таинств и богослужений. Особо важным в Предании христиане считают опыт веры и молитвы, который может быть передан только через человеческое общение и личный пример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http://tobolsk-eparhia-press.ru/prosvetitel/v/2009.05/st02_1.jpg"/>
          <p:cNvPicPr/>
          <p:nvPr/>
        </p:nvPicPr>
        <p:blipFill>
          <a:blip r:embed="rId1"/>
          <a:stretch/>
        </p:blipFill>
        <p:spPr>
          <a:xfrm>
            <a:off x="1714680" y="1071720"/>
            <a:ext cx="5705280" cy="242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Священное писание и Священное Преда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авославная церковь в равной степени  признает как Священное Писание, так и Священное Предание. Все православные (а не только священники) могут свободно  читать и трактовать Библию, но при этом обязаны руководствоваться в своих суждениях истолкованиями  Писания, сделанными  Отцами Церкви, а не личным разумение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Основа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071960" y="1214280"/>
            <a:ext cx="4929120" cy="5429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Основу православного вероучения составляет Никео-Цареградский символ веры - изложение главных христианских догматов, безусловное признание которых является обязательным для каждого православного христианина. Он был утвержден Никейским (325 г.) и Константинопольским (381 г.) Вселенскими церковными соборами</a:t>
            </a:r>
            <a:r>
              <a:rPr b="1" lang="ru-RU" sz="27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http://img.narodna.pravda.com.ua/images/doc/0/a/0aaba-355105890vselenskiy0sobor0sur.jpg"/>
          <p:cNvPicPr/>
          <p:nvPr/>
        </p:nvPicPr>
        <p:blipFill>
          <a:blip r:embed="rId1"/>
          <a:stretch/>
        </p:blipFill>
        <p:spPr>
          <a:xfrm>
            <a:off x="357120" y="1357200"/>
            <a:ext cx="3753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Calibri"/>
              </a:rPr>
              <a:t>Символ ве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14480" y="1143000"/>
            <a:ext cx="4971960" cy="55008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Весь Символ Веры состоит из двенадцати членов, и в каждом из них содержится особая истина, или, как еще называют, догмат нашей православной веры. </a:t>
            </a:r>
            <a:br>
              <a:rPr sz="2700"/>
            </a:b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1-й член говорит о Боге Отце, 2-й по 7-й члены говорят о Боге Сыне, 8-й — о Боге Духе Святом, 9-й — о Церкви, 10-й — о крещении, 11-й и 12-й — о воскресении мертвых и о вечной жизни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http://img-fotki.yandex.ru/get/3514/simvolveri2007.9/0_73b63_1bd6ae09_L.jpg"/>
          <p:cNvPicPr/>
          <p:nvPr/>
        </p:nvPicPr>
        <p:blipFill>
          <a:blip r:embed="rId1"/>
          <a:stretch/>
        </p:blipFill>
        <p:spPr>
          <a:xfrm>
            <a:off x="357120" y="1357200"/>
            <a:ext cx="318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3680" y="213840"/>
            <a:ext cx="3543120" cy="63579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ffffcc"/>
                </a:solidFill>
                <a:latin typeface="Calibri"/>
              </a:rPr>
              <a:t>Символ веры</a:t>
            </a:r>
            <a:br>
              <a:rPr sz="5300"/>
            </a:br>
            <a:br>
              <a:rPr sz="5300"/>
            </a:br>
            <a:br>
              <a:rPr sz="5300"/>
            </a:br>
            <a:br>
              <a:rPr sz="53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Хор братии Валаамского монастыря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Хор братии Валаамского монастыря - Символ Веры  (audiopoisk.com).mp3" descr=""/>
          <p:cNvPicPr/>
          <p:nvPr/>
        </p:nvPicPr>
        <p:blipFill>
          <a:blip r:embed="rId1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g0.liveinternet.ru/images/attach/c/0/44/766/44766125_ScreenShot001.jpg"/>
          <p:cNvPicPr/>
          <p:nvPr/>
        </p:nvPicPr>
        <p:blipFill>
          <a:blip r:embed="rId2"/>
          <a:stretch/>
        </p:blipFill>
        <p:spPr>
          <a:xfrm>
            <a:off x="357120" y="214200"/>
            <a:ext cx="50007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850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17375e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Calibri"/>
              </a:rPr>
              <a:t>Некоторые особенности православного вероуч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1600200"/>
            <a:ext cx="8929800" cy="511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Истинными считаются только те положения вероучения, которые утверждены первыми семью Вселенскими соборами. Что же касается католических догматов, установленных позже (о непогрешимости папы, о чистилище, о фелиокве, о непорочном зачатии девы Марии и ее телесном вознесении на небо), то они всеми православными церквами объявляются ошибочными, противоречащими „священному писанию" и „священному преданию". Заблуждением считается также отказ протестантских церквей от большинства таинств, от деления верующих на мирян и священнослужителей, от признания исключительной роли церкви в деле личного спасения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10T08:22:08Z</dcterms:modified>
  <cp:revision>44</cp:revision>
  <dc:subject/>
  <dc:title>Особенности православного вероучения</dc:title>
</cp:coreProperties>
</file>