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013B-3BA4-4491-8A20-8757A68A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C51E-40FA-4C3A-9424-5C76E459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E8E2-C12B-4BF7-8330-53F1DFE2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6D5-B812-4D91-8FFF-C27F62F5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45F3-21DF-4A93-B60B-046C0D33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F46A5-CFCE-48E0-939F-74C3DB473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758E-6090-4EFB-B94F-0BCA25A8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9BE5-C113-4EA0-B79D-94405445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4F07-26C8-474A-BF64-6F447213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357F0-0778-44BF-B32D-F1B2D943A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2B0B-CCBC-483C-BF96-98D79455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676-17F3-498D-A1AB-1374FD5A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6210-B32F-4C8C-A518-AC66AA109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3454-D0C9-466B-A64E-D62AFBA6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961E-310E-4A9E-A12A-F6E56B42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E692-3611-4875-9BF9-6F89C3D22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58CF4-5B6F-4252-A0B2-2CADD00E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D41B-5133-41D0-8383-A8CD51F8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926-32A0-490E-B832-FD3D654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2433-155C-41C7-A44B-100679F9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01A-6A27-4A90-B855-9359FC7BA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7D9-24FB-4787-921D-FB15E976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2484-96FE-40B8-A5F9-9738978C0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FFF8-D57C-4C3F-ADAE-DE9D6F71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3B44F-F632-45E1-A959-BD383F4CC4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74CB-5C76-45CF-A5F7-43CCD63C9F0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Урок обобщения. Протестантизм</a:t>
            </a:r>
            <a:endParaRPr b="0" lang="en-US" sz="32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189000"/>
            <a:ext cx="7777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Муниципальное образовательное учреждение СОШ №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76720" y="630864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Г. Бор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516720" y="5229360"/>
            <a:ext cx="23032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Выполни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учитель истории и обществозн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Максимович Л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Этапы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 конкурс- 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 конкурс – 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конкурс – 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4 конкурс – 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авила игры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Будь активен, внимателе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Уважай мнение собеседника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Излагай мысли кратко и понятно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твечай точно на поставленный вопро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63560" y="2606760"/>
            <a:ext cx="3394080" cy="21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Разминка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000" y="2017440"/>
            <a:ext cx="4032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В течении 2 минут запишите культовые особенности протестантизма (общее задание для всех команд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ую особенность - 1 балл. Победит команда, записавшая большее количество верных ответов за 2 минуты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468680" y="2262240"/>
            <a:ext cx="3775320" cy="27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Вопрос в мешке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17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аждой команде будет предложено ответить на 2 вопроса по жребию. На его обсуждение предоставляется одна минута. В случае если команда не справиться с вопросом. У других команд будет возможность заработать дополнительные баллы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835280" y="3573360"/>
            <a:ext cx="5413320" cy="27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«Кроссворд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4760" y="2017440"/>
            <a:ext cx="3809880" cy="42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 течении 5 минут вам необходимо разгадать кроссворд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 отгаданное слово -1 бал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9280" y="2133720"/>
            <a:ext cx="491328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«Заморочки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Соотнесите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Догмат протестантизма и его суть;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Название протестантского течения и его особенности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Критерии оценивания: за каждое верное соответствие -1 балл. На выполнение задания - 3 минуты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24360" y="1866960"/>
            <a:ext cx="321948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Таблица итогов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84360" y="2017800"/>
          <a:ext cx="8270640" cy="4114800"/>
        </p:xfrm>
        <a:graphic>
          <a:graphicData uri="http://schemas.openxmlformats.org/drawingml/2006/table">
            <a:tbl>
              <a:tblPr/>
              <a:tblGrid>
                <a:gridCol w="1584000"/>
                <a:gridCol w="1656000"/>
                <a:gridCol w="1439640"/>
                <a:gridCol w="1729080"/>
                <a:gridCol w="1861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звание коман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Разминка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Вопрос в мешке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Кроссворд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«Заморочки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20:06:23Z</dcterms:created>
  <dc:creator>папа</dc:creator>
  <dc:description/>
  <dc:language>en-US</dc:language>
  <cp:lastModifiedBy>папа</cp:lastModifiedBy>
  <dcterms:modified xsi:type="dcterms:W3CDTF">2011-03-16T12:37:48Z</dcterms:modified>
  <cp:revision>6</cp:revision>
  <dc:subject/>
  <dc:title>Урок обобщения. Протестантизм</dc:title>
</cp:coreProperties>
</file>