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E78D-B770-4670-B3C1-A01B7FE5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0507-C3A6-421C-B01C-F57DDB1F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4FD2-D008-4A94-A05D-C85A8E30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A1B3-016C-46FF-AFE9-4E9C4B7E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B31D-FADA-47C5-8EE2-5AF3D069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B675-8ED6-4F55-B25F-72355F76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BBFD-D7DA-453D-A590-DB824951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C187-A6B0-46D9-ADDC-2ED23A35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E389-C057-43D1-BFA4-1F3A41A1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6728-6572-401C-A0FC-80AE97CF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FBDF-5430-442B-B7FA-C7C65C24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B144-8B71-44AD-9ABB-B278BE7E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35E7-B9FE-4A70-888F-F77C3205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473A-9004-4B7B-A3BA-6853F232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CFAA-238B-42E8-A21E-2BE1AFBA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1883-6A5B-4B11-8572-34D45883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40D9-DAB0-48A2-B92F-A3742697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BC20-0EAC-4EEF-9ED6-2EDCD0D1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CF97-56B6-4770-85B3-56EA7D76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10EA-04E6-48BC-95A5-8B3D6EA6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C4A9-B2D4-4967-8DA8-2F9B2548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162-B3B3-4794-B7BF-649F3D99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192D-8FA6-4EFA-BD84-92497E37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1DD2-A535-4675-A991-80B5512F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59EA-C69B-47E4-97CC-68C036F1D6B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8CEA-AF81-425B-8D7B-71747FBCB2C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Урок обобщения. Протестантизм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189000"/>
            <a:ext cx="777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Муниципальное образовательное учреждение СОШ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630864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Г. Бор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16720" y="5229360"/>
            <a:ext cx="2303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Максимович Л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Этапы иг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конкурс- «Разминк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 конкурс – «Вопрос в мешке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 конкурс – «Кроссворд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 конкурс – «Заморочк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равила иг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Будь активен, внимателе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Уважай мнение собеседник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Излагай мысли кратко и понятн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твечай точно на поставленный вопро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3560" y="2606760"/>
            <a:ext cx="339408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Разминк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000" y="2017440"/>
            <a:ext cx="40323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течении 2 минут запишите культовые особенности протестантизма (общее задание для всех команд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ритерии оценивания: за каждую особенность - 1 балл. Победит команда, записавшая большее количество верных ответов за 2 минут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468680" y="2262240"/>
            <a:ext cx="37753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Вопрос в мешке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17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аждой команде будет предложено ответить на 2 вопроса по жребию. На его обсуждение предоставляется одна минута. В случае если команда не справиться с вопросом. У других команд будет возможность заработать дополнительные балл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35280" y="3573360"/>
            <a:ext cx="5413320" cy="27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Кроссворд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144760" y="2017440"/>
            <a:ext cx="38098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течении 5 минут вам необходимо разгадать кроссворд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ритерии оценивания: за каждое верно отгаданное слово -1 бал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491328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Заморочк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оотнесите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огмат протестантизма и его сут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звание протестантского течения и его особен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ритерии оценивания: за каждое верное соответствие -1 балл. На выполнение задания - 3 минуты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824360" y="1866960"/>
            <a:ext cx="32194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аблица итог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4360" y="2017800"/>
          <a:ext cx="8270640" cy="4114800"/>
        </p:xfrm>
        <a:graphic>
          <a:graphicData uri="http://schemas.openxmlformats.org/drawingml/2006/table">
            <a:tbl>
              <a:tblPr/>
              <a:tblGrid>
                <a:gridCol w="1584000"/>
                <a:gridCol w="1656000"/>
                <a:gridCol w="1439640"/>
                <a:gridCol w="1729080"/>
                <a:gridCol w="1861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звание коман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Размин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опрос в мешк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Кроссворд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Замороч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20:06:23Z</dcterms:created>
  <dc:creator>папа</dc:creator>
  <dc:description/>
  <dc:language>en-US</dc:language>
  <cp:lastModifiedBy>папа</cp:lastModifiedBy>
  <dcterms:modified xsi:type="dcterms:W3CDTF">2011-03-16T12:37:48Z</dcterms:modified>
  <cp:revision>6</cp:revision>
  <dc:subject/>
  <dc:title>Урок обобщения. Протестантизм</dc:title>
</cp:coreProperties>
</file>