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F075-BD2A-41A3-93CD-E0C47982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CC34-EFB0-4CC6-BFA7-F64A9B8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1BD6-FBA1-42C7-800E-CA13369A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0B6E-2CCB-4D8C-80FA-9EE674FE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9988-FA33-49CA-AB46-2F3D8366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30D1-029A-4DB5-B680-C160CA2F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9497-081B-40B2-AFE1-9D2F799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FFF-4A22-438E-A6E1-3EE4920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5A12-6FB4-4B81-AD71-25F0DE65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313C-EAEE-4880-97C7-FFE8713B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93C0-922B-47F8-B02C-1D83347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814A-5BFE-44FF-A0C4-4E712CB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F86-BB1A-4740-B44E-797B1A9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E6B2-8715-4568-911B-54F11DD2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5FF8-8248-41EF-930B-A7BC102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2ED-3D7D-47C4-B159-11ED36ED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6F29-2EEB-44D7-B8D5-FEC8FBD0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3CDC-408A-4C73-BDBD-9FBE7655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7F77-1058-42BD-8F79-68652EC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CA2B-FE91-4D7F-BF9C-13834656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1134-0BF1-48DA-BB55-A5672CB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53FA-B4D0-48C4-B0B7-2181028D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1C38-8A74-4638-99B7-59493BF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925E-48A7-4A0B-A22C-2CA58D5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30C3-FFF9-4872-82D8-35EB111F2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AFBD-1817-4D7A-BCC6-5070281558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3;&#1080;&#1085;&#1080;&#1085;&#1075;&#1088;&#1072;&#1076;&#1089;&#1082;&#1072;&#1103;_&#1092;&#1080;&#1083;&#1072;&#1088;&#1084;&#1086;&#1085;&#1080;&#1103;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2636640"/>
            <a:ext cx="68356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новные течения протестантизма.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тестантизм в Росс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6021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. Бор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4941720"/>
            <a:ext cx="237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тестантизм в современн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а вероиспове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ы все основные т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оло 40 те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 млн.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6120000" cy="280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63640" y="609300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адвентистов в Н.Нов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тавьте пропущенное в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ми течениями протестантизма являю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ударственной религией протестантизм стал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яд преломления хлебов существует в течении, которое называется ….., он заключается в 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мат об «абсолютном предопределении» существует в протестантской церкви …, его смысл в …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мат о скором пришествии Иисуса Христа проповедует протестантское течение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рха – это 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тор –это …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ритане –это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ас – это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77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Домашнее зад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в чем различие учений М. Лютера и Ж.Кальв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Использова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лигии России. Пособие для учителя.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Новгород,НГЦ,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ru.wikipedia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ха в Калинингр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ns-tour.com.ua/ Немецкая кир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otki.yandex.ru/ внутренний вид кир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echo.msk.ru/ Ж. Каль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go2slovakia.ru/ кальвинистская церк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.lib.ru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центр адвентистов В Н.Нов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cc-nn.ru/ баптистский храм в Н.Нов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ruscarts.ru/ лютеранская кирха в Н.Нов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Основ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и охарактеризовать основные течения протестан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ледить историю развития протестантизм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Основные течения протестан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те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ьв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к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п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вен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идесят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711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456840"/>
            <a:ext cx="85690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Характеристика протестантских те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341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: заполните таблицу по тексту (работа в группах, каждой группе заполнить таблицу по одному теч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421000"/>
          <a:ext cx="8075520" cy="3581280"/>
        </p:xfrm>
        <a:graphic>
          <a:graphicData uri="http://schemas.openxmlformats.org/drawingml/2006/table">
            <a:tbl>
              <a:tblPr/>
              <a:tblGrid>
                <a:gridCol w="1378080"/>
                <a:gridCol w="1873080"/>
                <a:gridCol w="1800360"/>
                <a:gridCol w="1584360"/>
                <a:gridCol w="143964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т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и место возникнов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 наз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вероучения и куль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Люте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24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, Гер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происходит от имени М. Л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яется епископальная организация, действует принцип «государственной церкви», сохранилось немало элементов католичества(богослужение, существует церковный брак, рукоположение в священство, исповедь, но они воспринимаются как дань традиции, а не как таи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хи -храмы люте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торы - священники люте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2000" y="115920"/>
            <a:ext cx="2444760" cy="3666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651640" y="4437000"/>
            <a:ext cx="2993760" cy="2246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56360" y="3789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ецкая кир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Кальв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354400" cy="2776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-XV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, Швейц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происходит от имени Ж.Каль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подчинение религиозной общине, аскетизм, строгие нравственные принципы; догмат об абсолютном предопределении (все предопределено Богом, стремление к успеху -доказательство избранности человека Бог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ритане – кальвинисты в Анг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501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.Каль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497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Источники проникновения протестантизма в Ро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остранные куп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остранцы, работавшие в России по най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еннопленные, расселенные в разных регионах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еление территорий, присоединенных к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Распространение протестантизм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245120" cy="2670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48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XVI-XVII 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в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- укрепление русского государства: Россия нуждалась в иностранных мастерах и военных, развивала отношения с европейскими государ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онец 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XVII-XVIII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 в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- превращение России в великую державу(Алексей Михайлович, Пет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иностранцев приглашали на военную службу, после Северной войны к России присоединены прибалтийские земли с протестантским населением, узаконены смешанные браки. Протестантизм из «иностранной религии превратился в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религию части российского насе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Вторая половина 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XVIII – 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ач. 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XIX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: присоединение прибалтийских и польских земель; переселение прибалтийских и финских крестьян в Сибирь, на Кавказ; иностранные колонисты осваивали Поволжье и Причерноморье; приглашались иностранные инженеры с целью развития отечественной промыш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157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теранская кирка в Н.Нов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Отношение государства к протестантизм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835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917 г.- веротерпимость, самоуправление, менее строгий контроль в сравнении с другими религиями, запрет на свободную проповедь среди лиц других вероисповеданий. К 1917 году протестантизм на 5 месте среди других рели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ский период – гонения, пре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ц 80-х гг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начало возр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2698560" cy="4016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19640" y="5589720"/>
            <a:ext cx="37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птистский храм в Н.Нов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36:28Z</dcterms:created>
  <dc:creator>папа</dc:creator>
  <dc:description/>
  <dc:language>en-US</dc:language>
  <cp:lastModifiedBy>папа</cp:lastModifiedBy>
  <dcterms:modified xsi:type="dcterms:W3CDTF">2010-12-02T21:46:08Z</dcterms:modified>
  <cp:revision>16</cp:revision>
  <dc:subject/>
  <dc:title>Основные течения протестантизма.  Протестантизм в России.</dc:title>
</cp:coreProperties>
</file>