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AEDC-85E7-4D3D-84E0-8E14F09F5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F149-9FB5-4BE8-A7EC-5D7458743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4A94-BFFD-4C1F-8430-8E11B6F7D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9B72-B34A-4FD8-B075-E2DB75F35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67676-7255-4F29-B96C-286FF8D30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C9E13-D80A-4181-8A8B-B41204EF1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BA13E-AF32-4544-BC25-D32154C4A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9C110-5C77-4201-AEA4-6C9CE4DB9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5307B-B6EF-46CD-8BC6-105852B97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E830D-BBCE-4C21-9974-1760BBEC4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FA7DB-C30C-4A02-BEBF-D7406EFC5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03A3-9EFD-473B-A1B7-310C932CC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9B765-3DD7-4535-9E59-49F46CAE3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B1025-050A-44CC-874F-0BBFCEA66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F153F-7DCD-4CD9-87BB-02FD9E418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64E4F-BFE8-48E6-A22D-BACEA4F22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227B7-E214-4AB8-9080-9F2FA3C73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C086-A414-4F27-83AE-3D85F1A17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1777-FEDE-4C65-BC02-862533EBF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57C7-2D9F-451C-8939-7FDDC8ED4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5277-89C5-4B97-A1BD-988D53F82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6158-E548-4474-8F6F-0DF358187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50A9-13A9-4AED-B54A-A4B5AEF35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77F5-B8A8-49FF-B527-28B70F0CA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C5261-0347-46FD-84E5-3A799A38A8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BFAB1-5FB8-46B0-B5DE-D4AE0FB040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blog.kavkazweb.net/-&#1056;&#1077;&#1092;&#1086;&#1088;&#1084;&#1072;&#1094;&#1080;&#1103;" TargetMode="External"/><Relationship Id="rId2" Type="http://schemas.openxmlformats.org/officeDocument/2006/relationships/hyperlink" Target="http://blog.kavkazweb.net/-&#1056;&#1077;&#1092;&#1086;&#1088;&#1084;&#1072;&#1094;&#1080;&#1103;" TargetMode="External"/><Relationship Id="rId3" Type="http://schemas.openxmlformats.org/officeDocument/2006/relationships/hyperlink" Target="http://blog.kavkazweb.net/-&#1056;&#1077;&#1092;&#1086;&#1088;&#1084;&#1072;&#1094;&#1080;&#1103;" TargetMode="External"/><Relationship Id="rId4" Type="http://schemas.openxmlformats.org/officeDocument/2006/relationships/hyperlink" Target="http://blog.kavkazweb.net/-&#1056;&#1077;&#1092;&#1086;&#1088;&#1084;&#1072;&#1094;&#1080;&#1103;" TargetMode="External"/><Relationship Id="rId5" Type="http://schemas.openxmlformats.org/officeDocument/2006/relationships/hyperlink" Target="http://nauka.bible.com.ua/" TargetMode="External"/><Relationship Id="rId6" Type="http://schemas.openxmlformats.org/officeDocument/2006/relationships/hyperlink" Target="http://nauka.bible.com.ua/" TargetMode="External"/><Relationship Id="rId7" Type="http://schemas.openxmlformats.org/officeDocument/2006/relationships/hyperlink" Target="http://nauka.bible.com.ua/" TargetMode="External"/><Relationship Id="rId8" Type="http://schemas.openxmlformats.org/officeDocument/2006/relationships/hyperlink" Target="http://nauka.bible.com.ua/" TargetMode="External"/><Relationship Id="rId9" Type="http://schemas.openxmlformats.org/officeDocument/2006/relationships/hyperlink" Target="http://historyrockscom.wordpress.com/" TargetMode="External"/><Relationship Id="rId10" Type="http://schemas.openxmlformats.org/officeDocument/2006/relationships/hyperlink" Target="http://historyrockscom.wordpress.com/" TargetMode="External"/><Relationship Id="rId11" Type="http://schemas.openxmlformats.org/officeDocument/2006/relationships/hyperlink" Target="http://historyrockscom.wordpress.com/" TargetMode="External"/><Relationship Id="rId12" Type="http://schemas.openxmlformats.org/officeDocument/2006/relationships/hyperlink" Target="http://historyrockscom.wordpress.com/" TargetMode="External"/><Relationship Id="rId1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0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71640" y="1773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Возникновение протестантизма.</a:t>
            </a:r>
            <a:br>
              <a:rPr sz="3200"/>
            </a:b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 Особенности вероучения и культа.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6372360" y="4724280"/>
            <a:ext cx="230328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b7"/>
                </a:solidFill>
                <a:latin typeface="Arial"/>
              </a:rPr>
              <a:t>Выполнил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b7"/>
                </a:solidFill>
                <a:latin typeface="Arial"/>
              </a:rPr>
              <a:t>учитель истории и обществознани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b7"/>
                </a:solidFill>
                <a:latin typeface="Arial"/>
              </a:rPr>
              <a:t>Максимович Л.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780000" y="5950080"/>
            <a:ext cx="1726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b7"/>
                </a:solidFill>
                <a:latin typeface="Arial"/>
              </a:rPr>
              <a:t>Г. Бор 20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4000" y="189000"/>
            <a:ext cx="8569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b7"/>
                </a:solidFill>
                <a:latin typeface="Arial"/>
              </a:rPr>
              <a:t>Муниципальное образовательное учреждение СОШ №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Основные выводы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23640" y="1904760"/>
            <a:ext cx="85215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дно из течений христианст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тестантизм возник в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VI – XVII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в., выделившись из католицизма вследствие Реформа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сторические условия возникновения -Реформация, идеи гуманизма, кризис католической церкви, деятельность М. Люте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ервоначально возник на территории Германии, затем распространился в других европейских государствах(Швейцарии, Франции, Англии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Швейцарии и Англии распространялся мирным путем, а в Германии и во Франции через кровопролитие, гибель людей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Составьте синквейн со словом протестантизм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324000" y="2421000"/>
          <a:ext cx="8521560" cy="4416480"/>
        </p:xfrm>
        <a:graphic>
          <a:graphicData uri="http://schemas.openxmlformats.org/drawingml/2006/table">
            <a:tbl>
              <a:tblPr/>
              <a:tblGrid>
                <a:gridCol w="8521560"/>
              </a:tblGrid>
              <a:tr h="88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слово – существительное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отражает главную идею)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слова – прилагательных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описывают основную мысль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19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 слова – глагол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описывают действия в рамках темы)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ыражение, предложение – выражают суть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дно или несколько слов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автор выражает эмоциональное, образное отношение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2340000" y="1844640"/>
            <a:ext cx="4753080" cy="36036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хема синквей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50560" y="244440"/>
            <a:ext cx="8591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Пример синквейна - протестантизм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838080" y="1905120"/>
          <a:ext cx="8007480" cy="4190760"/>
        </p:xfrm>
        <a:graphic>
          <a:graphicData uri="http://schemas.openxmlformats.org/drawingml/2006/table">
            <a:tbl>
              <a:tblPr/>
              <a:tblGrid>
                <a:gridCol w="8007480"/>
              </a:tblGrid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тестантиз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уховный, нравственны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3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оспитывает, направляет, разъедини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озвращает к первоначальному христианству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еволюция в Европ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Использованные источники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b7"/>
                </a:solidFill>
                <a:latin typeface="Arial"/>
              </a:rPr>
              <a:t>Религии России. Пособие для учителя.(Н.Новгород,НГЦ,200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http</a:t>
            </a:r>
            <a:r>
              <a:rPr b="0" lang="ru-RU" sz="2800" spc="-1" strike="noStrike" u="sng">
                <a:solidFill>
                  <a:srgbClr val="99ff66"/>
                </a:solidFill>
                <a:uFillTx/>
                <a:latin typeface="Arial"/>
                <a:hlinkClick r:id="rId2"/>
              </a:rPr>
              <a:t>://</a:t>
            </a:r>
            <a:r>
              <a:rPr b="0" lang="ru-RU" sz="2800" spc="-1" strike="noStrike" u="sng">
                <a:solidFill>
                  <a:srgbClr val="99ff66"/>
                </a:solidFill>
                <a:uFillTx/>
                <a:latin typeface="Arial"/>
                <a:hlinkClick r:id="rId3"/>
              </a:rPr>
              <a:t>blog.kavkazweb.net</a:t>
            </a:r>
            <a:r>
              <a:rPr b="0" lang="ru-RU" sz="2800" spc="-1" strike="noStrike" u="sng">
                <a:solidFill>
                  <a:srgbClr val="99ff66"/>
                </a:solidFill>
                <a:uFillTx/>
                <a:latin typeface="Arial"/>
                <a:hlinkClick r:id="rId4"/>
              </a:rPr>
              <a:t>/ 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99ff66"/>
                </a:solidFill>
                <a:uFillTx/>
                <a:latin typeface="Arial"/>
                <a:hlinkClick r:id="rId5"/>
              </a:rPr>
              <a:t>http</a:t>
            </a:r>
            <a:r>
              <a:rPr b="0" lang="ru-RU" sz="2800" spc="-1" strike="noStrike" u="sng">
                <a:solidFill>
                  <a:srgbClr val="99ff66"/>
                </a:solidFill>
                <a:uFillTx/>
                <a:latin typeface="Arial"/>
                <a:hlinkClick r:id="rId6"/>
              </a:rPr>
              <a:t>://</a:t>
            </a:r>
            <a:r>
              <a:rPr b="0" lang="ru-RU" sz="2800" spc="-1" strike="noStrike" u="sng">
                <a:solidFill>
                  <a:srgbClr val="99ff66"/>
                </a:solidFill>
                <a:uFillTx/>
                <a:latin typeface="Arial"/>
                <a:hlinkClick r:id="rId7"/>
              </a:rPr>
              <a:t>nauka.bible.com.ua</a:t>
            </a:r>
            <a:r>
              <a:rPr b="0" lang="ru-RU" sz="2800" spc="-1" strike="noStrike" u="sng">
                <a:solidFill>
                  <a:srgbClr val="99ff66"/>
                </a:solidFill>
                <a:uFillTx/>
                <a:latin typeface="Arial"/>
                <a:hlinkClick r:id="rId8"/>
              </a:rPr>
              <a:t>/</a:t>
            </a:r>
            <a:r>
              <a:rPr b="0" lang="ru-RU" sz="2800" spc="-1" strike="noStrike">
                <a:solidFill>
                  <a:srgbClr val="ffffb7"/>
                </a:solidFill>
                <a:latin typeface="Arial"/>
              </a:rPr>
              <a:t> </a:t>
            </a:r>
            <a:r>
              <a:rPr b="0" lang="ru-RU" sz="2800" spc="-1" strike="noStrike" u="sng">
                <a:solidFill>
                  <a:srgbClr val="99ff66"/>
                </a:solidFill>
                <a:uFillTx/>
                <a:latin typeface="Arial"/>
                <a:hlinkClick r:id="rId9"/>
              </a:rPr>
              <a:t>http</a:t>
            </a:r>
            <a:r>
              <a:rPr b="0" lang="ru-RU" sz="2800" spc="-1" strike="noStrike" u="sng">
                <a:solidFill>
                  <a:srgbClr val="99ff66"/>
                </a:solidFill>
                <a:uFillTx/>
                <a:latin typeface="Arial"/>
                <a:hlinkClick r:id="rId10"/>
              </a:rPr>
              <a:t>://</a:t>
            </a:r>
            <a:r>
              <a:rPr b="0" lang="ru-RU" sz="2800" spc="-1" strike="noStrike" u="sng">
                <a:solidFill>
                  <a:srgbClr val="99ff66"/>
                </a:solidFill>
                <a:uFillTx/>
                <a:latin typeface="Arial"/>
                <a:hlinkClick r:id="rId11"/>
              </a:rPr>
              <a:t>historyrockscom.wordpress.com</a:t>
            </a:r>
            <a:r>
              <a:rPr b="0" lang="ru-RU" sz="2800" spc="-1" strike="noStrike" u="sng">
                <a:solidFill>
                  <a:srgbClr val="99ff66"/>
                </a:solidFill>
                <a:uFillTx/>
                <a:latin typeface="Arial"/>
                <a:hlinkClick r:id="rId12"/>
              </a:rPr>
              <a:t>/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b7"/>
                </a:solidFill>
                <a:latin typeface="Arial"/>
              </a:rPr>
              <a:t>http://www.foru.ru/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b7"/>
                </a:solidFill>
                <a:latin typeface="Arial"/>
              </a:rPr>
              <a:t>http://art.thelib.ru/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b7"/>
                </a:solidFill>
                <a:latin typeface="Arial"/>
              </a:rPr>
              <a:t>http://istfak-nnov.narod.ru/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b7"/>
                </a:solidFill>
                <a:latin typeface="Arial"/>
              </a:rPr>
              <a:t>http://blogs.myspace.com/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b7"/>
                </a:solidFill>
                <a:latin typeface="Arial"/>
              </a:rPr>
              <a:t>http://www.stihi.ru/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9280" y="549360"/>
            <a:ext cx="87854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Вспомним из истории христианства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ремя и место возникновения христианств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бъясните происхождение названия этой религ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огда и как произошел раскол в христианстве, на какие тече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аскройте значение слов: «католицизм», «православие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5280" y="3500280"/>
            <a:ext cx="1800360" cy="5032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католициз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80000" y="3500280"/>
            <a:ext cx="1800000" cy="5032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равослав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020000" y="3500280"/>
            <a:ext cx="1728720" cy="5050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ротестантиз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340000" y="3500280"/>
            <a:ext cx="1295280" cy="702000"/>
          </a:xfrm>
          <a:prstGeom prst="leftRightArrow">
            <a:avLst>
              <a:gd name="adj1" fmla="val 50000"/>
              <a:gd name="adj2" fmla="val 36732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867280" y="357336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556000" y="414972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054 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340000" y="306864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 раскол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724360" y="306864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 раско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580000" y="414972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XVI – XVII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1547640" y="1557360"/>
            <a:ext cx="1224000" cy="172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0" y="1628640"/>
            <a:ext cx="0" cy="158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516720" y="1628640"/>
            <a:ext cx="1584360" cy="165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3851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Основные течения христианства</a:t>
            </a:r>
            <a:br>
              <a:rPr sz="3200"/>
            </a:b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Основные вопросы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ремя, место, исторические условия возникновения протестантизм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собенности вероучения и культ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500720" y="2011320"/>
            <a:ext cx="4319280" cy="36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Реформация, идеи гуманизма, кризис католической церкви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5147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Реформаци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движение за переустройство католической церкв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Идеи гуманизм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ценность человека как личности, его право на свободу, в том числе и от религ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Кризис католической церкви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мир менялся, а католическая  церковь оставалась прежней; разрыв между словом и делами церкви, поведением священнослужител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932360" y="1700280"/>
            <a:ext cx="3811680" cy="46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50560" y="244440"/>
            <a:ext cx="889308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Мартин Лютер- основоположник протестантизма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187280" y="1557360"/>
            <a:ext cx="2068560" cy="30240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11280" y="4581360"/>
            <a:ext cx="8007120" cy="20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офессор богослов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Германия, г. Виттенбер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«95 тезисов» - критика продажи индульгенц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отестанты – последователи М. Лютера, сторонники реформации католической церкви, которые отрицали духовный авторитет римского папы и догматы католичест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4572000" y="1557360"/>
            <a:ext cx="4087800" cy="30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Германия –родина протестантизма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23640" y="1989000"/>
            <a:ext cx="39272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. Мюнце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ражданская война между католиками и протестантами 1529-1555 г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«Аугсбургское исповедание верой»:сформулированы основные догматы протестантизма; устанавливалось равноправие между католиками и протестантами на территории Герман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5651640" y="1125360"/>
            <a:ext cx="1944720" cy="25228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4572000" y="3860640"/>
            <a:ext cx="4037040" cy="26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280" y="244440"/>
            <a:ext cx="896472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Протестантизм распространяется в Европе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908000" y="1413000"/>
            <a:ext cx="5461200" cy="387036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23640" y="5444640"/>
            <a:ext cx="856908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Швейцария -Ж.Кальвин, У. Цвингл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Франция –гугеноты, «Варфоломеевская ночь» 24 августа 1572 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нглия – Генрих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XVIII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англиканство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5888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Особенности вероучения и культа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42472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b7"/>
                </a:solidFill>
                <a:latin typeface="Arial"/>
              </a:rPr>
              <a:t>Исключительный авторитет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b7"/>
                </a:solidFill>
                <a:latin typeface="Arial"/>
              </a:rPr>
              <a:t>Библии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признается только Священное писание, остальные тексты не являются истинными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b7"/>
                </a:solidFill>
                <a:latin typeface="Arial"/>
              </a:rPr>
              <a:t>Догмат «оправдания верой»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человека может спасти только личная вера в Бога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b7"/>
                </a:solidFill>
                <a:latin typeface="Arial"/>
              </a:rPr>
              <a:t>Священство всех верующих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между Богом и людьми не может быть посредников, любой верующий сам себе священник, каждый по своему может трактовать Библию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се в мире меняется </a:t>
            </a:r>
            <a:r>
              <a:rPr b="1" lang="en-US" sz="2000" spc="-1" strike="noStrike">
                <a:solidFill>
                  <a:srgbClr val="ffffb7"/>
                </a:solidFill>
                <a:latin typeface="Arial"/>
              </a:rPr>
              <a:t>кроме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b7"/>
                </a:solidFill>
                <a:latin typeface="Arial"/>
              </a:rPr>
              <a:t>Библ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b7"/>
                </a:solidFill>
                <a:latin typeface="Arial"/>
              </a:rPr>
              <a:t>Признают только 2 таинства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крещение и причаст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Отсутствуют культы Богородицы и святы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Богослужение упрощен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ет церковной иерарх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Активное внедрение церкв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 мирскую жизн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508720" y="4511520"/>
            <a:ext cx="2909880" cy="23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08:01:49Z</dcterms:created>
  <dc:creator>папа</dc:creator>
  <dc:description/>
  <dc:language>en-US</dc:language>
  <cp:lastModifiedBy>папа</cp:lastModifiedBy>
  <dcterms:modified xsi:type="dcterms:W3CDTF">2011-03-08T15:59:57Z</dcterms:modified>
  <cp:revision>23</cp:revision>
  <dc:subject/>
  <dc:title>Возникновение протестантизма.  Особенности вероучения и культа</dc:title>
</cp:coreProperties>
</file>