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9CA-C95C-4E94-B10B-DA27C6F0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CB5-4736-4D48-BBC5-15C6D373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4E-0AE0-4627-A2E9-BF09426C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F9A-3C68-4E05-A2B5-21890CCE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5B0-6B52-4B3E-9C97-9CAC32D4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C1F0-40A0-4078-A398-1DF0297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51D-70DD-4F21-A7B5-923BCD9D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709-3019-4C09-82E0-3C82968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C2F-8969-4A97-875D-82CC1412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386-BC53-46B3-A401-59A6EE3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67A5-5965-4CB5-98B6-E161049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20B-8AD0-4650-8EA4-9DE0614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085D-BF05-4C93-A2E7-F339923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EFFC-839B-443E-9D2E-71CCFD3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5E57-FF49-4FD0-92D6-C648D599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14D-E848-49AA-BBB7-CDDCDE0F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D5EC-6737-423C-9AF5-16159800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AA9-B150-4B7B-979F-D2F57AB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C96-9BE8-4661-9067-878E54FC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6BC-23FA-4298-B0A2-29E1C6B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F79-AA48-466D-A7EB-555C587F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D73-C213-4765-B854-A13C1AE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03A-85C5-44B4-8186-0C9058A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952-7871-411B-A016-DB645F4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DDD0-8870-4267-8ED1-AEBBD7E3F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B52-7C79-42C7-BBCB-08A977C9C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kavkazweb.net/-&#1056;&#1077;&#1092;&#1086;&#1088;&#1084;&#1072;&#1094;&#1080;&#1103;" TargetMode="External"/><Relationship Id="rId2" Type="http://schemas.openxmlformats.org/officeDocument/2006/relationships/hyperlink" Target="http://blog.kavkazweb.net/-&#1056;&#1077;&#1092;&#1086;&#1088;&#1084;&#1072;&#1094;&#1080;&#1103;" TargetMode="External"/><Relationship Id="rId3" Type="http://schemas.openxmlformats.org/officeDocument/2006/relationships/hyperlink" Target="http://blog.kavkazweb.net/-&#1056;&#1077;&#1092;&#1086;&#1088;&#1084;&#1072;&#1094;&#1080;&#1103;" TargetMode="External"/><Relationship Id="rId4" Type="http://schemas.openxmlformats.org/officeDocument/2006/relationships/hyperlink" Target="http://blog.kavkazweb.net/-&#1056;&#1077;&#1092;&#1086;&#1088;&#1084;&#1072;&#1094;&#1080;&#1103;" TargetMode="External"/><Relationship Id="rId5" Type="http://schemas.openxmlformats.org/officeDocument/2006/relationships/hyperlink" Target="http://nauka.bible.com.ua/" TargetMode="External"/><Relationship Id="rId6" Type="http://schemas.openxmlformats.org/officeDocument/2006/relationships/hyperlink" Target="http://nauka.bible.com.ua/" TargetMode="External"/><Relationship Id="rId7" Type="http://schemas.openxmlformats.org/officeDocument/2006/relationships/hyperlink" Target="http://nauka.bible.com.ua/" TargetMode="External"/><Relationship Id="rId8" Type="http://schemas.openxmlformats.org/officeDocument/2006/relationships/hyperlink" Target="http://nauka.bible.com.ua/" TargetMode="External"/><Relationship Id="rId9" Type="http://schemas.openxmlformats.org/officeDocument/2006/relationships/hyperlink" Target="http://historyrockscom.wordpress.com/" TargetMode="External"/><Relationship Id="rId10" Type="http://schemas.openxmlformats.org/officeDocument/2006/relationships/hyperlink" Target="http://historyrockscom.wordpress.com/" TargetMode="External"/><Relationship Id="rId11" Type="http://schemas.openxmlformats.org/officeDocument/2006/relationships/hyperlink" Target="http://historyrockscom.wordpress.com/" TargetMode="External"/><Relationship Id="rId12" Type="http://schemas.openxmlformats.org/officeDocument/2006/relationships/hyperlink" Target="http://historyrockscom.wordpress.com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озникновение протестантизма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Особенности вероучения и культ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4724280"/>
            <a:ext cx="23032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950080"/>
            <a:ext cx="172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Г. Бор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ыво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из течений христи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естантизм возник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., выделившись из католицизма вследствие Ре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ие условия возникновения -Реформация, идеи гуманизма, кризис католической церкви, деятельность М. Л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возник на территории Германии, затем распространился в других европейских государствах(Швейцарии, Франции, Англ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вейцарии и Англии распространялся мирным путем, а в Германии и во Франции через кровопролитие, гибель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ставьте синквейн со словом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2421000"/>
          <a:ext cx="8521560" cy="4416480"/>
        </p:xfrm>
        <a:graphic>
          <a:graphicData uri="http://schemas.openxmlformats.org/drawingml/2006/table">
            <a:tbl>
              <a:tblPr/>
              <a:tblGrid>
                <a:gridCol w="8521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слово – существитель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тражает главную идею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лова – прилагательны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основную мысл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слова – глаго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действия в рамках темы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жение, предложение – выражают су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 или несколько сл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автор выражает эмоциональное, образное отношени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340000" y="1844640"/>
            <a:ext cx="4753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синкве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мер синквейна -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8007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тестан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ый, нрав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ывает, направляет, разъеди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щает к первоначальному христианств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волюция в Европ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спользованные источни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Религии России. Пособие для учителя.(Н.Новгород,НГЦ,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log.kavkazweb.net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nauka.bible.com.ua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istoryrockscom.wordpress.com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foru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art.thelib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istfak-nnov.narod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blogs.myspac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stihi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спомним из истории христиан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и место возникновения христи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 происхождение названия этой рели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и как произошел раскол в христианстве, на какие т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ойте значение слов: «католицизм», «православ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3500280"/>
            <a:ext cx="180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3500280"/>
            <a:ext cx="1800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500280"/>
            <a:ext cx="17287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500280"/>
            <a:ext cx="1295280" cy="702000"/>
          </a:xfrm>
          <a:prstGeom prst="leftRightArrow">
            <a:avLst>
              <a:gd name="adj1" fmla="val 50000"/>
              <a:gd name="adj2" fmla="val 367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7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5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раско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рас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47640" y="1557360"/>
            <a:ext cx="1224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628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1628640"/>
            <a:ext cx="158436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851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течения христианства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опро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емя, место, исторические условия возникновения протестант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сти вероучения и куль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00720" y="2011320"/>
            <a:ext cx="4319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еформация, идеи гуманизма, кризис католической церкв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514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Реформ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движение за переустройство католической цер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деи гуманиз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ценность человека как личности, его право на свободу, в том числе и от рели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ризис католической церкв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мир менялся, а католическая  церковь оставалась прежней; разрыв между словом и делами церкви, поведением священнослуж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116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ртин Лютер- основоположник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206856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4581360"/>
            <a:ext cx="800712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ор бого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мания, г. Виттенбе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95 тезисов» - критика продажи индульг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тестанты – последователи М. Лютера, сторонники реформации католической церкви, которые отрицали духовный авторитет римского папы и догматы католи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87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Германия –родина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 Мюнц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кая война между католиками и протестантами 1529-1555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угсбургское исповедание верой»:сформулированы основные догматы протестантизма; устанавливалось равноправие между католиками и протестантами на территории Герм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1944720" cy="252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70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отестантизм распространяется в Европ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61200" cy="3870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5444640"/>
            <a:ext cx="85690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вейцария -Ж.Кальвин, У. Цвинг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я –гугеноты, «Варфоломеевская ночь» 24 августа 157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я – Генр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VI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нгликан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обенности вероучения и куль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Исключительный авторит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знается только Священное писание, остальные тексты не являются истинны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Догмат «оправдания верой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человека может спасти только личная вера в Бо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вященство всех верующ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между Богом и людьми не может быть посредников, любой верующий сам себе священник, каждый по своему может трактовать Библ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в мире меняется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ром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Признают только 2 таинств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крещение и причас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сутствуют культы Богородицы и свят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гослужение упрощ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 церковной иерарх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ное внедрение церк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мирскую жиз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08720" y="4511520"/>
            <a:ext cx="29098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01:49Z</dcterms:created>
  <dc:creator>папа</dc:creator>
  <dc:description/>
  <dc:language>en-US</dc:language>
  <cp:lastModifiedBy>папа</cp:lastModifiedBy>
  <dcterms:modified xsi:type="dcterms:W3CDTF">2011-03-08T15:59:57Z</dcterms:modified>
  <cp:revision>23</cp:revision>
  <dc:subject/>
  <dc:title>Возникновение протестантизма.  Особенности вероучения и культа</dc:title>
</cp:coreProperties>
</file>