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336A-2BD9-463E-9AB4-A529842F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F1BD-696A-468E-B32A-A7E78B69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8D90-9AB3-41A7-9BA7-9B91F5A7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88C6-66FA-4D08-AC21-9C7BBF0A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0D96-2376-4C08-92D9-E60DCAB8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57DB-3131-49EA-8338-A5BA4250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D0E8-842C-4C90-B2EB-78343AD2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E05E-25DE-4993-B116-C34D032A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45F9-0A61-4351-879B-90641A73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16BB-8996-4995-92F4-377BD0C9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8145-3083-462F-8A35-828564E8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4072-F595-4CD1-AA77-95C67782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915C-C42E-463C-883E-236FB962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1232-2DB9-456A-BC6D-C13CA40C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34AB-141D-4F35-A744-0569A912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5F1C-F9E7-4788-B359-FD6E68AE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77B9-D610-4BA7-8963-0F4ECE9D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496FB-0673-450A-A320-C96045E8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E286C-3589-478B-84B0-7C974791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D11F0-8777-4358-B3B0-1F4AFD42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963AF-977E-4C8F-9F67-88ABA576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1D4CC-A573-4EA5-BEBB-315B4043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AD45-EBB8-461D-A5DB-69C22D19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118E9-1EC6-4FD6-B2A0-0491C092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5AD9D-2E69-4F7F-9611-7749FD31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2E78E-2E23-4D6F-8501-3A7956C3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58C29-C67B-4286-8EED-55DA8E3D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697D2-A6E1-4444-AA05-9A61A317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63349-B9AD-459D-AFE7-58704E87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04940-82E8-46D3-BF3A-C7649006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FD8FF-A21A-40FB-AFD6-D808D7D8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1751C-002C-443F-BC15-7DA88758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710BB-3021-4BC2-B8C3-8CB6DF12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43F8-BCC5-4C97-A123-3F5C1577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E679E-78CE-4232-A73C-74D3644F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568F5-427E-4A6A-813C-3A500115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AF796-ED49-4D6D-87D5-0D637A03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E44E2-1311-4B4E-82B9-00623568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8D62C-7261-4758-BED0-0C7FA470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82D05-66FE-44BE-A116-1D1E8D67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6E217-2397-49EE-807C-5826CDE9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74C07-D5AA-4661-9703-6C5FA5E4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7A84C-EA73-4B77-A6FF-BADF99AE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D602-23DE-42D5-88A0-EE359C17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4D99-1F93-468C-92A1-B8B75DE1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25FF-C384-4A02-88EF-90E40CC5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C530-B5C9-4E53-B1EF-F97A6992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FCBF-20FD-4BB6-BD11-47F591B9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CDFA-21C4-4E98-A0CF-E2AF480DBFE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0DFC-66EA-499D-8EF3-4D1484BC15A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76D4-3E21-49D5-8404-0570E7333CC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4FCE-5CE2-48E0-877D-E951475E15C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73120" y="158760"/>
            <a:ext cx="7851600" cy="21765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57920" y="5105520"/>
            <a:ext cx="3068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Учитель: Шумилова Е.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Рисунок 3" descr="15.jpg"/>
          <p:cNvPicPr/>
          <p:nvPr/>
        </p:nvPicPr>
        <p:blipFill>
          <a:blip r:embed="rId2"/>
          <a:stretch/>
        </p:blipFill>
        <p:spPr>
          <a:xfrm>
            <a:off x="285840" y="2786040"/>
            <a:ext cx="5000400" cy="357192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4572000" y="63579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011 г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4617b"/>
                </a:solidFill>
                <a:uFillTx/>
                <a:latin typeface="Calibri"/>
              </a:rPr>
              <a:t>XIX</a:t>
            </a:r>
            <a:r>
              <a:rPr b="0" lang="ru-RU" sz="2500" spc="-1" strike="noStrike" u="sng">
                <a:solidFill>
                  <a:srgbClr val="04617b"/>
                </a:solidFill>
                <a:uFillTx/>
                <a:latin typeface="Calibri"/>
              </a:rPr>
              <a:t> - ХХ века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2876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12 католических епарх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10, 5 млн. прихожа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5 тыс. католических храмов и часове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До 1927 года Ватикан поддерживал правительство большевиков, содействуя его выходу из дипломатической изоля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Перед 2 мировой войной Ватикан ориентировался на германский блок, заключив договоры о дружбе с режимами Гитлера и Муссоли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К 1961 году католическая церковь насчитывала1179 общи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К началу 1990-х годов в России оставалось только 6 крупных приход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760" y="135684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Monotype Corsiva"/>
              </a:rPr>
              <a:t>Встреча М.С. Горбачева и папы  Иоанна Павла 2  в    1989 году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6" name="Содержимое 3" descr="ap_pope_russia_050224_ssh.jpg"/>
          <p:cNvPicPr/>
          <p:nvPr/>
        </p:nvPicPr>
        <p:blipFill>
          <a:blip r:embed="rId1"/>
          <a:stretch/>
        </p:blipFill>
        <p:spPr>
          <a:xfrm>
            <a:off x="142920" y="2071800"/>
            <a:ext cx="5143320" cy="3986280"/>
          </a:xfrm>
          <a:prstGeom prst="rect">
            <a:avLst/>
          </a:prstGeom>
          <a:ln w="0">
            <a:noFill/>
          </a:ln>
        </p:spPr>
      </p:pic>
      <p:sp>
        <p:nvSpPr>
          <p:cNvPr id="237" name="TextBox 4"/>
          <p:cNvSpPr/>
          <p:nvPr/>
        </p:nvSpPr>
        <p:spPr>
          <a:xfrm>
            <a:off x="5429160" y="2786040"/>
            <a:ext cx="350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сле этого церковь активизирует свою деятельность в России. С 1990 года в Москве находится постоянный дипломатический представитель Ватика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28760" y="1285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Цель: проверить знания учащихся по теме «Католическая церковная организация»; изучить появление католицизма в России, отношения с РПЦ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Monotype Corsiva"/>
              </a:rPr>
              <a:t>Вспомним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57120" y="157176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93560" indent="-4935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1. 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Когда и почему произошел раскол христианской церкв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. Что означает догмат о чистилищ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. В чем состоя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основные отличи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между католика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и православным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в выполнении и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трех следующих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таинств: крещения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3560" indent="-4935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причастия , брак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Рисунок 3" descr="4ad68c1f67f3.jpg"/>
          <p:cNvPicPr/>
          <p:nvPr/>
        </p:nvPicPr>
        <p:blipFill>
          <a:blip r:embed="rId1"/>
          <a:stretch/>
        </p:blipFill>
        <p:spPr>
          <a:xfrm>
            <a:off x="3429000" y="2571840"/>
            <a:ext cx="538164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вые контакты Руси с католичеством относятся к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Х веку, когда восточнославянские земли начинают развивать отношения с христианским мир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 эпохе Древней Руси относятся 1 постоянные поселения купцов католического исповедания в крупных город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Рисунок 3" descr="nl16.jpg"/>
          <p:cNvPicPr/>
          <p:nvPr/>
        </p:nvPicPr>
        <p:blipFill>
          <a:blip r:embed="rId1"/>
          <a:stretch/>
        </p:blipFill>
        <p:spPr>
          <a:xfrm>
            <a:off x="785880" y="3286080"/>
            <a:ext cx="4676760" cy="31431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4"/>
          <p:cNvSpPr/>
          <p:nvPr/>
        </p:nvSpPr>
        <p:spPr>
          <a:xfrm>
            <a:off x="928800" y="650088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овгород Велик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5643720" y="5072040"/>
            <a:ext cx="278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Новгороде действовали два римско - католических храма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4617b"/>
                </a:solidFill>
                <a:uFillTx/>
                <a:latin typeface="Monotype Corsiva"/>
              </a:rPr>
              <a:t>Х</a:t>
            </a:r>
            <a:r>
              <a:rPr b="1" lang="en-US" sz="3200" spc="-1" strike="noStrike" u="sng">
                <a:solidFill>
                  <a:srgbClr val="04617b"/>
                </a:solidFill>
                <a:uFillTx/>
                <a:latin typeface="Monotype Corsiva"/>
              </a:rPr>
              <a:t>III</a:t>
            </a:r>
            <a:r>
              <a:rPr b="1" lang="ru-RU" sz="3200" spc="-1" strike="noStrike" u="sng">
                <a:solidFill>
                  <a:srgbClr val="04617b"/>
                </a:solidFill>
                <a:uFillTx/>
                <a:latin typeface="Monotype Corsiva"/>
              </a:rPr>
              <a:t> – Х</a:t>
            </a:r>
            <a:r>
              <a:rPr b="1" lang="en-US" sz="3200" spc="-1" strike="noStrike" u="sng">
                <a:solidFill>
                  <a:srgbClr val="04617b"/>
                </a:solidFill>
                <a:uFillTx/>
                <a:latin typeface="Monotype Corsiva"/>
              </a:rPr>
              <a:t>VI</a:t>
            </a:r>
            <a:r>
              <a:rPr b="1" lang="ru-RU" sz="3200" spc="-1" strike="noStrike" u="sng">
                <a:solidFill>
                  <a:srgbClr val="04617b"/>
                </a:solidFill>
                <a:uFillTx/>
                <a:latin typeface="Monotype Corsiva"/>
              </a:rPr>
              <a:t> вв.- время отчуждения между Русью и католицизмом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120" y="14284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1204 году латинские крестоносцы разорили Константинополь и осквернили христианские святы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1237 году Папа Римский благословил крестовый поход против русски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Рисунок 3" descr="charge des templiers.jpg"/>
          <p:cNvPicPr/>
          <p:nvPr/>
        </p:nvPicPr>
        <p:blipFill>
          <a:blip r:embed="rId1"/>
          <a:stretch/>
        </p:blipFill>
        <p:spPr>
          <a:xfrm>
            <a:off x="4000680" y="3143160"/>
            <a:ext cx="4952880" cy="35481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5"/>
          <p:cNvSpPr/>
          <p:nvPr/>
        </p:nvSpPr>
        <p:spPr>
          <a:xfrm>
            <a:off x="571680" y="4286160"/>
            <a:ext cx="321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каком году состоялись Невская битва и Ледовое побоище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28760" y="42840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пытки подчинить православие Риму продолжались и в последующие годы. После заключения в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1439г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Флорентийской унии ставленник  Ватикана московский митрополит Исидор был низложен в Москве за вероотступничество и бежал в Европ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Рисунок 5" descr="исидор.jpg"/>
          <p:cNvPicPr/>
          <p:nvPr/>
        </p:nvPicPr>
        <p:blipFill>
          <a:blip r:embed="rId1"/>
          <a:stretch/>
        </p:blipFill>
        <p:spPr>
          <a:xfrm>
            <a:off x="5500800" y="2928960"/>
            <a:ext cx="3348000" cy="33577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3"/>
          <p:cNvSpPr/>
          <p:nvPr/>
        </p:nvSpPr>
        <p:spPr>
          <a:xfrm>
            <a:off x="6000840" y="642924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идо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TextBox 6"/>
          <p:cNvSpPr/>
          <p:nvPr/>
        </p:nvSpPr>
        <p:spPr>
          <a:xfrm>
            <a:off x="642960" y="3357720"/>
            <a:ext cx="4643280" cy="34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Что вы знаете о концепции « Москва- Третий Рим»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нцепция « Москва – Третий Рим» все более утверждала  особую роль Москвы как главного оплота и защитника православ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4617b"/>
                </a:solidFill>
                <a:uFillTx/>
                <a:latin typeface="Monotype Corsiva"/>
              </a:rPr>
              <a:t>Смутное время 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28760" y="1285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В начале 17 века  Россия переживает прямую военную интервенцию католиков- поляк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Рисунок 3" descr="лж1.jpg"/>
          <p:cNvPicPr/>
          <p:nvPr/>
        </p:nvPicPr>
        <p:blipFill>
          <a:blip r:embed="rId1"/>
          <a:stretch/>
        </p:blipFill>
        <p:spPr>
          <a:xfrm>
            <a:off x="357120" y="2214720"/>
            <a:ext cx="3375000" cy="3786120"/>
          </a:xfrm>
          <a:prstGeom prst="rect">
            <a:avLst/>
          </a:prstGeom>
          <a:ln w="0">
            <a:noFill/>
          </a:ln>
        </p:spPr>
      </p:pic>
      <p:sp>
        <p:nvSpPr>
          <p:cNvPr id="218" name="TextBox 4"/>
          <p:cNvSpPr/>
          <p:nvPr/>
        </p:nvSpPr>
        <p:spPr>
          <a:xfrm>
            <a:off x="3786120" y="2286000"/>
            <a:ext cx="442908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то вы знаете о Лжедмитрии 1 ? Что происходило в России 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сле  смуты  католическое богослужение  на территории страны было запрещен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785880" y="607212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жедмитрий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4617b"/>
                </a:solidFill>
                <a:uFillTx/>
                <a:latin typeface="Monotype Corsiva"/>
              </a:rPr>
              <a:t>Время Петра 1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Содержимое 3" descr="61817029_1279784455_Peter_derGrosse_1838.jpg"/>
          <p:cNvPicPr/>
          <p:nvPr/>
        </p:nvPicPr>
        <p:blipFill>
          <a:blip r:embed="rId1"/>
          <a:stretch/>
        </p:blipFill>
        <p:spPr>
          <a:xfrm>
            <a:off x="357120" y="1214280"/>
            <a:ext cx="2357640" cy="3083040"/>
          </a:xfrm>
          <a:prstGeom prst="rect">
            <a:avLst/>
          </a:prstGeom>
          <a:ln w="0">
            <a:noFill/>
          </a:ln>
        </p:spPr>
      </p:pic>
      <p:sp>
        <p:nvSpPr>
          <p:cNvPr id="222" name="Стрелка вправо 8"/>
          <p:cNvSpPr/>
          <p:nvPr/>
        </p:nvSpPr>
        <p:spPr>
          <a:xfrm>
            <a:off x="2857680" y="1357200"/>
            <a:ext cx="285480" cy="71640"/>
          </a:xfrm>
          <a:prstGeom prst="rightArrow">
            <a:avLst>
              <a:gd name="adj1" fmla="val 50000"/>
              <a:gd name="adj2" fmla="val 4981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3286080" y="1285920"/>
            <a:ext cx="5643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етр 1 утвердил принцип  отношений с католической церковью: веротерпимость со стороны государства в обмен на полную политическую  лояльность  со стороны государст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691 г.- 40 католик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725 г.- 2000 католик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706 г.- построен каменный католический хра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Активная пропаганда  католицизма иезуитами вынудила Петра 1 изгнать их из Росс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TextBox 10"/>
          <p:cNvSpPr/>
          <p:nvPr/>
        </p:nvSpPr>
        <p:spPr>
          <a:xfrm>
            <a:off x="428760" y="4500720"/>
            <a:ext cx="221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Годы правления Петра 1?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51544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4617b"/>
                </a:solidFill>
                <a:uFillTx/>
                <a:latin typeface="Calibri"/>
              </a:rPr>
              <a:t>XVIII</a:t>
            </a:r>
            <a:r>
              <a:rPr b="0" lang="ru-RU" sz="2800" spc="-1" strike="noStrike" u="sng">
                <a:solidFill>
                  <a:srgbClr val="04617b"/>
                </a:solidFill>
                <a:uFillTx/>
                <a:latin typeface="Calibri"/>
              </a:rPr>
              <a:t>-</a:t>
            </a:r>
            <a:r>
              <a:rPr b="0" lang="en-US" sz="2800" spc="-1" strike="noStrike" u="sng">
                <a:solidFill>
                  <a:srgbClr val="04617b"/>
                </a:solidFill>
                <a:uFillTx/>
                <a:latin typeface="Calibri"/>
              </a:rPr>
              <a:t>XIX</a:t>
            </a:r>
            <a:r>
              <a:rPr b="0" lang="ru-RU" sz="2800" spc="-1" strike="noStrike" u="sng">
                <a:solidFill>
                  <a:srgbClr val="04617b"/>
                </a:solidFill>
                <a:uFillTx/>
                <a:latin typeface="Calibri"/>
              </a:rPr>
              <a:t> век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Основной прирост католического населения происходил за сче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емецких колонисто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результате раздела Польш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атолицизм находит распространение в высшем петербургском и московском обществе, где некоторые аристократы принимают ег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Рисунок 3" descr="гагарин.jpg"/>
          <p:cNvPicPr/>
          <p:nvPr/>
        </p:nvPicPr>
        <p:blipFill>
          <a:blip r:embed="rId1"/>
          <a:stretch/>
        </p:blipFill>
        <p:spPr>
          <a:xfrm>
            <a:off x="214200" y="3429000"/>
            <a:ext cx="2638440" cy="30942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4" descr="голицыеа.jpg"/>
          <p:cNvPicPr/>
          <p:nvPr/>
        </p:nvPicPr>
        <p:blipFill>
          <a:blip r:embed="rId2"/>
          <a:stretch/>
        </p:blipFill>
        <p:spPr>
          <a:xfrm>
            <a:off x="3000240" y="3429000"/>
            <a:ext cx="2868840" cy="31431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5" descr="ростопчина.jpg"/>
          <p:cNvPicPr/>
          <p:nvPr/>
        </p:nvPicPr>
        <p:blipFill>
          <a:blip r:embed="rId3"/>
          <a:stretch/>
        </p:blipFill>
        <p:spPr>
          <a:xfrm>
            <a:off x="6000840" y="3429000"/>
            <a:ext cx="2593800" cy="31431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6"/>
          <p:cNvSpPr/>
          <p:nvPr/>
        </p:nvSpPr>
        <p:spPr>
          <a:xfrm>
            <a:off x="285840" y="6572160"/>
            <a:ext cx="24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Князь Гагарин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7"/>
          <p:cNvSpPr/>
          <p:nvPr/>
        </p:nvSpPr>
        <p:spPr>
          <a:xfrm>
            <a:off x="3143160" y="657216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нягиня Голицына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6072120" y="655020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Графиня Ростопчина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13:26:07Z</dcterms:created>
  <dc:creator>Екатерина</dc:creator>
  <dc:description/>
  <dc:language>en-US</dc:language>
  <cp:lastModifiedBy>User</cp:lastModifiedBy>
  <dcterms:modified xsi:type="dcterms:W3CDTF">2013-07-10T09:16:23Z</dcterms:modified>
  <cp:revision>62</cp:revision>
  <dc:subject/>
  <dc:title>Тема  «Католицизм в России»</dc:title>
</cp:coreProperties>
</file>