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78D-F48A-4B72-B45A-D79E2D92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736-1029-4631-9F4E-6E4FE9C8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1D5-7C8C-42D8-8193-9E151B52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370-6129-4DD3-85C8-C80C1DF2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0F14-51C0-4054-9AB2-E8866D62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7031-BE95-4DBD-9E28-5B17E008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569D-1E53-4FEB-9BB4-316D3807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C710-73D2-443E-972D-CD6E3AEB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E13E-3C8A-48CE-9A76-0C72C2D5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14A1-66C2-428D-BBA3-3A05B62E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A67F-4E92-4EC2-BF20-B314B70C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7C9-60C2-4F97-B60D-EFDB07FA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E5BC-A75F-4750-BC92-D4B594FC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52C1-B509-4D10-A7FF-6C66A7B5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AEA8-C5EB-4037-B33C-499ECB31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EF55-3615-4E7C-A5F3-036467F8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EB13-A0D1-45AA-922A-382EEB74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4C9FD-BDC2-4629-9C9C-72EE6A8E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1B8F-4102-4337-9BD2-562A2D63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6208C-4077-4379-9C88-A7548704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67274-A643-4BEB-8DFB-9A2B3CA0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499C-E927-41D7-B41B-509EA74D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FD8-E3D4-4BF8-A295-AB81BD09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7CCB1-8408-49D6-BDD8-EF1A0A89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6AF94-B89E-4E2A-B103-22EFF8BF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7CA65-7435-4C8F-9F47-63184386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6CF2E-C49C-4201-A78D-6C44CA2F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3374F-7B33-4A29-9126-EE0B42BE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B4B2E-5045-434A-8CBF-7086DB18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1B89-F123-4502-8B99-4A96D749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9DCEF-287C-4EA2-8A33-B4B49119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1DC5D-41CF-4FA3-8FAD-AD7EB7EE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A42E5-1E51-41A7-927C-1FAAA47A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5E31-6EEB-4873-81EC-97F68ED4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42341-D861-4427-AE85-08BB3646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3D864-80DF-47C4-AD8E-910E239F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BD3D-014D-408E-8A76-089D067D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41B61-BFAA-4514-BFB8-C8140B89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CE08D-41B0-4216-A184-BAB870F1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57799-7161-4863-B613-2B0935D5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CADC8-E461-419A-AA43-BA78D71C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2B16D-C083-4E83-A292-49A8BAEC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5EF63-7F5B-4464-B21C-8B634B4C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049-F55F-45BA-B97F-9439F606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D82-2998-4E0B-8EF6-73957567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E9A-78FB-4988-8D88-613A8224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A68-23FE-4F85-913E-14A8884D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7B8-C66C-41B3-A7BC-3DD982DB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8BAE-9251-4987-AB95-B2132C20FAB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A3D6-894E-4905-B150-553D61242B7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0523-9739-44E1-A00F-953C792DF09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DA76-E0C8-43BB-86DB-19650680A12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73120" y="158760"/>
            <a:ext cx="7851600" cy="2176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57920" y="5105520"/>
            <a:ext cx="306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читель: Шумилова Е.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15.jpg"/>
          <p:cNvPicPr/>
          <p:nvPr/>
        </p:nvPicPr>
        <p:blipFill>
          <a:blip r:embed="rId2"/>
          <a:stretch/>
        </p:blipFill>
        <p:spPr>
          <a:xfrm>
            <a:off x="285840" y="2786040"/>
            <a:ext cx="5000400" cy="35719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4572000" y="63579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11 г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4617b"/>
                </a:solidFill>
                <a:uFillTx/>
                <a:latin typeface="Calibri"/>
              </a:rPr>
              <a:t>XIX</a:t>
            </a:r>
            <a:r>
              <a:rPr b="0" lang="ru-RU" sz="2500" spc="-1" strike="noStrike" u="sng">
                <a:solidFill>
                  <a:srgbClr val="04617b"/>
                </a:solidFill>
                <a:uFillTx/>
                <a:latin typeface="Calibri"/>
              </a:rPr>
              <a:t> - ХХ века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76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2 католических епарх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0, 5 млн. прихожа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5 тыс. католических храмов и часов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До 1927 года Ватикан поддерживал правительство большевиков, содействуя его выходу из дипломатической изоля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Перед 2 мировой войной Ватикан ориентировался на германский блок, заключив договоры о дружбе с режимами Гитлера и Муссоли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К 1961 году католическая церковь насчитывала1179 общ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К началу 1990-х годов в России оставалось только 6 крупных приход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135684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Monotype Corsiva"/>
              </a:rPr>
              <a:t>Встреча М.С. Горбачева и папы  Иоанна Павла 2  в    1989 году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Содержимое 3" descr="ap_pope_russia_050224_ssh.jpg"/>
          <p:cNvPicPr/>
          <p:nvPr/>
        </p:nvPicPr>
        <p:blipFill>
          <a:blip r:embed="rId1"/>
          <a:stretch/>
        </p:blipFill>
        <p:spPr>
          <a:xfrm>
            <a:off x="142920" y="2071800"/>
            <a:ext cx="5143320" cy="39862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5429160" y="2786040"/>
            <a:ext cx="350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ле этого церковь активизирует свою деятельность в России. С 1990 года в Москве находится постоянный дипломатический представитель Ватика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2876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Цель: проверить знания учащихся по теме «Католическая церковная организация»; изучить появление католицизма в России, отношения с РП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Вспомним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7120" y="15717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Когда и почему произошел раскол христианской церкв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. Что означает догмат о чистилищ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. В чем состоя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основные отличи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между католик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и православным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в выполнении и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трех следующи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таинств: крещени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причастия , бра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Рисунок 3" descr="4ad68c1f67f3.jpg"/>
          <p:cNvPicPr/>
          <p:nvPr/>
        </p:nvPicPr>
        <p:blipFill>
          <a:blip r:embed="rId1"/>
          <a:stretch/>
        </p:blipFill>
        <p:spPr>
          <a:xfrm>
            <a:off x="3429000" y="2571840"/>
            <a:ext cx="53816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вые контакты Руси с католичеством относятся 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 веку, когда восточнославянские земли начинают развивать отношения с христианским мир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 эпохе Древней Руси относятся 1 постоянные поселения купцов католического исповедания в крупных город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3" descr="nl16.jpg"/>
          <p:cNvPicPr/>
          <p:nvPr/>
        </p:nvPicPr>
        <p:blipFill>
          <a:blip r:embed="rId1"/>
          <a:stretch/>
        </p:blipFill>
        <p:spPr>
          <a:xfrm>
            <a:off x="785880" y="3286080"/>
            <a:ext cx="4676760" cy="31431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928800" y="650088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овгород Вели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5643720" y="5072040"/>
            <a:ext cx="278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Новгороде действовали два римско - католических храм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4617b"/>
                </a:solidFill>
                <a:uFillTx/>
                <a:latin typeface="Monotype Corsiva"/>
              </a:rPr>
              <a:t>Х</a:t>
            </a:r>
            <a:r>
              <a:rPr b="1" lang="en-US" sz="3200" spc="-1" strike="noStrike" u="sng">
                <a:solidFill>
                  <a:srgbClr val="04617b"/>
                </a:solidFill>
                <a:uFillTx/>
                <a:latin typeface="Monotype Corsiva"/>
              </a:rPr>
              <a:t>III</a:t>
            </a:r>
            <a:r>
              <a:rPr b="1" lang="ru-RU" sz="3200" spc="-1" strike="noStrike" u="sng">
                <a:solidFill>
                  <a:srgbClr val="04617b"/>
                </a:solidFill>
                <a:uFillTx/>
                <a:latin typeface="Monotype Corsiva"/>
              </a:rPr>
              <a:t> – Х</a:t>
            </a:r>
            <a:r>
              <a:rPr b="1" lang="en-US" sz="3200" spc="-1" strike="noStrike" u="sng">
                <a:solidFill>
                  <a:srgbClr val="04617b"/>
                </a:solidFill>
                <a:uFillTx/>
                <a:latin typeface="Monotype Corsiva"/>
              </a:rPr>
              <a:t>VI</a:t>
            </a:r>
            <a:r>
              <a:rPr b="1" lang="ru-RU" sz="3200" spc="-1" strike="noStrike" u="sng">
                <a:solidFill>
                  <a:srgbClr val="04617b"/>
                </a:solidFill>
                <a:uFillTx/>
                <a:latin typeface="Monotype Corsiva"/>
              </a:rPr>
              <a:t> вв.- время отчуждения между Русью и католицизмом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1204 году латинские крестоносцы разорили Константинополь и осквернили христианские святы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1237 году Папа Римский благословил крестовый поход против русски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Рисунок 3" descr="charge des templiers.jpg"/>
          <p:cNvPicPr/>
          <p:nvPr/>
        </p:nvPicPr>
        <p:blipFill>
          <a:blip r:embed="rId1"/>
          <a:stretch/>
        </p:blipFill>
        <p:spPr>
          <a:xfrm>
            <a:off x="4000680" y="3143160"/>
            <a:ext cx="4952880" cy="35481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571680" y="4286160"/>
            <a:ext cx="32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аком году состоялись Невская битва и Ледовое побоище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2876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пытки подчинить православие Риму продолжались и в последующие годы. После заключения в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439г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Флорентийской унии ставленник  Ватикана московский митрополит Исидор был низложен в Москве за вероотступничество и бежал в Европ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5" descr="исидор.jpg"/>
          <p:cNvPicPr/>
          <p:nvPr/>
        </p:nvPicPr>
        <p:blipFill>
          <a:blip r:embed="rId1"/>
          <a:stretch/>
        </p:blipFill>
        <p:spPr>
          <a:xfrm>
            <a:off x="5500800" y="2928960"/>
            <a:ext cx="3348000" cy="3357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6000840" y="642924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идо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642960" y="3357720"/>
            <a:ext cx="464328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то вы знаете о концепции « Москва- Третий Рим»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нцепция « Москва – Третий Рим» все более утверждала  особую роль Москвы как главного оплота и защитника православ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4617b"/>
                </a:solidFill>
                <a:uFillTx/>
                <a:latin typeface="Monotype Corsiva"/>
              </a:rPr>
              <a:t>Смутное время 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2876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В начале 17 века  Россия переживает прямую военную интервенцию католиков- поля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Рисунок 3" descr="лж1.jpg"/>
          <p:cNvPicPr/>
          <p:nvPr/>
        </p:nvPicPr>
        <p:blipFill>
          <a:blip r:embed="rId1"/>
          <a:stretch/>
        </p:blipFill>
        <p:spPr>
          <a:xfrm>
            <a:off x="357120" y="2214720"/>
            <a:ext cx="3375000" cy="37861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3786120" y="2286000"/>
            <a:ext cx="44290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 вы знаете о Лжедмитрии 1 ? Что происходило в России 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сле  смуты  католическое богослужение  на территории страны было запрещен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785880" y="60721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жедмитрий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4617b"/>
                </a:solidFill>
                <a:uFillTx/>
                <a:latin typeface="Monotype Corsiva"/>
              </a:rPr>
              <a:t>Время Петра 1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Содержимое 3" descr="61817029_1279784455_Peter_derGrosse_1838.jpg"/>
          <p:cNvPicPr/>
          <p:nvPr/>
        </p:nvPicPr>
        <p:blipFill>
          <a:blip r:embed="rId1"/>
          <a:stretch/>
        </p:blipFill>
        <p:spPr>
          <a:xfrm>
            <a:off x="357120" y="1214280"/>
            <a:ext cx="2357640" cy="3083040"/>
          </a:xfrm>
          <a:prstGeom prst="rect">
            <a:avLst/>
          </a:prstGeom>
          <a:ln w="0">
            <a:noFill/>
          </a:ln>
        </p:spPr>
      </p:pic>
      <p:sp>
        <p:nvSpPr>
          <p:cNvPr id="222" name="Стрелка вправо 8"/>
          <p:cNvSpPr/>
          <p:nvPr/>
        </p:nvSpPr>
        <p:spPr>
          <a:xfrm>
            <a:off x="2857680" y="1357200"/>
            <a:ext cx="285480" cy="71640"/>
          </a:xfrm>
          <a:prstGeom prst="rightArrow">
            <a:avLst>
              <a:gd name="adj1" fmla="val 50000"/>
              <a:gd name="adj2" fmla="val 4981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3286080" y="1285920"/>
            <a:ext cx="5643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етр 1 утвердил принцип  отношений с католической церковью: веротерпимость со стороны государства в обмен на полную политическую  лояльность  со стороны государ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691 г.- 40 католик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725 г.- 2000 католик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706 г.- построен каменный католический хр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Активная пропаганда  католицизма иезуитами вынудила Петра 1 изгнать их из Росс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428760" y="4500720"/>
            <a:ext cx="22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оды правления Петра 1?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5154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4617b"/>
                </a:solidFill>
                <a:uFillTx/>
                <a:latin typeface="Calibri"/>
              </a:rPr>
              <a:t>XVIII</a:t>
            </a:r>
            <a:r>
              <a:rPr b="0" lang="ru-RU" sz="2800" spc="-1" strike="noStrike" u="sng">
                <a:solidFill>
                  <a:srgbClr val="04617b"/>
                </a:solidFill>
                <a:uFillTx/>
                <a:latin typeface="Calibri"/>
              </a:rPr>
              <a:t>-</a:t>
            </a:r>
            <a:r>
              <a:rPr b="0" lang="en-US" sz="2800" spc="-1" strike="noStrike" u="sng">
                <a:solidFill>
                  <a:srgbClr val="04617b"/>
                </a:solidFill>
                <a:uFillTx/>
                <a:latin typeface="Calibri"/>
              </a:rPr>
              <a:t>XIX</a:t>
            </a:r>
            <a:r>
              <a:rPr b="0" lang="ru-RU" sz="2800" spc="-1" strike="noStrike" u="sng">
                <a:solidFill>
                  <a:srgbClr val="04617b"/>
                </a:solidFill>
                <a:uFillTx/>
                <a:latin typeface="Calibri"/>
              </a:rPr>
              <a:t> век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сновной прирост католического населения происходил за сче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емецких колонист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результате раздела Польш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атолицизм находит распространение в высшем петербургском и московском обществе, где некоторые аристократы принимают ег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Рисунок 3" descr="гагарин.jpg"/>
          <p:cNvPicPr/>
          <p:nvPr/>
        </p:nvPicPr>
        <p:blipFill>
          <a:blip r:embed="rId1"/>
          <a:stretch/>
        </p:blipFill>
        <p:spPr>
          <a:xfrm>
            <a:off x="214200" y="3429000"/>
            <a:ext cx="2638440" cy="30942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голицыеа.jpg"/>
          <p:cNvPicPr/>
          <p:nvPr/>
        </p:nvPicPr>
        <p:blipFill>
          <a:blip r:embed="rId2"/>
          <a:stretch/>
        </p:blipFill>
        <p:spPr>
          <a:xfrm>
            <a:off x="3000240" y="3429000"/>
            <a:ext cx="2868840" cy="3143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5" descr="ростопчина.jpg"/>
          <p:cNvPicPr/>
          <p:nvPr/>
        </p:nvPicPr>
        <p:blipFill>
          <a:blip r:embed="rId3"/>
          <a:stretch/>
        </p:blipFill>
        <p:spPr>
          <a:xfrm>
            <a:off x="6000840" y="3429000"/>
            <a:ext cx="2593800" cy="31431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6"/>
          <p:cNvSpPr/>
          <p:nvPr/>
        </p:nvSpPr>
        <p:spPr>
          <a:xfrm>
            <a:off x="285840" y="6572160"/>
            <a:ext cx="24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Князь Гагарин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3143160" y="657216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нягиня Голицын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6072120" y="655020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рафиня Ростопчин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3:26:07Z</dcterms:created>
  <dc:creator>Екатерина</dc:creator>
  <dc:description/>
  <dc:language>en-US</dc:language>
  <cp:lastModifiedBy>User</cp:lastModifiedBy>
  <dcterms:modified xsi:type="dcterms:W3CDTF">2013-07-10T09:16:23Z</dcterms:modified>
  <cp:revision>62</cp:revision>
  <dc:subject/>
  <dc:title>Тема  «Католицизм в России»</dc:title>
</cp:coreProperties>
</file>