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142-3888-4A53-BFD3-AEB6FBE8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888-6849-411C-99A4-1802F3D7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525-403E-4D4C-AF52-480BAE1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67B-55A0-460C-B1A8-5C00350B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E88-A234-4C53-800A-EF9CC340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C7F7-1389-476C-B1E5-C0D60B7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F09-E97B-40EF-8D36-6B58079E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84B-5F37-4B35-B21E-1E549F6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D14-5689-45F9-A786-4EE88A0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45E-22A6-4630-849A-065BAB03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0555-D843-4405-800C-F42666F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1A9-7E0C-461D-B851-370A099A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61F-391C-42C6-B30C-3AF606D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8F5-1951-46C9-8B51-90BD1B9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A7EC-EA15-461F-81CB-D7C8BC8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5C47-2586-420F-934D-06B1736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08F-5E19-488A-979A-7DA2D9AA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B2C71-F694-41ED-A765-ABD14A93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BE7A8-A33D-4BE4-88C6-103FFE07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AD094-C14B-430F-B7A9-00A76449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70CAD-FF4D-4D54-91FA-2B9055B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EA6B0-AEDC-480E-8634-0494D1C2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2AB-0D16-422E-AB35-334330B2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7EAD8-05BF-4586-814E-E213C3BE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C790A-1101-42F5-9ED6-C05B5E6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92CB9-FC39-48AB-9FFC-91D8883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DD53C-4338-44E2-91D6-3B1CDF5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4C8E0-AD5A-4E8F-BC2B-52BAD85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A127B-2539-4A41-AF3E-D23CF043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D8C4D-6FE4-42F3-9B97-F28FCB41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1D21-37E1-4C81-9845-707FEDCB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6E44-D787-4BCF-8046-4930758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731E-FE35-4AB2-AB85-C9688EBD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C35-B9B4-4B58-ACD8-483B366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9C7D-E3F4-4406-A301-4278ADE4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6C80-DB80-4C75-8B90-BBCED308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3BAF-23D4-4BAB-92C4-911AF070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ACD7-1F64-4DFF-AC95-DAD62FB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2CEA-8A22-472D-9474-588C920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5A40-9D70-46BF-B642-36B6493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F134-0079-4CC0-B97D-891A465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C2C3-B7CA-4B30-9659-685E8086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6C85-4F17-4E67-BF25-58A9B9BD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E2E-DAE8-4E41-B7B6-2E5D91F9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FE5-E294-4CD5-AE16-CBEC95DD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91A-57BC-441B-8CB8-4C28732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8BB-19C6-42AB-B16B-748B7F5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C20-8118-4B42-85C0-5EF9E0C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937-D98E-4A7E-B40F-AF37B4205CB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924C-29FB-4D48-A61F-A34D4A7FDC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9B1-7984-4793-A583-6405C24A8A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3D76-762D-4207-8E61-881E4CCAF20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458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Тема урока: «Католическая церковная организация»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            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785960" y="142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униципальное образовательное учреждение  СОШ № 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38086"/>
                </a:solidFill>
                <a:uFillTx/>
                <a:latin typeface="Monotype Corsiva"/>
              </a:rPr>
              <a:t>Крестовые поход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charge des templiers.jpg"/>
          <p:cNvPicPr/>
          <p:nvPr/>
        </p:nvPicPr>
        <p:blipFill>
          <a:blip r:embed="rId1"/>
          <a:stretch/>
        </p:blipFill>
        <p:spPr>
          <a:xfrm>
            <a:off x="1214280" y="1643040"/>
            <a:ext cx="6572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Цель урока: проверить знания учащихся по теме          </a:t>
            </a:r>
            <a:br>
              <a:rPr sz="2800"/>
            </a:b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« Особенности вероучения и культа»; изучить организацию и управление католической церкви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Международный центр управления - Ватикан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Рисунок 4" descr="99_BaTukaH2.jpg"/>
          <p:cNvPicPr/>
          <p:nvPr/>
        </p:nvPicPr>
        <p:blipFill>
          <a:blip r:embed="rId1"/>
          <a:stretch/>
        </p:blipFill>
        <p:spPr>
          <a:xfrm>
            <a:off x="642960" y="1500120"/>
            <a:ext cx="7786800" cy="450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714240" y="614376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атикан- государство с населением 2 тыс.человек, расположенное в центре Рима, занимающее площадь 44 г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Глава католической церкви- Папа Римск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Рисунок 3" descr="Иоанн Павел II.jpg"/>
          <p:cNvPicPr/>
          <p:nvPr/>
        </p:nvPicPr>
        <p:blipFill>
          <a:blip r:embed="rId1"/>
          <a:stretch/>
        </p:blipFill>
        <p:spPr>
          <a:xfrm>
            <a:off x="1000080" y="1428840"/>
            <a:ext cx="6786720" cy="48481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628668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Monotype Corsiva"/>
              </a:rPr>
              <a:t>Понтифик  Иоанн Павел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8086"/>
                </a:solidFill>
                <a:latin typeface="Monotype Corsiva"/>
              </a:rPr>
              <a:t>Папа избирается пожизненно на закрытом собрании кардиналов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5" descr="kardinaly.jpg"/>
          <p:cNvPicPr/>
          <p:nvPr/>
        </p:nvPicPr>
        <p:blipFill>
          <a:blip r:embed="rId1"/>
          <a:stretch/>
        </p:blipFill>
        <p:spPr>
          <a:xfrm>
            <a:off x="428760" y="1643040"/>
            <a:ext cx="5638680" cy="392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DSC_0612.jpg"/>
          <p:cNvPicPr/>
          <p:nvPr/>
        </p:nvPicPr>
        <p:blipFill>
          <a:blip r:embed="rId2"/>
          <a:stretch/>
        </p:blipFill>
        <p:spPr>
          <a:xfrm>
            <a:off x="4572000" y="3857760"/>
            <a:ext cx="4357800" cy="2917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215040" y="164304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Для управления церковью папа имеет систему органов власти- Святой престо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Епархия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сообщество католиков той или иной территории</a:t>
            </a:r>
            <a:br>
              <a:rPr sz="2200"/>
            </a:b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Митрополия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объединение нескольких епархий ( возглавляет митрополит)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3" descr="N010-8241.jpg"/>
          <p:cNvPicPr/>
          <p:nvPr/>
        </p:nvPicPr>
        <p:blipFill>
          <a:blip r:embed="rId1"/>
          <a:stretch/>
        </p:blipFill>
        <p:spPr>
          <a:xfrm>
            <a:off x="1143000" y="1857240"/>
            <a:ext cx="6500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5000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91cb"/>
                </a:solidFill>
                <a:latin typeface="Monotype Corsiva"/>
              </a:rPr>
              <a:t>Монашеские орден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28760" y="1643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Бенедиктинцы ( орден возник в 6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Доминиканцы( орден возник  в 12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Орден иезуитов (основан в 16 ве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Игнатием Лойолой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Тевтонский орден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loyola.jpg"/>
          <p:cNvPicPr/>
          <p:nvPr/>
        </p:nvPicPr>
        <p:blipFill>
          <a:blip r:embed="rId1"/>
          <a:stretch/>
        </p:blipFill>
        <p:spPr>
          <a:xfrm>
            <a:off x="5500800" y="2786040"/>
            <a:ext cx="3286080" cy="3786120"/>
          </a:xfrm>
          <a:prstGeom prst="rect">
            <a:avLst/>
          </a:prstGeom>
          <a:ln w="0">
            <a:noFill/>
          </a:ln>
        </p:spPr>
      </p:pic>
      <p:sp>
        <p:nvSpPr>
          <p:cNvPr id="233" name="Полилиния 4"/>
          <p:cNvSpPr/>
          <p:nvPr/>
        </p:nvSpPr>
        <p:spPr>
          <a:xfrm>
            <a:off x="4433760" y="6299280"/>
            <a:ext cx="932040" cy="176040"/>
          </a:xfrm>
          <a:custGeom>
            <a:avLst/>
            <a:gdLst/>
            <a:ahLst/>
            <a:rect l="l" t="t" r="r" b="b"/>
            <a:pathLst>
              <a:path w="932872" h="175491">
                <a:moveTo>
                  <a:pt x="932872" y="83127"/>
                </a:moveTo>
                <a:cubicBezTo>
                  <a:pt x="926715" y="92363"/>
                  <a:pt x="923636" y="104678"/>
                  <a:pt x="914400" y="110836"/>
                </a:cubicBezTo>
                <a:cubicBezTo>
                  <a:pt x="886842" y="129208"/>
                  <a:pt x="849323" y="115384"/>
                  <a:pt x="822036" y="110836"/>
                </a:cubicBezTo>
                <a:cubicBezTo>
                  <a:pt x="779626" y="47222"/>
                  <a:pt x="833810" y="124573"/>
                  <a:pt x="766618" y="46182"/>
                </a:cubicBezTo>
                <a:cubicBezTo>
                  <a:pt x="759394" y="37754"/>
                  <a:pt x="757381" y="24631"/>
                  <a:pt x="748145" y="18473"/>
                </a:cubicBezTo>
                <a:cubicBezTo>
                  <a:pt x="737583" y="11432"/>
                  <a:pt x="723406" y="12723"/>
                  <a:pt x="711200" y="9236"/>
                </a:cubicBezTo>
                <a:cubicBezTo>
                  <a:pt x="701838" y="6561"/>
                  <a:pt x="692727" y="3079"/>
                  <a:pt x="683490" y="0"/>
                </a:cubicBezTo>
                <a:cubicBezTo>
                  <a:pt x="654225" y="14633"/>
                  <a:pt x="633580" y="22202"/>
                  <a:pt x="609600" y="46182"/>
                </a:cubicBezTo>
                <a:cubicBezTo>
                  <a:pt x="601751" y="54031"/>
                  <a:pt x="597285" y="64655"/>
                  <a:pt x="591127" y="73891"/>
                </a:cubicBezTo>
                <a:cubicBezTo>
                  <a:pt x="581181" y="113673"/>
                  <a:pt x="588336" y="111980"/>
                  <a:pt x="554181" y="138545"/>
                </a:cubicBezTo>
                <a:cubicBezTo>
                  <a:pt x="536656" y="152175"/>
                  <a:pt x="498763" y="175491"/>
                  <a:pt x="498763" y="175491"/>
                </a:cubicBezTo>
                <a:cubicBezTo>
                  <a:pt x="473636" y="169209"/>
                  <a:pt x="452628" y="168359"/>
                  <a:pt x="434109" y="147782"/>
                </a:cubicBezTo>
                <a:cubicBezTo>
                  <a:pt x="413513" y="124897"/>
                  <a:pt x="395768" y="99509"/>
                  <a:pt x="378690" y="73891"/>
                </a:cubicBezTo>
                <a:cubicBezTo>
                  <a:pt x="372533" y="64655"/>
                  <a:pt x="369312" y="52548"/>
                  <a:pt x="360218" y="46182"/>
                </a:cubicBezTo>
                <a:cubicBezTo>
                  <a:pt x="312858" y="13030"/>
                  <a:pt x="295578" y="11549"/>
                  <a:pt x="249381" y="0"/>
                </a:cubicBezTo>
                <a:cubicBezTo>
                  <a:pt x="205181" y="7366"/>
                  <a:pt x="186940" y="6349"/>
                  <a:pt x="147781" y="27709"/>
                </a:cubicBezTo>
                <a:cubicBezTo>
                  <a:pt x="128290" y="38340"/>
                  <a:pt x="92363" y="64655"/>
                  <a:pt x="92363" y="64655"/>
                </a:cubicBezTo>
                <a:cubicBezTo>
                  <a:pt x="86205" y="73891"/>
                  <a:pt x="84034" y="87856"/>
                  <a:pt x="73890" y="92364"/>
                </a:cubicBezTo>
                <a:cubicBezTo>
                  <a:pt x="52129" y="102035"/>
                  <a:pt x="24509" y="101600"/>
                  <a:pt x="0" y="101600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643200" y="57862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натий Лой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6" descr="ben01"/>
          <p:cNvPicPr/>
          <p:nvPr/>
        </p:nvPicPr>
        <p:blipFill>
          <a:blip r:embed="rId2"/>
          <a:stretch/>
        </p:blipFill>
        <p:spPr>
          <a:xfrm>
            <a:off x="142920" y="4857840"/>
            <a:ext cx="3527280" cy="186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6" name="Picture 7" descr="мон-рь цистерианцев"/>
          <p:cNvPicPr/>
          <p:nvPr/>
        </p:nvPicPr>
        <p:blipFill>
          <a:blip r:embed="rId3"/>
          <a:stretch/>
        </p:blipFill>
        <p:spPr>
          <a:xfrm>
            <a:off x="6500880" y="785880"/>
            <a:ext cx="2158920" cy="167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7" name="TextBox 8"/>
          <p:cNvSpPr/>
          <p:nvPr/>
        </p:nvSpPr>
        <p:spPr>
          <a:xfrm>
            <a:off x="6357960" y="24289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онастырь бенедиктинце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6" descr="францисканец"/>
          <p:cNvPicPr/>
          <p:nvPr/>
        </p:nvPicPr>
        <p:blipFill>
          <a:blip r:embed="rId4"/>
          <a:stretch/>
        </p:blipFill>
        <p:spPr>
          <a:xfrm>
            <a:off x="3929040" y="3071880"/>
            <a:ext cx="1141560" cy="2071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0"/>
          <p:cNvSpPr/>
          <p:nvPr/>
        </p:nvSpPr>
        <p:spPr>
          <a:xfrm>
            <a:off x="3929040" y="5143680"/>
            <a:ext cx="12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онах францисканец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38086"/>
                </a:solidFill>
                <a:uFillTx/>
                <a:latin typeface="Monotype Corsiva"/>
              </a:rPr>
              <a:t>Инквизиция- </a:t>
            </a:r>
            <a:r>
              <a:rPr b="0" lang="ru-RU" sz="3600" spc="-1" strike="noStrike">
                <a:solidFill>
                  <a:srgbClr val="438086"/>
                </a:solidFill>
                <a:latin typeface="Monotype Corsiva"/>
              </a:rPr>
              <a:t>специальный трибунал для  борьбы с еретика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Рисунок 3" descr="67bf24a54c8b.jpg"/>
          <p:cNvPicPr/>
          <p:nvPr/>
        </p:nvPicPr>
        <p:blipFill>
          <a:blip r:embed="rId1"/>
          <a:stretch/>
        </p:blipFill>
        <p:spPr>
          <a:xfrm>
            <a:off x="428760" y="1714680"/>
            <a:ext cx="7072200" cy="4316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800px-Tribunal_de_la_Inquisici%C3%B3n"/>
          <p:cNvPicPr/>
          <p:nvPr/>
        </p:nvPicPr>
        <p:blipFill>
          <a:blip r:embed="rId2"/>
          <a:stretch/>
        </p:blipFill>
        <p:spPr>
          <a:xfrm>
            <a:off x="4500720" y="3956040"/>
            <a:ext cx="4643280" cy="290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В конце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XI - 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начале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 X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в. папы укрепили свою власть. Попытки некоторых императоров подчинить себе Италию не удались (Фридрих Барбаросса (1152-1190гг.) и его внук Фридрих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(1212-1250)).</a:t>
            </a:r>
            <a:br>
              <a:rPr sz="36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 flipH="1">
            <a:off x="56952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>
            <a:off x="571680" y="571680"/>
            <a:ext cx="2786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 flipH="1">
            <a:off x="335556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571680" y="3000240"/>
            <a:ext cx="2786040" cy="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5" descr="барбаросса"/>
          <p:cNvPicPr/>
          <p:nvPr/>
        </p:nvPicPr>
        <p:blipFill>
          <a:blip r:embed="rId1"/>
          <a:stretch/>
        </p:blipFill>
        <p:spPr>
          <a:xfrm>
            <a:off x="714240" y="3214800"/>
            <a:ext cx="2214720" cy="34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9" name="TextBox 14"/>
          <p:cNvSpPr/>
          <p:nvPr/>
        </p:nvSpPr>
        <p:spPr>
          <a:xfrm>
            <a:off x="3286080" y="450072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амый могущественный из римских пап Иннокентий </a:t>
            </a:r>
            <a:r>
              <a:rPr b="1" lang="en-US" sz="1800" spc="-1" strike="noStrike">
                <a:solidFill>
                  <a:srgbClr val="438086"/>
                </a:solidFill>
                <a:latin typeface="Georgia"/>
              </a:rPr>
              <a:t>III</a:t>
            </a: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 (1198-1216гг) заявлял, что папа – наместник Иисуса Христа на земле, а потому он выше всех властей, церковных и светски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6" descr="иннокентий 3"/>
          <p:cNvPicPr/>
          <p:nvPr/>
        </p:nvPicPr>
        <p:blipFill>
          <a:blip r:embed="rId2"/>
          <a:stretch/>
        </p:blipFill>
        <p:spPr>
          <a:xfrm>
            <a:off x="4572000" y="1000080"/>
            <a:ext cx="2944800" cy="33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04:53Z</dcterms:created>
  <dc:creator>Екатерина</dc:creator>
  <dc:description/>
  <dc:language>en-US</dc:language>
  <cp:lastModifiedBy>User</cp:lastModifiedBy>
  <dcterms:modified xsi:type="dcterms:W3CDTF">2013-07-10T09:15:01Z</dcterms:modified>
  <cp:revision>12</cp:revision>
  <dc:subject/>
  <dc:title>Тема урока: «Католическая церковная организация»</dc:title>
</cp:coreProperties>
</file>