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DAED-5D48-428D-BB1D-76D1C3AF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61C9-F53F-4AD0-A8DF-03BACD44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AF7-4290-4C2B-9384-856F354A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A21-C6DE-4B5A-BD95-C6317BE2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4BA1-A6CE-4DCD-8C0C-AC425152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BDE1-ABC6-4B23-BA22-8F2ADF69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C15D-94A2-4071-9E4C-E4F8D2DB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1BD1-CEA9-488A-B584-76124357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19D3-A56C-439E-BC1E-4A20302C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2E75-FE46-44CE-85E2-1ACEE591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A01A-72FA-42DD-9913-3758B53B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D10D-3805-4480-8EA3-374B5D8D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BFBC-3EAD-46AA-9662-4018B5BA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F076-C2F2-4591-BCFD-87819C8E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D557-F336-4069-A35A-DFD86ADE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6586-F02A-4699-96BA-321EDC6B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A8BA-1D24-412F-BCA6-FB1671A5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A1BEE-11C3-44A4-AD94-143B2F0C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5796F-BC5A-40C0-BE75-D14C517C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D7D93-8EE0-4924-9EDD-5EEAC6D4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B5D25-417D-40EF-8F08-746EABD5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3F71A-FDE7-441F-9D7B-4F0778DE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4D3-5816-4972-803C-93390C35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F8307-642C-4C07-9D42-F0F58A38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E4F1B-4FC7-414B-831E-7E8126E3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446FA9-2B33-47EF-B735-90C1D1C5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DDBCF-ADA2-484C-9A48-278DF908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0FEB6-4933-441E-90C9-E3B4E597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BB03C-E7AE-4897-8719-44D4CD9E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571FF-E492-4069-AAAE-8AB2B7F3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A939E-F293-4C45-A485-9BBB31A1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C7565-4670-4DEA-AC19-D700EA64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F1A86-4723-4531-912C-C282C06D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34F-2B4C-437F-965F-F8EF2614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A0DD0-14AA-4157-8ED8-211BB437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EE4C7-A5CC-404F-A022-CFDE99C9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5D442-CCCE-439C-9DD3-207004AF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48BF6-A18D-475D-9CA3-0CDB3CB3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25336-2601-4E0D-A021-48D91400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81F3A-4654-4842-A142-A6F8E097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BF1A6-C96B-4DF6-945C-D28E0634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0AD33-D1E7-473F-B830-A352ACCB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0B741-C2EC-44E7-877A-16E70AAB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0F7-25BA-49BE-8DD1-D1CFF5AE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0F2-AA49-4A84-87BA-2D0C3479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908-81CC-42F6-BA48-9308A637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ACD5-F183-4A58-84AD-3D7A3F4B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FE40-00D3-4E4D-802E-3800A9D2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33BB-F27E-4A1B-B1A5-EAB23B9CD17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887B-5BB5-4F8A-B286-6ABCBD7784B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F73F-836E-4506-8EFA-2F8ED3B4D96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5EB2-627E-4D6D-B7DF-87809D30FFD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400" y="1428480"/>
            <a:ext cx="8458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ru-RU" sz="2900" spc="-1" strike="noStrike">
                <a:solidFill>
                  <a:srgbClr val="ffffff"/>
                </a:solidFill>
                <a:latin typeface="Monotype Corsiva"/>
              </a:rPr>
              <a:t>Тема урока: «Католическая церковная организация»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214720" y="4928760"/>
            <a:ext cx="4952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                      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2011 г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785960" y="142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униципальное образовательное учреждение  СОШ № 1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38086"/>
                </a:solidFill>
                <a:uFillTx/>
                <a:latin typeface="Monotype Corsiva"/>
              </a:rPr>
              <a:t>Крестовые поход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2" name="Содержимое 3" descr="charge des templiers.jpg"/>
          <p:cNvPicPr/>
          <p:nvPr/>
        </p:nvPicPr>
        <p:blipFill>
          <a:blip r:embed="rId1"/>
          <a:stretch/>
        </p:blipFill>
        <p:spPr>
          <a:xfrm>
            <a:off x="1214280" y="1643040"/>
            <a:ext cx="65725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Monotype Corsiva"/>
              </a:rPr>
              <a:t>Цель урока: проверить знания учащихся по теме          </a:t>
            </a:r>
            <a:br>
              <a:rPr sz="2800"/>
            </a:br>
            <a:r>
              <a:rPr b="0" lang="ru-RU" sz="2800" spc="-1" strike="noStrike">
                <a:solidFill>
                  <a:srgbClr val="424456"/>
                </a:solidFill>
                <a:latin typeface="Monotype Corsiva"/>
              </a:rPr>
              <a:t>« Особенности вероучения и культа»; изучить организацию и управление католической церкви</a:t>
            </a:r>
            <a:br>
              <a:rPr sz="28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38086"/>
                </a:solidFill>
                <a:latin typeface="Monotype Corsiva"/>
              </a:rPr>
              <a:t>Международный центр управления - Ватикан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Рисунок 4" descr="99_BaTukaH2.jpg"/>
          <p:cNvPicPr/>
          <p:nvPr/>
        </p:nvPicPr>
        <p:blipFill>
          <a:blip r:embed="rId1"/>
          <a:stretch/>
        </p:blipFill>
        <p:spPr>
          <a:xfrm>
            <a:off x="642960" y="1500120"/>
            <a:ext cx="7786800" cy="45007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714240" y="6143760"/>
            <a:ext cx="77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атикан- государство с населением 2 тыс.человек, расположенное в центре Рима, занимающее площадь 44 г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38086"/>
                </a:solidFill>
                <a:latin typeface="Monotype Corsiva"/>
              </a:rPr>
              <a:t>Глава католической церкви- Папа Римский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2" name="Рисунок 3" descr="Иоанн Павел II.jpg"/>
          <p:cNvPicPr/>
          <p:nvPr/>
        </p:nvPicPr>
        <p:blipFill>
          <a:blip r:embed="rId1"/>
          <a:stretch/>
        </p:blipFill>
        <p:spPr>
          <a:xfrm>
            <a:off x="1000080" y="1428840"/>
            <a:ext cx="6786720" cy="48481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2857680" y="628668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Monotype Corsiva"/>
              </a:rPr>
              <a:t>Понтифик  Иоанн Павел 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8086"/>
                </a:solidFill>
                <a:latin typeface="Monotype Corsiva"/>
              </a:rPr>
              <a:t>Папа избирается пожизненно на закрытом собрании кардиналов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5" name="Содержимое 5" descr="kardinaly.jpg"/>
          <p:cNvPicPr/>
          <p:nvPr/>
        </p:nvPicPr>
        <p:blipFill>
          <a:blip r:embed="rId1"/>
          <a:stretch/>
        </p:blipFill>
        <p:spPr>
          <a:xfrm>
            <a:off x="428760" y="1643040"/>
            <a:ext cx="5638680" cy="39290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6" descr="DSC_0612.jpg"/>
          <p:cNvPicPr/>
          <p:nvPr/>
        </p:nvPicPr>
        <p:blipFill>
          <a:blip r:embed="rId2"/>
          <a:stretch/>
        </p:blipFill>
        <p:spPr>
          <a:xfrm>
            <a:off x="4572000" y="3857760"/>
            <a:ext cx="4357800" cy="29178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7"/>
          <p:cNvSpPr/>
          <p:nvPr/>
        </p:nvSpPr>
        <p:spPr>
          <a:xfrm>
            <a:off x="6215040" y="1643040"/>
            <a:ext cx="264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Для управления церковью папа имеет систему органов власти- Святой престо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0000"/>
                </a:solidFill>
                <a:uFillTx/>
                <a:latin typeface="Monotype Corsiva"/>
              </a:rPr>
              <a:t>Епархия</a:t>
            </a: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- </a:t>
            </a:r>
            <a:r>
              <a:rPr b="0" lang="ru-RU" sz="2200" spc="-1" strike="noStrike">
                <a:solidFill>
                  <a:srgbClr val="ff0000"/>
                </a:solidFill>
                <a:latin typeface="Monotype Corsiva"/>
              </a:rPr>
              <a:t>сообщество католиков той или иной территории</a:t>
            </a:r>
            <a:br>
              <a:rPr sz="2200"/>
            </a:br>
            <a:r>
              <a:rPr b="1" lang="ru-RU" sz="2200" spc="-1" strike="noStrike" u="sng">
                <a:solidFill>
                  <a:srgbClr val="ff0000"/>
                </a:solidFill>
                <a:uFillTx/>
                <a:latin typeface="Monotype Corsiva"/>
              </a:rPr>
              <a:t>Митрополия- </a:t>
            </a:r>
            <a:r>
              <a:rPr b="0" lang="ru-RU" sz="2200" spc="-1" strike="noStrike">
                <a:solidFill>
                  <a:srgbClr val="ff0000"/>
                </a:solidFill>
                <a:latin typeface="Monotype Corsiva"/>
              </a:rPr>
              <a:t>объединение нескольких епархий ( возглавляет митрополит)</a:t>
            </a:r>
            <a:endParaRPr b="0" lang="en-US" sz="2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9" name="Содержимое 3" descr="N010-8241.jpg"/>
          <p:cNvPicPr/>
          <p:nvPr/>
        </p:nvPicPr>
        <p:blipFill>
          <a:blip r:embed="rId1"/>
          <a:stretch/>
        </p:blipFill>
        <p:spPr>
          <a:xfrm>
            <a:off x="1143000" y="1857240"/>
            <a:ext cx="650088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50004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991cb"/>
                </a:solidFill>
                <a:latin typeface="Monotype Corsiva"/>
              </a:rPr>
              <a:t>Монашеские ордена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28760" y="16430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991cb"/>
                </a:solidFill>
                <a:latin typeface="Monotype Corsiva"/>
              </a:rPr>
              <a:t>Бенедиктинцы ( орден возник в 6 веке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991cb"/>
                </a:solidFill>
                <a:latin typeface="Monotype Corsiva"/>
              </a:rPr>
              <a:t>Доминиканцы( орден возник  в 12 веке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991cb"/>
                </a:solidFill>
                <a:latin typeface="Monotype Corsiva"/>
              </a:rPr>
              <a:t>Орден иезуитов (основан в 16 век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991cb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c991cb"/>
                </a:solidFill>
                <a:latin typeface="Monotype Corsiva"/>
              </a:rPr>
              <a:t>Игнатием Лойолой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991cb"/>
                </a:solidFill>
                <a:latin typeface="Monotype Corsiva"/>
              </a:rPr>
              <a:t>Тевтонский орден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2" name="Рисунок 3" descr="loyola.jpg"/>
          <p:cNvPicPr/>
          <p:nvPr/>
        </p:nvPicPr>
        <p:blipFill>
          <a:blip r:embed="rId1"/>
          <a:stretch/>
        </p:blipFill>
        <p:spPr>
          <a:xfrm>
            <a:off x="5500800" y="2786040"/>
            <a:ext cx="3286080" cy="3786120"/>
          </a:xfrm>
          <a:prstGeom prst="rect">
            <a:avLst/>
          </a:prstGeom>
          <a:ln w="0">
            <a:noFill/>
          </a:ln>
        </p:spPr>
      </p:pic>
      <p:sp>
        <p:nvSpPr>
          <p:cNvPr id="233" name="Полилиния 4"/>
          <p:cNvSpPr/>
          <p:nvPr/>
        </p:nvSpPr>
        <p:spPr>
          <a:xfrm>
            <a:off x="4433760" y="6299280"/>
            <a:ext cx="932040" cy="176040"/>
          </a:xfrm>
          <a:custGeom>
            <a:avLst/>
            <a:gdLst/>
            <a:ahLst/>
            <a:rect l="l" t="t" r="r" b="b"/>
            <a:pathLst>
              <a:path w="932872" h="175491">
                <a:moveTo>
                  <a:pt x="932872" y="83127"/>
                </a:moveTo>
                <a:cubicBezTo>
                  <a:pt x="926715" y="92363"/>
                  <a:pt x="923636" y="104678"/>
                  <a:pt x="914400" y="110836"/>
                </a:cubicBezTo>
                <a:cubicBezTo>
                  <a:pt x="886842" y="129208"/>
                  <a:pt x="849323" y="115384"/>
                  <a:pt x="822036" y="110836"/>
                </a:cubicBezTo>
                <a:cubicBezTo>
                  <a:pt x="779626" y="47222"/>
                  <a:pt x="833810" y="124573"/>
                  <a:pt x="766618" y="46182"/>
                </a:cubicBezTo>
                <a:cubicBezTo>
                  <a:pt x="759394" y="37754"/>
                  <a:pt x="757381" y="24631"/>
                  <a:pt x="748145" y="18473"/>
                </a:cubicBezTo>
                <a:cubicBezTo>
                  <a:pt x="737583" y="11432"/>
                  <a:pt x="723406" y="12723"/>
                  <a:pt x="711200" y="9236"/>
                </a:cubicBezTo>
                <a:cubicBezTo>
                  <a:pt x="701838" y="6561"/>
                  <a:pt x="692727" y="3079"/>
                  <a:pt x="683490" y="0"/>
                </a:cubicBezTo>
                <a:cubicBezTo>
                  <a:pt x="654225" y="14633"/>
                  <a:pt x="633580" y="22202"/>
                  <a:pt x="609600" y="46182"/>
                </a:cubicBezTo>
                <a:cubicBezTo>
                  <a:pt x="601751" y="54031"/>
                  <a:pt x="597285" y="64655"/>
                  <a:pt x="591127" y="73891"/>
                </a:cubicBezTo>
                <a:cubicBezTo>
                  <a:pt x="581181" y="113673"/>
                  <a:pt x="588336" y="111980"/>
                  <a:pt x="554181" y="138545"/>
                </a:cubicBezTo>
                <a:cubicBezTo>
                  <a:pt x="536656" y="152175"/>
                  <a:pt x="498763" y="175491"/>
                  <a:pt x="498763" y="175491"/>
                </a:cubicBezTo>
                <a:cubicBezTo>
                  <a:pt x="473636" y="169209"/>
                  <a:pt x="452628" y="168359"/>
                  <a:pt x="434109" y="147782"/>
                </a:cubicBezTo>
                <a:cubicBezTo>
                  <a:pt x="413513" y="124897"/>
                  <a:pt x="395768" y="99509"/>
                  <a:pt x="378690" y="73891"/>
                </a:cubicBezTo>
                <a:cubicBezTo>
                  <a:pt x="372533" y="64655"/>
                  <a:pt x="369312" y="52548"/>
                  <a:pt x="360218" y="46182"/>
                </a:cubicBezTo>
                <a:cubicBezTo>
                  <a:pt x="312858" y="13030"/>
                  <a:pt x="295578" y="11549"/>
                  <a:pt x="249381" y="0"/>
                </a:cubicBezTo>
                <a:cubicBezTo>
                  <a:pt x="205181" y="7366"/>
                  <a:pt x="186940" y="6349"/>
                  <a:pt x="147781" y="27709"/>
                </a:cubicBezTo>
                <a:cubicBezTo>
                  <a:pt x="128290" y="38340"/>
                  <a:pt x="92363" y="64655"/>
                  <a:pt x="92363" y="64655"/>
                </a:cubicBezTo>
                <a:cubicBezTo>
                  <a:pt x="86205" y="73891"/>
                  <a:pt x="84034" y="87856"/>
                  <a:pt x="73890" y="92364"/>
                </a:cubicBezTo>
                <a:cubicBezTo>
                  <a:pt x="52129" y="102035"/>
                  <a:pt x="24509" y="101600"/>
                  <a:pt x="0" y="101600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3643200" y="57862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гнатий Лойол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6" descr="ben01"/>
          <p:cNvPicPr/>
          <p:nvPr/>
        </p:nvPicPr>
        <p:blipFill>
          <a:blip r:embed="rId2"/>
          <a:stretch/>
        </p:blipFill>
        <p:spPr>
          <a:xfrm>
            <a:off x="142920" y="4857840"/>
            <a:ext cx="3527280" cy="1861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6" name="Picture 7" descr="мон-рь цистерианцев"/>
          <p:cNvPicPr/>
          <p:nvPr/>
        </p:nvPicPr>
        <p:blipFill>
          <a:blip r:embed="rId3"/>
          <a:stretch/>
        </p:blipFill>
        <p:spPr>
          <a:xfrm>
            <a:off x="6500880" y="785880"/>
            <a:ext cx="2158920" cy="167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7" name="TextBox 8"/>
          <p:cNvSpPr/>
          <p:nvPr/>
        </p:nvSpPr>
        <p:spPr>
          <a:xfrm>
            <a:off x="6357960" y="2428920"/>
            <a:ext cx="25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онастырь бенедиктинцев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6" descr="францисканец"/>
          <p:cNvPicPr/>
          <p:nvPr/>
        </p:nvPicPr>
        <p:blipFill>
          <a:blip r:embed="rId4"/>
          <a:stretch/>
        </p:blipFill>
        <p:spPr>
          <a:xfrm>
            <a:off x="3929040" y="3071880"/>
            <a:ext cx="1141560" cy="20718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0"/>
          <p:cNvSpPr/>
          <p:nvPr/>
        </p:nvSpPr>
        <p:spPr>
          <a:xfrm>
            <a:off x="3929040" y="5143680"/>
            <a:ext cx="128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Монах францисканец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438086"/>
                </a:solidFill>
                <a:uFillTx/>
                <a:latin typeface="Monotype Corsiva"/>
              </a:rPr>
              <a:t>Инквизиция- </a:t>
            </a:r>
            <a:r>
              <a:rPr b="0" lang="ru-RU" sz="3600" spc="-1" strike="noStrike">
                <a:solidFill>
                  <a:srgbClr val="438086"/>
                </a:solidFill>
                <a:latin typeface="Monotype Corsiva"/>
              </a:rPr>
              <a:t>специальный трибунал для  борьбы с еретикам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1" name="Рисунок 3" descr="67bf24a54c8b.jpg"/>
          <p:cNvPicPr/>
          <p:nvPr/>
        </p:nvPicPr>
        <p:blipFill>
          <a:blip r:embed="rId1"/>
          <a:stretch/>
        </p:blipFill>
        <p:spPr>
          <a:xfrm>
            <a:off x="428760" y="1714680"/>
            <a:ext cx="7072200" cy="4316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800px-Tribunal_de_la_Inquisici%C3%B3n"/>
          <p:cNvPicPr/>
          <p:nvPr/>
        </p:nvPicPr>
        <p:blipFill>
          <a:blip r:embed="rId2"/>
          <a:stretch/>
        </p:blipFill>
        <p:spPr>
          <a:xfrm>
            <a:off x="4500720" y="3956040"/>
            <a:ext cx="4643280" cy="2901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9680" y="1142640"/>
            <a:ext cx="314316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04da3"/>
                </a:solidFill>
                <a:latin typeface="Trebuchet MS"/>
              </a:rPr>
              <a:t>В конце </a:t>
            </a:r>
            <a:r>
              <a:rPr b="1" lang="en-US" sz="1800" spc="-1" strike="noStrike">
                <a:solidFill>
                  <a:srgbClr val="a04da3"/>
                </a:solidFill>
                <a:latin typeface="Trebuchet MS"/>
              </a:rPr>
              <a:t>XI - </a:t>
            </a:r>
            <a:r>
              <a:rPr b="1" lang="ru-RU" sz="1800" spc="-1" strike="noStrike">
                <a:solidFill>
                  <a:srgbClr val="a04da3"/>
                </a:solidFill>
                <a:latin typeface="Trebuchet MS"/>
              </a:rPr>
              <a:t>начале</a:t>
            </a:r>
            <a:r>
              <a:rPr b="1" lang="en-US" sz="1800" spc="-1" strike="noStrike">
                <a:solidFill>
                  <a:srgbClr val="a04da3"/>
                </a:solidFill>
                <a:latin typeface="Trebuchet MS"/>
              </a:rPr>
              <a:t> XII</a:t>
            </a:r>
            <a:r>
              <a:rPr b="1" lang="ru-RU" sz="1800" spc="-1" strike="noStrike">
                <a:solidFill>
                  <a:srgbClr val="a04da3"/>
                </a:solidFill>
                <a:latin typeface="Trebuchet MS"/>
              </a:rPr>
              <a:t> в. папы укрепили свою власть. Попытки некоторых императоров подчинить себе Италию не удались (Фридрих Барбаросса (1152-1190гг.) и его внук Фридрих </a:t>
            </a:r>
            <a:r>
              <a:rPr b="1" lang="en-US" sz="1800" spc="-1" strike="noStrike">
                <a:solidFill>
                  <a:srgbClr val="a04da3"/>
                </a:solidFill>
                <a:latin typeface="Trebuchet MS"/>
              </a:rPr>
              <a:t>II</a:t>
            </a:r>
            <a:r>
              <a:rPr b="1" lang="ru-RU" sz="1800" spc="-1" strike="noStrike">
                <a:solidFill>
                  <a:srgbClr val="a04da3"/>
                </a:solidFill>
                <a:latin typeface="Trebuchet MS"/>
              </a:rPr>
              <a:t> (1212-1250)).</a:t>
            </a:r>
            <a:br>
              <a:rPr sz="36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Прямая соединительная линия 5"/>
          <p:cNvSpPr/>
          <p:nvPr/>
        </p:nvSpPr>
        <p:spPr>
          <a:xfrm flipH="1">
            <a:off x="569520" y="571680"/>
            <a:ext cx="1800" cy="242856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Прямая соединительная линия 7"/>
          <p:cNvSpPr/>
          <p:nvPr/>
        </p:nvSpPr>
        <p:spPr>
          <a:xfrm>
            <a:off x="571680" y="571680"/>
            <a:ext cx="2786040" cy="14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Прямая соединительная линия 9"/>
          <p:cNvSpPr/>
          <p:nvPr/>
        </p:nvSpPr>
        <p:spPr>
          <a:xfrm flipH="1">
            <a:off x="3355560" y="571680"/>
            <a:ext cx="1800" cy="242856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Прямая соединительная линия 11"/>
          <p:cNvSpPr/>
          <p:nvPr/>
        </p:nvSpPr>
        <p:spPr>
          <a:xfrm>
            <a:off x="571680" y="3000240"/>
            <a:ext cx="2786040" cy="18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Picture 5" descr="барбаросса"/>
          <p:cNvPicPr/>
          <p:nvPr/>
        </p:nvPicPr>
        <p:blipFill>
          <a:blip r:embed="rId1"/>
          <a:stretch/>
        </p:blipFill>
        <p:spPr>
          <a:xfrm>
            <a:off x="714240" y="3214800"/>
            <a:ext cx="2214720" cy="3409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9" name="TextBox 14"/>
          <p:cNvSpPr/>
          <p:nvPr/>
        </p:nvSpPr>
        <p:spPr>
          <a:xfrm>
            <a:off x="3286080" y="4500720"/>
            <a:ext cx="521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амый могущественный из римских пап Иннокентий </a:t>
            </a:r>
            <a:r>
              <a:rPr b="1" lang="en-US" sz="1800" spc="-1" strike="noStrike">
                <a:solidFill>
                  <a:srgbClr val="438086"/>
                </a:solidFill>
                <a:latin typeface="Georgia"/>
              </a:rPr>
              <a:t>III</a:t>
            </a: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 (1198-1216гг) заявлял, что папа – наместник Иисуса Христа на земле, а потому он выше всех властей, церковных и светских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0" name="Picture 6" descr="иннокентий 3"/>
          <p:cNvPicPr/>
          <p:nvPr/>
        </p:nvPicPr>
        <p:blipFill>
          <a:blip r:embed="rId2"/>
          <a:stretch/>
        </p:blipFill>
        <p:spPr>
          <a:xfrm>
            <a:off x="4572000" y="1000080"/>
            <a:ext cx="2944800" cy="338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1:04:53Z</dcterms:created>
  <dc:creator>Екатерина</dc:creator>
  <dc:description/>
  <dc:language>en-US</dc:language>
  <cp:lastModifiedBy>User</cp:lastModifiedBy>
  <dcterms:modified xsi:type="dcterms:W3CDTF">2013-07-10T09:15:01Z</dcterms:modified>
  <cp:revision>12</cp:revision>
  <dc:subject/>
  <dc:title>Тема урока: «Католическая церковная организация»</dc:title>
</cp:coreProperties>
</file>