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3.png" ContentType="image/png"/>
  <Override PartName="/ppt/media/image22.jpeg" ContentType="image/jpeg"/>
  <Override PartName="/ppt/media/image9.png" ContentType="image/png"/>
  <Override PartName="/ppt/media/image21.png" ContentType="image/png"/>
  <Override PartName="/ppt/media/image19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.png" ContentType="image/png"/>
  <Override PartName="/ppt/media/image24.jpeg" ContentType="image/jpeg"/>
  <Override PartName="/ppt/media/image20.png" ContentType="image/png"/>
  <Override PartName="/ppt/media/image18.png" ContentType="image/png"/>
  <Override PartName="/ppt/media/image28.jpeg" ContentType="image/jpeg"/>
  <Override PartName="/ppt/media/image7.jpeg" ContentType="image/jpeg"/>
  <Override PartName="/ppt/media/image38.jpeg" ContentType="image/jpeg"/>
  <Override PartName="/ppt/media/image14.jpeg" ContentType="image/jpeg"/>
  <Override PartName="/ppt/media/image12.png" ContentType="image/png"/>
  <Override PartName="/ppt/media/image31.jpeg" ContentType="image/jpeg"/>
  <Override PartName="/ppt/media/image8.png" ContentType="image/png"/>
  <Override PartName="/ppt/media/image39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13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10.png" ContentType="image/png"/>
  <Override PartName="/ppt/media/image35.jpeg" ContentType="image/jpeg"/>
  <Override PartName="/ppt/media/image5.png" ContentType="image/png"/>
  <Override PartName="/ppt/media/image29.jpeg" ContentType="image/jpeg"/>
  <Override PartName="/ppt/media/image34.png" ContentType="image/png"/>
  <Override PartName="/ppt/media/image4.png" ContentType="image/png"/>
  <Override PartName="/ppt/media/image2.png" ContentType="image/png"/>
  <Override PartName="/ppt/media/image25.jpeg" ContentType="image/jpeg"/>
  <Override PartName="/ppt/media/image32.png" ContentType="image/png"/>
  <Override PartName="/ppt/media/image30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2ED9-E666-49F8-B398-9359D324F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0864-767C-419B-8606-7D9D64941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FCF6-A1CF-417B-B5DC-3620C18BD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C696-A976-436C-A7E4-EB864BC77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7818F-15AC-46A9-AA9F-A6E97458B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48BD5-CFAF-41D2-B601-B14AC9248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A0157-1BB1-4336-B412-525473467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7E60C-C9C3-40BF-AC2E-701D3A12A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4DC9D-E18E-4434-9D6B-226375AEF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C5311-029C-4497-9751-FCD2E6414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FA417-1DA6-4544-BBE1-33451E30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685F-5838-4B0A-B2E4-D37489E12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5E4BD-0EC1-4FEF-A69A-5914473C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ABF23-58B3-494D-A5BA-207E6BCD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98147-F9E4-4B68-9CB4-AA78504D9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10CE6-E711-40D8-B198-46B6B5CE6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4AE5F-5A7C-472C-B8A6-9F63AEB80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AE3D9-3E13-4AA0-8E92-1B99E314F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8D453-D9B6-4FA3-A036-37EBE6AF1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C21FD-27CD-463E-9461-EE85E9F13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55E6D-4D59-486C-AA9C-99073C346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982DB-8C75-4C46-9FF5-7D52887DA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1636-5C6B-49BB-BB7E-F0360BCA9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A0297-6F8E-4C98-A3BC-F35A4BE12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735C3-063D-4B6D-90E7-A48D0643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B8624-6815-4D36-BC79-747B090A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9F1EA-F8C5-4C6C-8DD2-0D543378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77D65-8525-4EF6-BD0D-713212BE2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868D9-8136-4131-85E5-34FC32777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0AECE-821D-47F3-A6EB-7C8D84D91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B9CB6-BD55-4BD0-9263-CA08D7480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A8375-EB7E-442A-85DB-68975BED5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ACD41-E28C-4538-AB27-3AD11990D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524A-9FCD-45C6-B252-206A37395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9846B-DFBD-4BA1-9831-474888984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5156E-2959-41A0-9C16-ECF92651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D9D3C-9B19-4796-AA92-BC91A5289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A0345-13EE-49AF-A3D4-387BB689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E89CE-F42E-4F4F-8693-5541C9E8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170C4-DAC2-4E41-832F-01C43DBC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FCF4D-4651-4314-BB05-00B6B3945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5E780-C28F-4265-86BA-E76B38893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7CED3-63F3-4939-A00A-B3881FBD6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1ABFA-B93B-409C-8D81-E0DD7552B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7D77-45D9-4120-A9E8-D6ADCFD6C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4024C-43F1-445E-B3EA-564555944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67608-99A6-4F50-8090-A78C13E7E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4203E-BA99-4DB1-9E69-B07602A9E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3BE4A-1144-4E4A-AE32-2EE65ADDF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8F825-C413-4C44-AF88-31ACEF371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68D85-ABBA-4E00-A3C5-594A2438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4D317-F8A4-4FFE-85E7-5EF5A21C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1CEA5-2C9B-429F-8830-37139A56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04ABD-2E24-4A33-B818-1A00ADBEA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D4148-AD5C-4D21-B6A1-415CD2DE4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ADA8-3411-4A80-BADD-70468EC8F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99199-1B31-4300-A9ED-BE299FEAD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20EFF-F831-4F3B-93D7-81560EE63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2A30BB-0FFD-45E6-9DFB-0A34EAB26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221D8-4991-48AB-9F5D-12EB24F56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A28FBF-718C-4629-82E2-8C90DFA76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D1922-8ED0-4541-B084-002B5DA83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95422-6CD9-41D8-A726-C8628EFF8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42D5A-C83F-4A84-AB57-B592E373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27EFA-3712-4B61-973F-5C3CB861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A20AFA-1318-422F-8FEB-E7264F07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6812-A418-408B-B315-51DDD394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A7570-FD06-4A71-BD3F-06D840427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53AD9-F267-4315-AD99-617F3A100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D2E16-CC83-4ED8-B553-E23AB5235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58BBC-FD0A-47BE-90D6-4E13F2382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BEA111-036B-411F-B270-988D47877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85666-74C9-40FB-89C0-8DBA1B729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5DC5F7-B1BB-4B2C-9246-3558A0E0C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5D90C-F15C-40EB-8E91-104A14B5C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E76198-60D4-4B22-A2AB-1589391FA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51E6D-911E-452D-B9E5-3FD6FA74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E661-ECC7-49CA-95EB-186EE10A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A1D3AD-37EC-41DB-969E-1CB3C67C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9E479-5CA7-4713-BE3E-941009A0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909F45-4E5F-4EE6-B919-8DF42338D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F341BC-7340-4572-B699-962ED3E70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30326-6583-4A21-824D-A6190358D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E3D95-1891-447A-85C9-535619538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C00907-ADED-42E6-A820-0E7B6CDB2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EA9848-0F25-4D59-8B47-6FD74EBF8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F8D70-1558-4680-8FAA-29EBA9FE3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F6C949-3C2B-4962-828E-B4066F145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388B-5B36-46CC-BD66-C5F50FF4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04AAB1-1FDC-4773-AD9D-CC9D50C9D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BCBB25-79F6-4D84-9301-BA7E978A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F1055E-2BCC-47D5-B06D-0D83C52A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7A7D10-C2E5-4B44-8C99-4CBF7980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0CF6EE-4DDC-4DDE-8813-78E30F1DF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3E219F-ED71-45A5-93E6-500F07FC9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D7C83C-1F5C-4C5A-9275-73D1BE919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D77DA-7C74-467F-9BAF-88FB4C24B41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B80E6-DAD9-46B8-B87C-AC91E140BA0E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10200-9FF6-4912-B83D-9F50C6F8B75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Прямая соединительная линия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Прямая соединительная линия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8498C-75E0-418C-98A6-0A430DB317D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7BFB7-48F3-447E-8EC0-72C3441C26B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7B457-EC66-4574-97F6-2549E2FE4C6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9E9F2-5325-402E-BA0E-FDF2231D4DD6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E34AB-9442-4BF1-8290-CE7F364BB221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1" descr=""/>
          <p:cNvPicPr/>
          <p:nvPr/>
        </p:nvPicPr>
        <p:blipFill>
          <a:blip r:embed="rId1"/>
          <a:stretch/>
        </p:blipFill>
        <p:spPr>
          <a:xfrm>
            <a:off x="500040" y="-30240"/>
            <a:ext cx="8064360" cy="2889360"/>
          </a:xfrm>
          <a:prstGeom prst="rect">
            <a:avLst/>
          </a:prstGeom>
          <a:ln w="0">
            <a:noFill/>
          </a:ln>
        </p:spPr>
      </p:pic>
      <p:pic>
        <p:nvPicPr>
          <p:cNvPr id="346" name="Подзаголовок 2" descr=""/>
          <p:cNvPicPr/>
          <p:nvPr/>
        </p:nvPicPr>
        <p:blipFill>
          <a:blip r:embed="rId2"/>
          <a:stretch/>
        </p:blipFill>
        <p:spPr>
          <a:xfrm>
            <a:off x="573120" y="5931000"/>
            <a:ext cx="8058240" cy="1030320"/>
          </a:xfrm>
          <a:prstGeom prst="rect">
            <a:avLst/>
          </a:prstGeom>
          <a:ln w="0">
            <a:noFill/>
          </a:ln>
        </p:spPr>
      </p:pic>
      <p:pic>
        <p:nvPicPr>
          <p:cNvPr id="347" name="Рисунок 3" descr="католицизм.jpg"/>
          <p:cNvPicPr/>
          <p:nvPr/>
        </p:nvPicPr>
        <p:blipFill>
          <a:blip r:embed="rId3"/>
          <a:stretch/>
        </p:blipFill>
        <p:spPr>
          <a:xfrm>
            <a:off x="2143080" y="2500200"/>
            <a:ext cx="521496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Заголовок 1" descr=""/>
          <p:cNvPicPr/>
          <p:nvPr/>
        </p:nvPicPr>
        <p:blipFill>
          <a:blip r:embed="rId1"/>
          <a:stretch/>
        </p:blipFill>
        <p:spPr>
          <a:xfrm>
            <a:off x="426960" y="85680"/>
            <a:ext cx="8064720" cy="1206720"/>
          </a:xfrm>
          <a:prstGeom prst="rect">
            <a:avLst/>
          </a:prstGeom>
          <a:ln w="0">
            <a:noFill/>
          </a:ln>
        </p:spPr>
      </p:pic>
      <p:pic>
        <p:nvPicPr>
          <p:cNvPr id="380" name="Подзаголовок 4" descr=""/>
          <p:cNvPicPr/>
          <p:nvPr/>
        </p:nvPicPr>
        <p:blipFill>
          <a:blip r:embed="rId2"/>
          <a:stretch/>
        </p:blipFill>
        <p:spPr>
          <a:xfrm>
            <a:off x="212760" y="5614920"/>
            <a:ext cx="8766000" cy="1133640"/>
          </a:xfrm>
          <a:prstGeom prst="rect">
            <a:avLst/>
          </a:prstGeom>
          <a:ln w="0">
            <a:noFill/>
          </a:ln>
        </p:spPr>
      </p:pic>
      <p:pic>
        <p:nvPicPr>
          <p:cNvPr id="381" name="Содержимое 3" descr="Римско-католический храм непорочного зачатия Пресвятой Девы Марии.jpg"/>
          <p:cNvPicPr/>
          <p:nvPr/>
        </p:nvPicPr>
        <p:blipFill>
          <a:blip r:embed="rId3"/>
          <a:stretch/>
        </p:blipFill>
        <p:spPr>
          <a:xfrm>
            <a:off x="1643040" y="9288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Заголовок 1" descr=""/>
          <p:cNvPicPr/>
          <p:nvPr/>
        </p:nvPicPr>
        <p:blipFill>
          <a:blip r:embed="rId1"/>
          <a:stretch/>
        </p:blipFill>
        <p:spPr>
          <a:xfrm>
            <a:off x="212760" y="4211640"/>
            <a:ext cx="3451320" cy="2433600"/>
          </a:xfrm>
          <a:prstGeom prst="rect">
            <a:avLst/>
          </a:prstGeom>
          <a:ln w="0">
            <a:noFill/>
          </a:ln>
        </p:spPr>
      </p:pic>
      <p:pic>
        <p:nvPicPr>
          <p:cNvPr id="383" name="Содержимое 3" descr="c9d96a16bab0.jpg"/>
          <p:cNvPicPr/>
          <p:nvPr/>
        </p:nvPicPr>
        <p:blipFill>
          <a:blip r:embed="rId2"/>
          <a:stretch/>
        </p:blipFill>
        <p:spPr>
          <a:xfrm>
            <a:off x="285840" y="285840"/>
            <a:ext cx="5072040" cy="3795480"/>
          </a:xfrm>
          <a:prstGeom prst="rect">
            <a:avLst/>
          </a:prstGeom>
          <a:ln w="0">
            <a:noFill/>
          </a:ln>
        </p:spPr>
      </p:pic>
      <p:pic>
        <p:nvPicPr>
          <p:cNvPr id="384" name="Рисунок 4" descr="1222408.jpg"/>
          <p:cNvPicPr/>
          <p:nvPr/>
        </p:nvPicPr>
        <p:blipFill>
          <a:blip r:embed="rId3"/>
          <a:stretch/>
        </p:blipFill>
        <p:spPr>
          <a:xfrm>
            <a:off x="3505320" y="3071880"/>
            <a:ext cx="540072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 txBox="1"/>
          <p:nvPr/>
        </p:nvSpPr>
        <p:spPr>
          <a:xfrm>
            <a:off x="457200" y="1357200"/>
            <a:ext cx="5043600" cy="50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1. 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Monotype Corsiva"/>
              </a:rPr>
              <a:t>Догмат о филиокве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ffff"/>
                </a:solidFill>
                <a:uFillTx/>
                <a:latin typeface="Monotype Corsiva"/>
              </a:rPr>
              <a:t>Святой Дух исходит не только от Бога-Отца , но и от Бога-Сына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ffff"/>
                </a:solidFill>
                <a:uFillTx/>
                <a:latin typeface="Monotype Corsiva"/>
              </a:rPr>
              <a:t>(согласно православию  Святой Дух  исходит  только  от Бога  Отца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87" name="Рисунок 3" descr="22-10-1b.jpg"/>
          <p:cNvPicPr/>
          <p:nvPr/>
        </p:nvPicPr>
        <p:blipFill>
          <a:blip r:embed="rId2"/>
          <a:stretch/>
        </p:blipFill>
        <p:spPr>
          <a:xfrm>
            <a:off x="5643720" y="1500120"/>
            <a:ext cx="3214440" cy="48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Заголовок 5" descr=""/>
          <p:cNvPicPr/>
          <p:nvPr/>
        </p:nvPicPr>
        <p:blipFill>
          <a:blip r:embed="rId1"/>
          <a:stretch/>
        </p:blipFill>
        <p:spPr>
          <a:xfrm>
            <a:off x="3359160" y="890640"/>
            <a:ext cx="5675400" cy="5473800"/>
          </a:xfrm>
          <a:prstGeom prst="rect">
            <a:avLst/>
          </a:prstGeom>
          <a:ln w="0">
            <a:noFill/>
          </a:ln>
        </p:spPr>
      </p:pic>
      <p:pic>
        <p:nvPicPr>
          <p:cNvPr id="389" name="Содержимое 2" descr=""/>
          <p:cNvPicPr/>
          <p:nvPr/>
        </p:nvPicPr>
        <p:blipFill>
          <a:blip r:embed="rId2"/>
          <a:stretch/>
        </p:blipFill>
        <p:spPr>
          <a:xfrm>
            <a:off x="182520" y="92160"/>
            <a:ext cx="8309160" cy="1176120"/>
          </a:xfrm>
          <a:prstGeom prst="rect">
            <a:avLst/>
          </a:prstGeom>
          <a:ln w="0">
            <a:noFill/>
          </a:ln>
        </p:spPr>
      </p:pic>
      <p:pic>
        <p:nvPicPr>
          <p:cNvPr id="390" name="Рисунок 3" descr="согласно католическому вероучению, место, где....jpg"/>
          <p:cNvPicPr/>
          <p:nvPr/>
        </p:nvPicPr>
        <p:blipFill>
          <a:blip r:embed="rId3"/>
          <a:stretch/>
        </p:blipFill>
        <p:spPr>
          <a:xfrm>
            <a:off x="285840" y="1071720"/>
            <a:ext cx="321444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213840" y="214200"/>
            <a:ext cx="8643960" cy="578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0840" indent="-359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3. </a:t>
            </a:r>
            <a:r>
              <a:rPr b="0" lang="ru-RU" sz="4000" spc="-1" strike="noStrike" u="sng">
                <a:solidFill>
                  <a:srgbClr val="ffffff"/>
                </a:solidFill>
                <a:uFillTx/>
                <a:latin typeface="Monotype Corsiva"/>
              </a:rPr>
              <a:t>Учение о запасе добрых дел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20840" indent="-359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20840" indent="-359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Под  этими делами понимаются молитвы, богослужения, пожертвования в пользу церкви и другие деяния. Церковь  располагает  запасом «сверхдолжностных дел»  за счет деятельности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20840" indent="-359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20840" indent="-3596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Иисуса Христа  и святых  Римско- католической церкви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20840" indent="-3596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Церковь  распоряжается  этим запасом добрых дел и по своему  усмотрению распределяет  их  среди  тех, кто в них нуждается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Заголовок 1" descr=""/>
          <p:cNvPicPr/>
          <p:nvPr/>
        </p:nvPicPr>
        <p:blipFill>
          <a:blip r:embed="rId1"/>
          <a:stretch/>
        </p:blipFill>
        <p:spPr>
          <a:xfrm>
            <a:off x="219240" y="365040"/>
            <a:ext cx="1128600" cy="594360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1134720" y="142920"/>
            <a:ext cx="2438280" cy="61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ffffff"/>
                </a:solidFill>
                <a:uFillTx/>
                <a:latin typeface="Monotype Corsiva"/>
              </a:rPr>
              <a:t>Индульгенция- </a:t>
            </a:r>
            <a:r>
              <a:rPr b="0" lang="ru-RU" sz="2600" spc="-1" strike="noStrike">
                <a:solidFill>
                  <a:srgbClr val="ffffff"/>
                </a:solidFill>
                <a:latin typeface="Monotype Corsiva"/>
              </a:rPr>
              <a:t>это папская грамота, свидетельствующая об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Monotype Corsiva"/>
              </a:rPr>
              <a:t>отпущении  грехов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Monotype Corsiva"/>
              </a:rPr>
              <a:t>Ее можно было купить за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Monotype Corsiva"/>
              </a:rPr>
              <a:t>деньги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Monotype Corsiva"/>
              </a:rPr>
              <a:t>Отпущение грехов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Monotype Corsiva"/>
              </a:rPr>
              <a:t>происходило путем покупки этих индульгенций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94" name="Содержимое 6" descr="4762.jpg"/>
          <p:cNvPicPr/>
          <p:nvPr/>
        </p:nvPicPr>
        <p:blipFill>
          <a:blip r:embed="rId2"/>
          <a:stretch/>
        </p:blipFill>
        <p:spPr>
          <a:xfrm>
            <a:off x="6000840" y="214200"/>
            <a:ext cx="2933640" cy="4267440"/>
          </a:xfrm>
          <a:prstGeom prst="rect">
            <a:avLst/>
          </a:prstGeom>
          <a:ln w="0">
            <a:noFill/>
          </a:ln>
        </p:spPr>
      </p:pic>
      <p:pic>
        <p:nvPicPr>
          <p:cNvPr id="395" name="Рисунок 7" descr="ind.jpg"/>
          <p:cNvPicPr/>
          <p:nvPr/>
        </p:nvPicPr>
        <p:blipFill>
          <a:blip r:embed="rId3"/>
          <a:stretch/>
        </p:blipFill>
        <p:spPr>
          <a:xfrm>
            <a:off x="3714840" y="1857240"/>
            <a:ext cx="30290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Подзаголовок 5" descr=""/>
          <p:cNvPicPr/>
          <p:nvPr/>
        </p:nvPicPr>
        <p:blipFill>
          <a:blip r:embed="rId1"/>
          <a:stretch/>
        </p:blipFill>
        <p:spPr>
          <a:xfrm>
            <a:off x="244440" y="122400"/>
            <a:ext cx="8247240" cy="1846080"/>
          </a:xfrm>
          <a:prstGeom prst="rect">
            <a:avLst/>
          </a:prstGeom>
          <a:ln w="0">
            <a:noFill/>
          </a:ln>
        </p:spPr>
      </p:pic>
      <p:pic>
        <p:nvPicPr>
          <p:cNvPr id="397" name="Рисунок 6" descr="maria_gama.jpg"/>
          <p:cNvPicPr/>
          <p:nvPr/>
        </p:nvPicPr>
        <p:blipFill>
          <a:blip r:embed="rId2"/>
          <a:stretch/>
        </p:blipFill>
        <p:spPr>
          <a:xfrm>
            <a:off x="214200" y="1428840"/>
            <a:ext cx="3714840" cy="5236920"/>
          </a:xfrm>
          <a:prstGeom prst="rect">
            <a:avLst/>
          </a:prstGeom>
          <a:ln w="0">
            <a:noFill/>
          </a:ln>
        </p:spPr>
      </p:pic>
      <p:pic>
        <p:nvPicPr>
          <p:cNvPr id="398" name="Рисунок 7" descr="virgin_mary_000004.jpg"/>
          <p:cNvPicPr/>
          <p:nvPr/>
        </p:nvPicPr>
        <p:blipFill>
          <a:blip r:embed="rId3"/>
          <a:stretch/>
        </p:blipFill>
        <p:spPr>
          <a:xfrm>
            <a:off x="4214880" y="1428840"/>
            <a:ext cx="36241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285480" y="213840"/>
            <a:ext cx="8429400" cy="60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5.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Monotype Corsiva"/>
              </a:rPr>
              <a:t>Учение о верховенстве Папы Римского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Monotype Corsiva"/>
              </a:rPr>
              <a:t>над всеми христианами и его непогрешимости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Глава католической церкви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провозглашается наместни-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ком Христа на Земле.  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Monotype Corsiva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00" name="Рисунок 3" descr="380_3.jpg"/>
          <p:cNvPicPr/>
          <p:nvPr/>
        </p:nvPicPr>
        <p:blipFill>
          <a:blip r:embed="rId1"/>
          <a:stretch/>
        </p:blipFill>
        <p:spPr>
          <a:xfrm>
            <a:off x="428760" y="1857240"/>
            <a:ext cx="3232080" cy="43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426960" y="0"/>
            <a:ext cx="8382240" cy="120024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1000080"/>
            <a:ext cx="82296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Monotype Corsiva"/>
              </a:rPr>
              <a:t>Принцип целибата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03" name="Рисунок 3" descr="N010-8241.jpg"/>
          <p:cNvPicPr/>
          <p:nvPr/>
        </p:nvPicPr>
        <p:blipFill>
          <a:blip r:embed="rId2"/>
          <a:stretch/>
        </p:blipFill>
        <p:spPr>
          <a:xfrm>
            <a:off x="571680" y="1500120"/>
            <a:ext cx="7143480" cy="51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Заголовок 1" descr=""/>
          <p:cNvPicPr/>
          <p:nvPr/>
        </p:nvPicPr>
        <p:blipFill>
          <a:blip r:embed="rId1"/>
          <a:stretch/>
        </p:blipFill>
        <p:spPr>
          <a:xfrm>
            <a:off x="500040" y="-23760"/>
            <a:ext cx="8229600" cy="1206360"/>
          </a:xfrm>
          <a:prstGeom prst="rect">
            <a:avLst/>
          </a:prstGeom>
          <a:ln w="0">
            <a:noFill/>
          </a:ln>
        </p:spPr>
      </p:pic>
      <p:pic>
        <p:nvPicPr>
          <p:cNvPr id="405" name="Содержимое 3" descr="1225969359_876.jpg"/>
          <p:cNvPicPr/>
          <p:nvPr/>
        </p:nvPicPr>
        <p:blipFill>
          <a:blip r:embed="rId2"/>
          <a:stretch/>
        </p:blipFill>
        <p:spPr>
          <a:xfrm>
            <a:off x="928800" y="1000080"/>
            <a:ext cx="7500960" cy="562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426960" y="128520"/>
            <a:ext cx="8229600" cy="132228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428760" y="99972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Monotype Corsiva"/>
              </a:rPr>
              <a:t>У католиков таинство крещения совершается троекратным обливанием водой головы крещеного, в православии троекратным погружением в воду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08" name="Рисунок 3" descr="католики.jpg"/>
          <p:cNvPicPr/>
          <p:nvPr/>
        </p:nvPicPr>
        <p:blipFill>
          <a:blip r:embed="rId2"/>
          <a:stretch/>
        </p:blipFill>
        <p:spPr>
          <a:xfrm>
            <a:off x="1214280" y="2500200"/>
            <a:ext cx="660420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573120" y="152280"/>
            <a:ext cx="5718240" cy="1103400"/>
          </a:xfrm>
          <a:prstGeom prst="rect">
            <a:avLst/>
          </a:prstGeom>
          <a:ln w="0">
            <a:noFill/>
          </a:ln>
        </p:spPr>
      </p:pic>
      <p:pic>
        <p:nvPicPr>
          <p:cNvPr id="410" name="Подзаголовок 5" descr=""/>
          <p:cNvPicPr/>
          <p:nvPr/>
        </p:nvPicPr>
        <p:blipFill>
          <a:blip r:embed="rId2"/>
          <a:stretch/>
        </p:blipFill>
        <p:spPr>
          <a:xfrm>
            <a:off x="334800" y="1736640"/>
            <a:ext cx="8669520" cy="4835520"/>
          </a:xfrm>
          <a:prstGeom prst="rect">
            <a:avLst/>
          </a:prstGeom>
          <a:ln w="0">
            <a:noFill/>
          </a:ln>
        </p:spPr>
      </p:pic>
      <p:pic>
        <p:nvPicPr>
          <p:cNvPr id="411" name="Содержимое 3" descr="katolik.jpg"/>
          <p:cNvPicPr/>
          <p:nvPr/>
        </p:nvPicPr>
        <p:blipFill>
          <a:blip r:embed="rId3"/>
          <a:stretch/>
        </p:blipFill>
        <p:spPr>
          <a:xfrm>
            <a:off x="428760" y="2714760"/>
            <a:ext cx="4809960" cy="3485880"/>
          </a:xfrm>
          <a:prstGeom prst="rect">
            <a:avLst/>
          </a:prstGeom>
          <a:ln w="0">
            <a:noFill/>
          </a:ln>
        </p:spPr>
      </p:pic>
      <p:pic>
        <p:nvPicPr>
          <p:cNvPr id="412" name="Рисунок 4" descr="DSC_0612.jpg"/>
          <p:cNvPicPr/>
          <p:nvPr/>
        </p:nvPicPr>
        <p:blipFill>
          <a:blip r:embed="rId4"/>
          <a:stretch/>
        </p:blipFill>
        <p:spPr>
          <a:xfrm>
            <a:off x="6786720" y="214200"/>
            <a:ext cx="215100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428400" y="1213920"/>
            <a:ext cx="825804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1444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Monotype Corsiva"/>
              </a:rPr>
              <a:t>Раскол христианской церкви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Monotype Corsiva"/>
              </a:rPr>
              <a:t>Распространение католицизма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Monotype Corsiva"/>
              </a:rPr>
              <a:t>Термин « Католицизм»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Monotype Corsiva"/>
              </a:rPr>
              <a:t>Догматические особенности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Monotype Corsiva"/>
              </a:rPr>
              <a:t>Таинства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>
              <a:lnSpc>
                <a:spcPct val="10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Monotype Corsiva"/>
              </a:rPr>
              <a:t>Канонические  отличия  католиков  от православных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457200" y="121392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де возникло христианство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гда и почему произошел раскол христианской  церкви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числите источники богатств католической церкви?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3" name="Рисунок 3" descr="4ad68c1f67f3.jpg"/>
          <p:cNvPicPr/>
          <p:nvPr/>
        </p:nvPicPr>
        <p:blipFill>
          <a:blip r:embed="rId2"/>
          <a:stretch/>
        </p:blipFill>
        <p:spPr>
          <a:xfrm>
            <a:off x="1714680" y="3071880"/>
            <a:ext cx="485748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-1512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942120" y="1082520"/>
            <a:ext cx="2837160" cy="642600"/>
          </a:xfrm>
          <a:prstGeom prst="rect">
            <a:avLst/>
          </a:prstGeom>
          <a:solidFill>
            <a:srgbClr val="ccffcc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 Cyr"/>
              </a:rPr>
              <a:t>Разделение церкви прои-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 Cyr"/>
              </a:rPr>
              <a:t>зошло в..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" name="Text Box 4"/>
          <p:cNvSpPr/>
          <p:nvPr/>
        </p:nvSpPr>
        <p:spPr>
          <a:xfrm>
            <a:off x="449280" y="2523960"/>
            <a:ext cx="3817800" cy="642600"/>
          </a:xfrm>
          <a:prstGeom prst="rect">
            <a:avLst/>
          </a:prstGeom>
          <a:solidFill>
            <a:srgbClr val="cc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 Cyr"/>
              </a:rPr>
              <a:t>Византийскую церковь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 Cyr"/>
              </a:rPr>
              <a:t>возглавлял..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7" name="Text Box 5"/>
          <p:cNvSpPr/>
          <p:nvPr/>
        </p:nvSpPr>
        <p:spPr>
          <a:xfrm>
            <a:off x="957960" y="3967200"/>
            <a:ext cx="2809800" cy="642600"/>
          </a:xfrm>
          <a:prstGeom prst="rect">
            <a:avLst/>
          </a:prstGeom>
          <a:solidFill>
            <a:srgbClr val="ffff99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 Cyr"/>
              </a:rPr>
              <a:t>Борьбу за усиление церк-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 Cyr"/>
              </a:rPr>
              <a:t>ви начал..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8" name="Text Box 6"/>
          <p:cNvSpPr/>
          <p:nvPr/>
        </p:nvSpPr>
        <p:spPr>
          <a:xfrm>
            <a:off x="955800" y="5410080"/>
            <a:ext cx="2808000" cy="6426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Times New Roman Cyr"/>
              </a:rPr>
              <a:t>Грамоты о прощении гре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Times New Roman Cyr"/>
              </a:rPr>
              <a:t>хов назывались..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9" name="Text Box 7"/>
          <p:cNvSpPr/>
          <p:nvPr/>
        </p:nvSpPr>
        <p:spPr>
          <a:xfrm>
            <a:off x="5334120" y="609480"/>
            <a:ext cx="3504960" cy="368280"/>
          </a:xfrm>
          <a:prstGeom prst="rect">
            <a:avLst/>
          </a:prstGeom>
          <a:solidFill>
            <a:srgbClr val="ccffcc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 Cyr"/>
              </a:rPr>
              <a:t>1045 году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" name="Text Box 8"/>
          <p:cNvSpPr/>
          <p:nvPr/>
        </p:nvSpPr>
        <p:spPr>
          <a:xfrm>
            <a:off x="5334120" y="1109520"/>
            <a:ext cx="3504960" cy="368280"/>
          </a:xfrm>
          <a:prstGeom prst="rect">
            <a:avLst/>
          </a:prstGeom>
          <a:solidFill>
            <a:srgbClr val="ccffcc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Times New Roman Cyr"/>
              </a:rPr>
              <a:t>1094 году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1" name="Text Box 9"/>
          <p:cNvSpPr/>
          <p:nvPr/>
        </p:nvSpPr>
        <p:spPr>
          <a:xfrm>
            <a:off x="5334120" y="1608120"/>
            <a:ext cx="3504960" cy="368280"/>
          </a:xfrm>
          <a:prstGeom prst="rect">
            <a:avLst/>
          </a:prstGeom>
          <a:solidFill>
            <a:srgbClr val="ccffcc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 Cyr"/>
              </a:rPr>
              <a:t>1054 году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2" name="Text Box 10"/>
          <p:cNvSpPr/>
          <p:nvPr/>
        </p:nvSpPr>
        <p:spPr>
          <a:xfrm>
            <a:off x="5334120" y="2106720"/>
            <a:ext cx="3504960" cy="368280"/>
          </a:xfrm>
          <a:prstGeom prst="rect">
            <a:avLst/>
          </a:prstGeom>
          <a:solidFill>
            <a:srgbClr val="cc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 Cyr"/>
              </a:rPr>
              <a:t>Митрополит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" name="Text Box 11"/>
          <p:cNvSpPr/>
          <p:nvPr/>
        </p:nvSpPr>
        <p:spPr>
          <a:xfrm>
            <a:off x="5334120" y="2604960"/>
            <a:ext cx="3504960" cy="368280"/>
          </a:xfrm>
          <a:prstGeom prst="rect">
            <a:avLst/>
          </a:prstGeom>
          <a:solidFill>
            <a:srgbClr val="cc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 Cyr"/>
              </a:rPr>
              <a:t>Патриарх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4" name="Text Box 12"/>
          <p:cNvSpPr/>
          <p:nvPr/>
        </p:nvSpPr>
        <p:spPr>
          <a:xfrm>
            <a:off x="5334120" y="3103560"/>
            <a:ext cx="3504960" cy="368280"/>
          </a:xfrm>
          <a:prstGeom prst="rect">
            <a:avLst/>
          </a:prstGeom>
          <a:solidFill>
            <a:srgbClr val="ccff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 Cyr"/>
              </a:rPr>
              <a:t>Папа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5" name="Text Box 13"/>
          <p:cNvSpPr/>
          <p:nvPr/>
        </p:nvSpPr>
        <p:spPr>
          <a:xfrm>
            <a:off x="5334120" y="3603600"/>
            <a:ext cx="3504960" cy="368280"/>
          </a:xfrm>
          <a:prstGeom prst="rect">
            <a:avLst/>
          </a:prstGeom>
          <a:solidFill>
            <a:srgbClr val="ffff99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 Cyr"/>
              </a:rPr>
              <a:t>Иннокентий </a:t>
            </a:r>
            <a:r>
              <a:rPr b="1" lang="en-US" sz="1800" spc="-1" strike="noStrike">
                <a:solidFill>
                  <a:srgbClr val="663300"/>
                </a:solidFill>
                <a:latin typeface="Times New Roman Cyr"/>
              </a:rPr>
              <a:t>III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6" name="Text Box 14"/>
          <p:cNvSpPr/>
          <p:nvPr/>
        </p:nvSpPr>
        <p:spPr>
          <a:xfrm>
            <a:off x="5334120" y="4102200"/>
            <a:ext cx="3504960" cy="368280"/>
          </a:xfrm>
          <a:prstGeom prst="rect">
            <a:avLst/>
          </a:prstGeom>
          <a:solidFill>
            <a:srgbClr val="ffff99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 Cyr"/>
              </a:rPr>
              <a:t>Генрих</a:t>
            </a:r>
            <a:r>
              <a:rPr b="1" lang="en-US" sz="1800" spc="-1" strike="noStrike">
                <a:solidFill>
                  <a:srgbClr val="663300"/>
                </a:solidFill>
                <a:latin typeface="Times New Roman Cyr"/>
              </a:rPr>
              <a:t> IV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7" name="Text Box 15"/>
          <p:cNvSpPr/>
          <p:nvPr/>
        </p:nvSpPr>
        <p:spPr>
          <a:xfrm>
            <a:off x="5334120" y="4600440"/>
            <a:ext cx="3504960" cy="368280"/>
          </a:xfrm>
          <a:prstGeom prst="rect">
            <a:avLst/>
          </a:prstGeom>
          <a:solidFill>
            <a:srgbClr val="ffff99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Times New Roman Cyr"/>
              </a:rPr>
              <a:t>Григорий </a:t>
            </a:r>
            <a:r>
              <a:rPr b="1" lang="en-US" sz="1800" spc="-1" strike="noStrike">
                <a:solidFill>
                  <a:srgbClr val="663300"/>
                </a:solidFill>
                <a:latin typeface="Times New Roman Cyr"/>
              </a:rPr>
              <a:t>VII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8" name="Text Box 16"/>
          <p:cNvSpPr/>
          <p:nvPr/>
        </p:nvSpPr>
        <p:spPr>
          <a:xfrm>
            <a:off x="5334120" y="5099040"/>
            <a:ext cx="3504960" cy="3682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 Cyr"/>
              </a:rPr>
              <a:t>Реликвии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9" name="Text Box 17"/>
          <p:cNvSpPr/>
          <p:nvPr/>
        </p:nvSpPr>
        <p:spPr>
          <a:xfrm>
            <a:off x="5334120" y="5597640"/>
            <a:ext cx="3504960" cy="3682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 Cyr"/>
              </a:rPr>
              <a:t>Индульгенции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0" name="Text Box 18"/>
          <p:cNvSpPr/>
          <p:nvPr/>
        </p:nvSpPr>
        <p:spPr>
          <a:xfrm>
            <a:off x="5334120" y="6095880"/>
            <a:ext cx="3504960" cy="3682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imes New Roman Cyr"/>
              </a:rPr>
              <a:t>Исповеди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500040" y="2286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0" lang="ru-RU" sz="4800" spc="-1" strike="noStrike">
                <a:solidFill>
                  <a:srgbClr val="ffffff"/>
                </a:solidFill>
                <a:latin typeface="Monotype Corsiva"/>
              </a:rPr>
              <a:t>Термин « католический »  ??????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53684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29840" indent="-36720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В переводе с греческого означает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29840" indent="-36720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«всеобщий, вселенский»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29840" indent="-36720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Католической до раскола называли всю христианскую церковь, как западную , так и восточную. Но после раскола это название закрепилось только за западной ветвью христианства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Заголовок 1" descr=""/>
          <p:cNvPicPr/>
          <p:nvPr/>
        </p:nvPicPr>
        <p:blipFill>
          <a:blip r:embed="rId1"/>
          <a:stretch/>
        </p:blipFill>
        <p:spPr>
          <a:xfrm>
            <a:off x="285840" y="201600"/>
            <a:ext cx="8229600" cy="1212840"/>
          </a:xfrm>
          <a:prstGeom prst="rect">
            <a:avLst/>
          </a:prstGeom>
          <a:ln w="0">
            <a:noFill/>
          </a:ln>
        </p:spPr>
      </p:pic>
      <p:pic>
        <p:nvPicPr>
          <p:cNvPr id="375" name="Содержимое 3" descr="карта.png"/>
          <p:cNvPicPr/>
          <p:nvPr/>
        </p:nvPicPr>
        <p:blipFill>
          <a:blip r:embed="rId2"/>
          <a:stretch/>
        </p:blipFill>
        <p:spPr>
          <a:xfrm>
            <a:off x="285840" y="1071720"/>
            <a:ext cx="8501040" cy="422892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 txBox="1"/>
          <p:nvPr/>
        </p:nvSpPr>
        <p:spPr>
          <a:xfrm>
            <a:off x="285840" y="5429160"/>
            <a:ext cx="885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Monotype Corsiva"/>
              </a:rPr>
              <a:t>Католическую веру исповедует не менее 1 млрд. человек, в 50 странах мира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6840" y="357120"/>
            <a:ext cx="8472600" cy="60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388c"/>
                </a:solidFill>
                <a:latin typeface="Century Gothic"/>
              </a:rPr>
              <a:t>Географически католицизм распространен в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-Западной, Центральной, Юго- Восточной Европе 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( </a:t>
            </a:r>
            <a:r>
              <a:rPr b="0" lang="ru-RU" sz="3000" spc="-1" strike="noStrike">
                <a:solidFill>
                  <a:srgbClr val="ffffff"/>
                </a:solidFill>
                <a:latin typeface="Monotype Corsiva"/>
              </a:rPr>
              <a:t>Испания, Италия, Португалия, Франция, Бельгия, Германия, Австрия, Польша, Литва, Чехия, Словакия, Венгрия, часть Украины и Белоруссии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США и Мексика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-Южная Америка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-Африка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-Азия (</a:t>
            </a:r>
            <a:r>
              <a:rPr b="0" lang="ru-RU" sz="3000" spc="-1" strike="noStrike">
                <a:solidFill>
                  <a:srgbClr val="ffffff"/>
                </a:solidFill>
                <a:latin typeface="Monotype Corsiva"/>
              </a:rPr>
              <a:t>Филиппины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8" name="Рисунок 3" descr="Moscow_Catholic_church.jpg"/>
          <p:cNvPicPr/>
          <p:nvPr/>
        </p:nvPicPr>
        <p:blipFill>
          <a:blip r:embed="rId1"/>
          <a:stretch/>
        </p:blipFill>
        <p:spPr>
          <a:xfrm>
            <a:off x="4214880" y="335772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09:55:17Z</dcterms:created>
  <dc:creator>user2</dc:creator>
  <dc:description/>
  <dc:language>en-US</dc:language>
  <cp:lastModifiedBy>User</cp:lastModifiedBy>
  <dcterms:modified xsi:type="dcterms:W3CDTF">2013-07-10T09:13:57Z</dcterms:modified>
  <cp:revision>27</cp:revision>
  <dc:subject/>
  <dc:title>Католицизм. Особенности вероучения и культа</dc:title>
</cp:coreProperties>
</file>