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jpeg" ContentType="image/jpeg"/>
  <Override PartName="/ppt/media/image9.png" ContentType="image/png"/>
  <Override PartName="/ppt/media/image21.png" ContentType="image/png"/>
  <Override PartName="/ppt/media/image19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.png" ContentType="image/png"/>
  <Override PartName="/ppt/media/image24.jpeg" ContentType="image/jpeg"/>
  <Override PartName="/ppt/media/image20.png" ContentType="image/png"/>
  <Override PartName="/ppt/media/image18.png" ContentType="image/png"/>
  <Override PartName="/ppt/media/image28.jpeg" ContentType="image/jpeg"/>
  <Override PartName="/ppt/media/image7.jpeg" ContentType="image/jpeg"/>
  <Override PartName="/ppt/media/image38.jpeg" ContentType="image/jpeg"/>
  <Override PartName="/ppt/media/image14.jpeg" ContentType="image/jpeg"/>
  <Override PartName="/ppt/media/image12.png" ContentType="image/png"/>
  <Override PartName="/ppt/media/image31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13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CAD4-6472-4545-9F25-58384ECD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CA38-EDD5-4585-9FB8-FDBCCE11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3656-65D9-4092-9F1C-0F75A4E3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0AA9-F85D-4268-BF5A-417019C4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97BF-9ABC-40BD-9C1C-A9CDA8AF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506B-9F79-4D51-AE4A-E8202ADE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FCFA-F58A-467C-B9CB-7229834E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82C9-B6AB-4BBE-AAD8-6778B3D2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CE58-83FE-41BF-8435-C0206637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7919-BF34-417D-B0B8-FEDBBE8C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82B6-7BD2-4518-883D-5887339D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855A-215B-4D5C-8AFB-629FC693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44EF-7FCE-4E2B-BDA7-1446AA01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4EFE-AEF4-4DFD-9264-1E2843DE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8725-42DF-4ABD-A8D3-8115BE4E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31E1-AFDA-4605-992A-C6AC728F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DD19-FF28-41F2-A5B3-C672FF06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DA19C-332C-4065-B1AC-9E5EC8A5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21DCC-7164-4F36-80A6-4716367D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57C38-A825-466F-9827-DD0D5E5D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BFA96-FF2B-4362-8CE6-7C0481A2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22327-DB8A-40EF-BDD4-247C71B5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C148-E99A-4BB3-9036-16422276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EEA93-F4EB-48A2-B31C-2195A04C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14527-E693-42B1-BABF-6AFD6F9A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8CD3F-183E-468D-B486-2C22921C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9A246-D2B8-4879-ACD2-42B38296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4FEBB-A482-416E-8ADC-3C6A88F4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C68F8-48BE-4084-87D3-551FB067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442E9-7164-495B-8F11-B2CB55D0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4C0E1-212E-4E95-AF63-B17F3252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605FA-D4B4-4372-A562-B071E20F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90564-E453-4125-B29F-B2E34118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1890-EA76-4C73-9979-A4076943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E84E1-0669-44BE-B8B6-016726F5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1892B-C3D2-49C3-9B04-B1175F37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23E18-3FCB-4A9C-BD4E-D7820E3C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1932B-1C7E-4F15-A54A-694C9166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6FC8D-2179-4B39-9BC3-8D7EDCFA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B410C-C780-4E8B-9A55-368AC825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87CE8-26A1-4098-9D48-98B05DD1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192B4-7F86-44C1-90D6-937C1141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57E85-4354-45F3-9FD8-72C77D7E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6289E-84B3-4184-A134-CC6C0817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2239-EA8A-43F6-BDDB-CDD1860E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B161B-A048-4729-B575-848800B9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E8C7C-330E-46FB-A658-FEA490A7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85916-794A-4BF9-83D3-60B38767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3D413-399D-42EA-BFD9-5CE73751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2254F-AD3D-414D-84FA-CD777EE1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309E3-66EB-4822-829F-5CBEB3F6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D333C-D692-4FEE-B5DD-20E25CB7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F1F20-61DB-42F8-979D-AB97A661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D37EA-4E2B-46A4-BD87-D1106ADC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A5D45-A23C-477F-8DB9-E9B26D22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4D9B-550F-425E-8312-4A3C88CD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8F4BD-01E7-428A-A7B5-6A5658A8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AC90C-A1CE-4E6D-B935-CDFCEFC9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A8A4A-6AAD-4FB9-82A8-761063AA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AD132-F7B8-4511-9EF0-C3077A07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CA043-B94D-4E35-BEDE-4DB37E71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D08B9-29F8-404C-8D68-E450FC59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C7076-0DB4-4ADA-9DD6-2B39E0AE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31645-64F5-4A6C-9D6E-323386ED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F8EDC-C44E-4024-95F4-3ED8C82F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FCB82-2046-479F-9055-2F202711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805F-F504-4227-BB6B-5828A368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A929F-98A7-4431-A10B-5149805B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E4CCC-898E-4008-A7F1-BE8AFB53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36B5A-DED8-4D76-B4CA-CBA9DB3B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AE064-D37F-4F32-BBC8-2B6B9988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E6ED1-200D-45BF-954C-67E75FF3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44088-10C8-4FC8-B59E-B8FF8AED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5B504-85D8-45E4-A63B-AE8B2C3E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7ADD4-A693-4F1D-BD11-D380CF6B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71094-FA47-4B29-BF3E-DDE24BBE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D1162-A2F9-4759-B9E1-AEA55090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9542-A9B8-465E-B0F8-60E94062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BE6B7-B381-4DC7-B147-FF586C7C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F030B-BEF6-49E4-AC42-74480B4C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40204-B737-4DF7-B5BB-52067ECF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DFC36-5065-472D-99EF-1A713AD8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68341-369A-40E2-8CF6-B1608634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334B1-15E6-42AE-A9DB-FDAFCFEC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BBADA-B63C-4284-BDC8-320FEA18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18F0B-61D7-4513-8057-347C1679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F07A1-E094-4A28-B525-E97D8C28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D1A7E-3284-4AF3-8BA1-D7753DCC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5D8D-A8F3-4B5B-ABC6-95EFE448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9711B-7B08-4C92-8289-D1400A57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25A54-7C70-41AD-9D62-E20DC9E2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94F10-ED49-4130-9F10-522319C9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90BF9-5EC5-4DBF-895F-8FF8DBD5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BDED2-B077-4E99-8183-E5344550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A90BA-337C-46BF-8880-5BEB2F71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747E3-3702-4136-8366-B4D842E1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9F02-38DB-4FFA-8983-AF42BC001D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01CF-7AE5-4609-8D9B-51136D493C81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FA42-F084-41E5-B0C0-F52F1DC495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BD11-0A04-4E31-9535-66C9B17E148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9165-8D89-4C10-BE27-FF64EBB526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BE10-E02B-4FF2-9258-5080CE2BC7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5124-8339-468B-9294-2BBCC055D119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E46D-0614-4614-BA2D-E2D0409A8712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00040" y="-30240"/>
            <a:ext cx="8064360" cy="288936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573120" y="5931000"/>
            <a:ext cx="8058240" cy="103032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3" descr="католицизм.jpg"/>
          <p:cNvPicPr/>
          <p:nvPr/>
        </p:nvPicPr>
        <p:blipFill>
          <a:blip r:embed="rId3"/>
          <a:stretch/>
        </p:blipFill>
        <p:spPr>
          <a:xfrm>
            <a:off x="2143080" y="2500200"/>
            <a:ext cx="52149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426960" y="85680"/>
            <a:ext cx="8064720" cy="1206720"/>
          </a:xfrm>
          <a:prstGeom prst="rect">
            <a:avLst/>
          </a:prstGeom>
          <a:ln w="0">
            <a:noFill/>
          </a:ln>
        </p:spPr>
      </p:pic>
      <p:pic>
        <p:nvPicPr>
          <p:cNvPr id="380" name="Подзаголовок 4" descr=""/>
          <p:cNvPicPr/>
          <p:nvPr/>
        </p:nvPicPr>
        <p:blipFill>
          <a:blip r:embed="rId2"/>
          <a:stretch/>
        </p:blipFill>
        <p:spPr>
          <a:xfrm>
            <a:off x="212760" y="5614920"/>
            <a:ext cx="8766000" cy="1133640"/>
          </a:xfrm>
          <a:prstGeom prst="rect">
            <a:avLst/>
          </a:prstGeom>
          <a:ln w="0">
            <a:noFill/>
          </a:ln>
        </p:spPr>
      </p:pic>
      <p:pic>
        <p:nvPicPr>
          <p:cNvPr id="381" name="Содержимое 3" descr="Римско-католический храм непорочного зачатия Пресвятой Девы Марии.jpg"/>
          <p:cNvPicPr/>
          <p:nvPr/>
        </p:nvPicPr>
        <p:blipFill>
          <a:blip r:embed="rId3"/>
          <a:stretch/>
        </p:blipFill>
        <p:spPr>
          <a:xfrm>
            <a:off x="1643040" y="9288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212760" y="4211640"/>
            <a:ext cx="3451320" cy="2433600"/>
          </a:xfrm>
          <a:prstGeom prst="rect">
            <a:avLst/>
          </a:prstGeom>
          <a:ln w="0">
            <a:noFill/>
          </a:ln>
        </p:spPr>
      </p:pic>
      <p:pic>
        <p:nvPicPr>
          <p:cNvPr id="383" name="Содержимое 3" descr="c9d96a16bab0.jpg"/>
          <p:cNvPicPr/>
          <p:nvPr/>
        </p:nvPicPr>
        <p:blipFill>
          <a:blip r:embed="rId2"/>
          <a:stretch/>
        </p:blipFill>
        <p:spPr>
          <a:xfrm>
            <a:off x="285840" y="285840"/>
            <a:ext cx="5072040" cy="379548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4" descr="1222408.jpg"/>
          <p:cNvPicPr/>
          <p:nvPr/>
        </p:nvPicPr>
        <p:blipFill>
          <a:blip r:embed="rId3"/>
          <a:stretch/>
        </p:blipFill>
        <p:spPr>
          <a:xfrm>
            <a:off x="3505320" y="3071880"/>
            <a:ext cx="540072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357200"/>
            <a:ext cx="50436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onotype Corsiva"/>
              </a:rPr>
              <a:t>Догмат о филиокве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Monotype Corsiva"/>
              </a:rPr>
              <a:t>Святой Дух исходит не только от Бога-Отца , но и от Бога-Сына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Monotype Corsiva"/>
              </a:rPr>
              <a:t>(согласно православию  Святой Дух  исходит  только  от Бога  Отца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7" name="Рисунок 3" descr="22-10-1b.jpg"/>
          <p:cNvPicPr/>
          <p:nvPr/>
        </p:nvPicPr>
        <p:blipFill>
          <a:blip r:embed="rId2"/>
          <a:stretch/>
        </p:blipFill>
        <p:spPr>
          <a:xfrm>
            <a:off x="5643720" y="1500120"/>
            <a:ext cx="321444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Заголовок 5" descr=""/>
          <p:cNvPicPr/>
          <p:nvPr/>
        </p:nvPicPr>
        <p:blipFill>
          <a:blip r:embed="rId1"/>
          <a:stretch/>
        </p:blipFill>
        <p:spPr>
          <a:xfrm>
            <a:off x="3359160" y="890640"/>
            <a:ext cx="5675400" cy="5473800"/>
          </a:xfrm>
          <a:prstGeom prst="rect">
            <a:avLst/>
          </a:prstGeom>
          <a:ln w="0">
            <a:noFill/>
          </a:ln>
        </p:spPr>
      </p:pic>
      <p:pic>
        <p:nvPicPr>
          <p:cNvPr id="389" name="Содержимое 2" descr=""/>
          <p:cNvPicPr/>
          <p:nvPr/>
        </p:nvPicPr>
        <p:blipFill>
          <a:blip r:embed="rId2"/>
          <a:stretch/>
        </p:blipFill>
        <p:spPr>
          <a:xfrm>
            <a:off x="182520" y="92160"/>
            <a:ext cx="8309160" cy="117612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3" descr="согласно католическому вероучению, место, где....jpg"/>
          <p:cNvPicPr/>
          <p:nvPr/>
        </p:nvPicPr>
        <p:blipFill>
          <a:blip r:embed="rId3"/>
          <a:stretch/>
        </p:blipFill>
        <p:spPr>
          <a:xfrm>
            <a:off x="285840" y="1071720"/>
            <a:ext cx="32144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213840" y="214200"/>
            <a:ext cx="864396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359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3.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Monotype Corsiva"/>
              </a:rPr>
              <a:t>Учение о запасе добрых дел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од  этими делами понимаются молитвы, богослужения, пожертвования в пользу церкви и другие деяния. Церковь  располагает  запасом «сверхдолжностных дел»  за счет деятельност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исуса Христа  и святых  Римско- католической церкви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Церковь  распоряжается  этим запасом добрых дел и по своему  усмотрению распределяет  их  среди  тех, кто в них нуждается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Заголовок 1" descr=""/>
          <p:cNvPicPr/>
          <p:nvPr/>
        </p:nvPicPr>
        <p:blipFill>
          <a:blip r:embed="rId1"/>
          <a:stretch/>
        </p:blipFill>
        <p:spPr>
          <a:xfrm>
            <a:off x="219240" y="365040"/>
            <a:ext cx="1128600" cy="59436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34720" y="142920"/>
            <a:ext cx="2438280" cy="61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Monotype Corsiva"/>
              </a:rPr>
              <a:t>Индульгенция- 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это папская грамота, свидетельствующая об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отпущении  грехов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Ее можно было купить за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деньги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Отпущение грехов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происходило путем покупки этих индульгенций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4" name="Содержимое 6" descr="4762.jpg"/>
          <p:cNvPicPr/>
          <p:nvPr/>
        </p:nvPicPr>
        <p:blipFill>
          <a:blip r:embed="rId2"/>
          <a:stretch/>
        </p:blipFill>
        <p:spPr>
          <a:xfrm>
            <a:off x="6000840" y="214200"/>
            <a:ext cx="2933640" cy="426744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7" descr="ind.jpg"/>
          <p:cNvPicPr/>
          <p:nvPr/>
        </p:nvPicPr>
        <p:blipFill>
          <a:blip r:embed="rId3"/>
          <a:stretch/>
        </p:blipFill>
        <p:spPr>
          <a:xfrm>
            <a:off x="3714840" y="1857240"/>
            <a:ext cx="3029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Подзаголовок 5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8247240" cy="184608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6" descr="maria_gama.jpg"/>
          <p:cNvPicPr/>
          <p:nvPr/>
        </p:nvPicPr>
        <p:blipFill>
          <a:blip r:embed="rId2"/>
          <a:stretch/>
        </p:blipFill>
        <p:spPr>
          <a:xfrm>
            <a:off x="214200" y="1428840"/>
            <a:ext cx="3714840" cy="523692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7" descr="virgin_mary_000004.jpg"/>
          <p:cNvPicPr/>
          <p:nvPr/>
        </p:nvPicPr>
        <p:blipFill>
          <a:blip r:embed="rId3"/>
          <a:stretch/>
        </p:blipFill>
        <p:spPr>
          <a:xfrm>
            <a:off x="4214880" y="1428840"/>
            <a:ext cx="36241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285480" y="213840"/>
            <a:ext cx="84294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5.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Monotype Corsiva"/>
              </a:rPr>
              <a:t>Учение о верховенстве Папы Римского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Monotype Corsiva"/>
              </a:rPr>
              <a:t>над всеми христианами и его непогрешимости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Глава католической церкви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провозглашается наместни-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ком Христа на Земле.  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Monotype Corsiv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00" name="Рисунок 3" descr="380_3.jpg"/>
          <p:cNvPicPr/>
          <p:nvPr/>
        </p:nvPicPr>
        <p:blipFill>
          <a:blip r:embed="rId1"/>
          <a:stretch/>
        </p:blipFill>
        <p:spPr>
          <a:xfrm>
            <a:off x="428760" y="1857240"/>
            <a:ext cx="323208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26960" y="0"/>
            <a:ext cx="8382240" cy="12002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000080"/>
            <a:ext cx="82296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Принцип целибат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03" name="Рисунок 3" descr="N010-8241.jpg"/>
          <p:cNvPicPr/>
          <p:nvPr/>
        </p:nvPicPr>
        <p:blipFill>
          <a:blip r:embed="rId2"/>
          <a:stretch/>
        </p:blipFill>
        <p:spPr>
          <a:xfrm>
            <a:off x="571680" y="1500120"/>
            <a:ext cx="714348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500040" y="-23760"/>
            <a:ext cx="8229600" cy="1206360"/>
          </a:xfrm>
          <a:prstGeom prst="rect">
            <a:avLst/>
          </a:prstGeom>
          <a:ln w="0">
            <a:noFill/>
          </a:ln>
        </p:spPr>
      </p:pic>
      <p:pic>
        <p:nvPicPr>
          <p:cNvPr id="405" name="Содержимое 3" descr="1225969359_876.jpg"/>
          <p:cNvPicPr/>
          <p:nvPr/>
        </p:nvPicPr>
        <p:blipFill>
          <a:blip r:embed="rId2"/>
          <a:stretch/>
        </p:blipFill>
        <p:spPr>
          <a:xfrm>
            <a:off x="928800" y="1000080"/>
            <a:ext cx="7500960" cy="56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26960" y="12852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28760" y="99972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У католиков таинство крещения совершается троекратным обливанием водой головы крещеного, в православии троекратным погружением в воду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08" name="Рисунок 3" descr="католики.jpg"/>
          <p:cNvPicPr/>
          <p:nvPr/>
        </p:nvPicPr>
        <p:blipFill>
          <a:blip r:embed="rId2"/>
          <a:stretch/>
        </p:blipFill>
        <p:spPr>
          <a:xfrm>
            <a:off x="1214280" y="2500200"/>
            <a:ext cx="66042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573120" y="152280"/>
            <a:ext cx="5718240" cy="1103400"/>
          </a:xfrm>
          <a:prstGeom prst="rect">
            <a:avLst/>
          </a:prstGeom>
          <a:ln w="0">
            <a:noFill/>
          </a:ln>
        </p:spPr>
      </p:pic>
      <p:pic>
        <p:nvPicPr>
          <p:cNvPr id="410" name="Подзаголовок 5" descr=""/>
          <p:cNvPicPr/>
          <p:nvPr/>
        </p:nvPicPr>
        <p:blipFill>
          <a:blip r:embed="rId2"/>
          <a:stretch/>
        </p:blipFill>
        <p:spPr>
          <a:xfrm>
            <a:off x="334800" y="1736640"/>
            <a:ext cx="8669520" cy="4835520"/>
          </a:xfrm>
          <a:prstGeom prst="rect">
            <a:avLst/>
          </a:prstGeom>
          <a:ln w="0">
            <a:noFill/>
          </a:ln>
        </p:spPr>
      </p:pic>
      <p:pic>
        <p:nvPicPr>
          <p:cNvPr id="411" name="Содержимое 3" descr="katolik.jpg"/>
          <p:cNvPicPr/>
          <p:nvPr/>
        </p:nvPicPr>
        <p:blipFill>
          <a:blip r:embed="rId3"/>
          <a:stretch/>
        </p:blipFill>
        <p:spPr>
          <a:xfrm>
            <a:off x="428760" y="2714760"/>
            <a:ext cx="4809960" cy="348588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4" descr="DSC_0612.jpg"/>
          <p:cNvPicPr/>
          <p:nvPr/>
        </p:nvPicPr>
        <p:blipFill>
          <a:blip r:embed="rId4"/>
          <a:stretch/>
        </p:blipFill>
        <p:spPr>
          <a:xfrm>
            <a:off x="6786720" y="214200"/>
            <a:ext cx="2151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2840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144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Раскол христианской церкв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Распространение католицизм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Термин « Католицизм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Догматические особенност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Таинства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Канонические  отличия  католиков  от православных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21392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де возникло христианство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и почему произошел раскол христианской  церкви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ислите источники богатств католической церкви?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3" name="Рисунок 3" descr="4ad68c1f67f3.jpg"/>
          <p:cNvPicPr/>
          <p:nvPr/>
        </p:nvPicPr>
        <p:blipFill>
          <a:blip r:embed="rId2"/>
          <a:stretch/>
        </p:blipFill>
        <p:spPr>
          <a:xfrm>
            <a:off x="1714680" y="3071880"/>
            <a:ext cx="48574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151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942120" y="1082520"/>
            <a:ext cx="2837160" cy="642600"/>
          </a:xfrm>
          <a:prstGeom prst="rect">
            <a:avLst/>
          </a:prstGeom>
          <a:solidFill>
            <a:srgbClr val="ccffcc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 Cyr"/>
              </a:rPr>
              <a:t>Разделение церкви прои-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 Cyr"/>
              </a:rPr>
              <a:t>зошло в..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449280" y="2523960"/>
            <a:ext cx="3817800" cy="642600"/>
          </a:xfrm>
          <a:prstGeom prst="rect">
            <a:avLst/>
          </a:prstGeom>
          <a:solidFill>
            <a:srgbClr val="cc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 Cyr"/>
              </a:rPr>
              <a:t>Византийскую церков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 Cyr"/>
              </a:rPr>
              <a:t>возглавлял..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957960" y="3967200"/>
            <a:ext cx="2809800" cy="6426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 Cyr"/>
              </a:rPr>
              <a:t>Борьбу за усиление церк-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 Cyr"/>
              </a:rPr>
              <a:t>ви начал..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955800" y="5410080"/>
            <a:ext cx="2808000" cy="6426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imes New Roman Cyr"/>
              </a:rPr>
              <a:t>Грамоты о прощении гре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imes New Roman Cyr"/>
              </a:rPr>
              <a:t>хов назывались..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5334120" y="609480"/>
            <a:ext cx="3504960" cy="3682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 Cyr"/>
              </a:rPr>
              <a:t>1045 году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5334120" y="1109520"/>
            <a:ext cx="3504960" cy="3682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 Cyr"/>
              </a:rPr>
              <a:t>1094 году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5334120" y="1608120"/>
            <a:ext cx="3504960" cy="3682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 Cyr"/>
              </a:rPr>
              <a:t>1054 году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5334120" y="2106720"/>
            <a:ext cx="3504960" cy="368280"/>
          </a:xfrm>
          <a:prstGeom prst="rect">
            <a:avLst/>
          </a:prstGeom>
          <a:solidFill>
            <a:srgbClr val="cc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 Cyr"/>
              </a:rPr>
              <a:t>Митрополит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Text Box 11"/>
          <p:cNvSpPr/>
          <p:nvPr/>
        </p:nvSpPr>
        <p:spPr>
          <a:xfrm>
            <a:off x="5334120" y="2604960"/>
            <a:ext cx="3504960" cy="368280"/>
          </a:xfrm>
          <a:prstGeom prst="rect">
            <a:avLst/>
          </a:prstGeom>
          <a:solidFill>
            <a:srgbClr val="cc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 Cyr"/>
              </a:rPr>
              <a:t>Патриарх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5334120" y="3103560"/>
            <a:ext cx="3504960" cy="368280"/>
          </a:xfrm>
          <a:prstGeom prst="rect">
            <a:avLst/>
          </a:prstGeom>
          <a:solidFill>
            <a:srgbClr val="cc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 Cyr"/>
              </a:rPr>
              <a:t>Пап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Text Box 13"/>
          <p:cNvSpPr/>
          <p:nvPr/>
        </p:nvSpPr>
        <p:spPr>
          <a:xfrm>
            <a:off x="5334120" y="3603600"/>
            <a:ext cx="3504960" cy="3682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 Cyr"/>
              </a:rPr>
              <a:t>Иннокентий </a:t>
            </a:r>
            <a:r>
              <a:rPr b="1" lang="en-US" sz="1800" spc="-1" strike="noStrike">
                <a:solidFill>
                  <a:srgbClr val="663300"/>
                </a:solidFill>
                <a:latin typeface="Times New Roman Cyr"/>
              </a:rPr>
              <a:t>II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Text Box 14"/>
          <p:cNvSpPr/>
          <p:nvPr/>
        </p:nvSpPr>
        <p:spPr>
          <a:xfrm>
            <a:off x="5334120" y="4102200"/>
            <a:ext cx="3504960" cy="3682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 Cyr"/>
              </a:rPr>
              <a:t>Генрих</a:t>
            </a:r>
            <a:r>
              <a:rPr b="1" lang="en-US" sz="1800" spc="-1" strike="noStrike">
                <a:solidFill>
                  <a:srgbClr val="663300"/>
                </a:solidFill>
                <a:latin typeface="Times New Roman Cyr"/>
              </a:rPr>
              <a:t> IV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Text Box 15"/>
          <p:cNvSpPr/>
          <p:nvPr/>
        </p:nvSpPr>
        <p:spPr>
          <a:xfrm>
            <a:off x="5334120" y="4600440"/>
            <a:ext cx="3504960" cy="3682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 Cyr"/>
              </a:rPr>
              <a:t>Григорий </a:t>
            </a:r>
            <a:r>
              <a:rPr b="1" lang="en-US" sz="1800" spc="-1" strike="noStrike">
                <a:solidFill>
                  <a:srgbClr val="663300"/>
                </a:solidFill>
                <a:latin typeface="Times New Roman Cyr"/>
              </a:rPr>
              <a:t>VI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Text Box 16"/>
          <p:cNvSpPr/>
          <p:nvPr/>
        </p:nvSpPr>
        <p:spPr>
          <a:xfrm>
            <a:off x="5334120" y="5099040"/>
            <a:ext cx="3504960" cy="3682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 Cyr"/>
              </a:rPr>
              <a:t>Реликви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Text Box 17"/>
          <p:cNvSpPr/>
          <p:nvPr/>
        </p:nvSpPr>
        <p:spPr>
          <a:xfrm>
            <a:off x="5334120" y="5597640"/>
            <a:ext cx="3504960" cy="3682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 Cyr"/>
              </a:rPr>
              <a:t>Индульгенци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Text Box 18"/>
          <p:cNvSpPr/>
          <p:nvPr/>
        </p:nvSpPr>
        <p:spPr>
          <a:xfrm>
            <a:off x="5334120" y="6095880"/>
            <a:ext cx="3504960" cy="3682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 Cyr"/>
              </a:rPr>
              <a:t>Исповед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50004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Термин « католический »  ??????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5368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-36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В переводе с греческого означает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-36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«всеобщий, вселенский»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-36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Католической до раскола называли всю христианскую церковь, как западную , так и восточную. Но после раскола это название закрепилось только за западной ветвью христианства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285840" y="20160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375" name="Содержимое 3" descr="карта.png"/>
          <p:cNvPicPr/>
          <p:nvPr/>
        </p:nvPicPr>
        <p:blipFill>
          <a:blip r:embed="rId2"/>
          <a:stretch/>
        </p:blipFill>
        <p:spPr>
          <a:xfrm>
            <a:off x="285840" y="1071720"/>
            <a:ext cx="8501040" cy="42289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285840" y="5429160"/>
            <a:ext cx="885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Католическую веру исповедует не менее 1 млрд. человек, в 50 странах мира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6840" y="357120"/>
            <a:ext cx="8472600" cy="60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88c"/>
                </a:solidFill>
                <a:latin typeface="Century Gothic"/>
              </a:rPr>
              <a:t>Географически католицизм распространен в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-Западной, Центральной, Юго- Восточной Европе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( </a:t>
            </a: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Испания, Италия, Португалия, Франция, Бельгия, Германия, Австрия, Польша, Литва, Чехия, Словакия, Венгрия, часть Украины и Белоруссии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США и Мексик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-Южная Америк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-Африк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-Азия (</a:t>
            </a: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Филиппины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8" name="Рисунок 3" descr="Moscow_Catholic_church.jpg"/>
          <p:cNvPicPr/>
          <p:nvPr/>
        </p:nvPicPr>
        <p:blipFill>
          <a:blip r:embed="rId1"/>
          <a:stretch/>
        </p:blipFill>
        <p:spPr>
          <a:xfrm>
            <a:off x="4214880" y="3357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9:55:17Z</dcterms:created>
  <dc:creator>user2</dc:creator>
  <dc:description/>
  <dc:language>en-US</dc:language>
  <cp:lastModifiedBy>User</cp:lastModifiedBy>
  <dcterms:modified xsi:type="dcterms:W3CDTF">2013-07-10T09:13:57Z</dcterms:modified>
  <cp:revision>27</cp:revision>
  <dc:subject/>
  <dc:title>Католицизм. Особенности вероучения и культа</dc:title>
</cp:coreProperties>
</file>