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15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841-385D-4626-9871-6AE73526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8D4-21E9-4772-AFE2-72366372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6D03-B3C9-4372-AD58-A2ABE32B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213-AE51-4AF2-BB32-98A06463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0F13-BC41-4861-988A-2606E47F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B49-6250-45AC-998B-BC7376E0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468-E56E-4543-A234-5D88D916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DA8-26B4-40EE-8BE5-6BB22D16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81F-37F6-4A4D-9603-71A15CE3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40E-E62D-487C-B5B2-08D7A855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A8C-1B37-461B-AD34-89C1C943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83D-9331-4E30-8E58-1C9D8B02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AA00-7E28-4E9F-B0B5-133F2F11C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21428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общающий урок по теме «ХРИСТИАНСТВ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ие художники и скульпторы обращались в своем творчестве к событиям земной жизни Иисуса Христа. Назовите авторов произведений, их названия и кратко опишите события Евангелия, послужившие источниками вдохнов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1395360"/>
          <a:ext cx="8929800" cy="5462640"/>
        </p:xfrm>
        <a:graphic>
          <a:graphicData uri="http://schemas.openxmlformats.org/drawingml/2006/table">
            <a:tbl>
              <a:tblPr/>
              <a:tblGrid>
                <a:gridCol w="2349360"/>
                <a:gridCol w="6580440"/>
              </a:tblGrid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Рисунок 15" descr="001238"/>
          <p:cNvPicPr/>
          <p:nvPr/>
        </p:nvPicPr>
        <p:blipFill>
          <a:blip r:embed="rId1"/>
          <a:stretch/>
        </p:blipFill>
        <p:spPr>
          <a:xfrm>
            <a:off x="500040" y="135720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7" descr="003363"/>
          <p:cNvPicPr/>
          <p:nvPr/>
        </p:nvPicPr>
        <p:blipFill>
          <a:blip r:embed="rId2"/>
          <a:stretch/>
        </p:blipFill>
        <p:spPr>
          <a:xfrm>
            <a:off x="500040" y="328608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6" descr="001898"/>
          <p:cNvPicPr/>
          <p:nvPr/>
        </p:nvPicPr>
        <p:blipFill>
          <a:blip r:embed="rId3"/>
          <a:stretch/>
        </p:blipFill>
        <p:spPr>
          <a:xfrm>
            <a:off x="500040" y="5643720"/>
            <a:ext cx="1143000" cy="1214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8" descr="005172"/>
          <p:cNvPicPr/>
          <p:nvPr/>
        </p:nvPicPr>
        <p:blipFill>
          <a:blip r:embed="rId4"/>
          <a:stretch/>
        </p:blipFill>
        <p:spPr>
          <a:xfrm>
            <a:off x="500040" y="2357280"/>
            <a:ext cx="1143000" cy="928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4" descr="000227"/>
          <p:cNvPicPr/>
          <p:nvPr/>
        </p:nvPicPr>
        <p:blipFill>
          <a:blip r:embed="rId5"/>
          <a:stretch/>
        </p:blipFill>
        <p:spPr>
          <a:xfrm>
            <a:off x="500040" y="4429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 вами фрагмент учения Иисуса Христа, т.н. «Нагорная проповедь».                                                 Вчитайтесь в текст. Напишите эссе «2000 лет спустя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0" y="642960"/>
            <a:ext cx="9144000" cy="32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идев народ, Он взошел на гору; и, когда сел, приступили к Нему ученики Его.       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н, отверзши уста Свои, учил их, говоря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ы нищие духом, ибо их есть Царство Небесно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ы плачущие, ибо они утешатс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ы кроткие, ибо они наследуют землю.  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ы алчущие и жаждущие правды, ибо они насытятс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ы милостивые, ибо они помилованы будут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ы чистые сердцем, ибо они Бога узрят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ы миротворцы, ибо они будут наречены сынами Божиим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ы изгнанные за правд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бо их есть Царство Небесно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ство – здесь «счасть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0" y="4000680"/>
            <a:ext cx="914400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ы вы, когда будут поносить вас и гнать и всячески неправедно злословить за Меня.  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2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уйтесь и веселитесь, ибо велика ваша награда на небесах: так гнали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роков, бывших прежде вас.    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4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- свет мира. Не может укрыться город, стоящий на верху горы.  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5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зажегши свечу, не ставят ее под сосудом, но на подсвечнике, и светит всем 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е. 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6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да светит свет ваш пред людьми, чтобы они видели ваши добрые дела и прославляли Отца вашего Небесного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умайте, что Я пришел нарушить закон или пророков: не нарушить пришел Я, но исполнить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1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лышали, что сказано древним: не убивай, кто же убьет, подлежит суду.  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2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Я говорю вам, что всякий, гневающийся на брата своего напрасно, подлежит суду; кто же скажет брату своему: "рака", подлежит синедриону; а кто скажет: "безумный", подлежит геенне огненной.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                                                                                                                             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                                                                                                                                                   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0" y="28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нняя  христианская церковь использовала много символических изображений.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означали эти символ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?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857160"/>
          <a:ext cx="9144000" cy="60008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11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Рисунок 1" descr="ггнгнгнн"/>
          <p:cNvPicPr/>
          <p:nvPr/>
        </p:nvPicPr>
        <p:blipFill>
          <a:blip r:embed="rId1"/>
          <a:stretch/>
        </p:blipFill>
        <p:spPr>
          <a:xfrm>
            <a:off x="0" y="857160"/>
            <a:ext cx="231444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v_064i"/>
          <p:cNvPicPr/>
          <p:nvPr/>
        </p:nvPicPr>
        <p:blipFill>
          <a:blip r:embed="rId2"/>
          <a:stretch/>
        </p:blipFill>
        <p:spPr>
          <a:xfrm>
            <a:off x="4572000" y="866880"/>
            <a:ext cx="2286000" cy="20620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ani-crazy_dolphin"/>
          <p:cNvPicPr/>
          <p:nvPr/>
        </p:nvPicPr>
        <p:blipFill>
          <a:blip r:embed="rId3"/>
          <a:stretch/>
        </p:blipFill>
        <p:spPr>
          <a:xfrm>
            <a:off x="0" y="2968560"/>
            <a:ext cx="2286000" cy="19702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f03013i"/>
          <p:cNvPicPr/>
          <p:nvPr/>
        </p:nvPicPr>
        <p:blipFill>
          <a:blip r:embed="rId4"/>
          <a:srcRect l="0" t="18642" r="0" b="0"/>
          <a:stretch/>
        </p:blipFill>
        <p:spPr>
          <a:xfrm>
            <a:off x="4572000" y="3000240"/>
            <a:ext cx="2286000" cy="1857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J0178693"/>
          <p:cNvPicPr/>
          <p:nvPr/>
        </p:nvPicPr>
        <p:blipFill>
          <a:blip r:embed="rId5"/>
          <a:srcRect l="25000" t="10898" r="16929" b="9337"/>
          <a:stretch/>
        </p:blipFill>
        <p:spPr>
          <a:xfrm>
            <a:off x="0" y="492912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ya_203i"/>
          <p:cNvPicPr/>
          <p:nvPr/>
        </p:nvPicPr>
        <p:blipFill>
          <a:blip r:embed="rId6"/>
          <a:srcRect l="24731" t="0" r="26356" b="51214"/>
          <a:stretch/>
        </p:blipFill>
        <p:spPr>
          <a:xfrm>
            <a:off x="4572000" y="4929120"/>
            <a:ext cx="2286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оверка дом.задания: СИНКВЕЙН на тему «Христианство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полнение  заданий на выбо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ведение итог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57200"/>
            <a:ext cx="568800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90-100 бал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-80 бал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50-60 бал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е события Рождества Христова.                               Расставьте иллюстрации в хронологическом порядке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смотрите внимательно карту современного государства Израиль (цифра 1 на карте обозначает территорию Древней Палестины). Почему одна из мировых религий – христианство возникла именно здесь?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4357800" cy="550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4643280" y="1357200"/>
          <a:ext cx="4500720" cy="42865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берите   из приведенных ниже источников те, которые дают сведения о жизни Иисуса Христа и его учеников – апостолов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вангелие от Лу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мранские свит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покалипси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а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вангелие от Мар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вангелие от Иоан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вангелие от Матфе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яния Апостол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исисанэнги эмаки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вангелие Варфоломе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есть Иосифа Аримафейског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помните события Рождества Христова. Расставьте иллюстрации  в хронологическом поряд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Бартоло ди Фреди"/>
          <p:cNvPicPr/>
          <p:nvPr/>
        </p:nvPicPr>
        <p:blipFill>
          <a:blip r:embed="rId1"/>
          <a:stretch/>
        </p:blipFill>
        <p:spPr>
          <a:xfrm>
            <a:off x="3357720" y="1428840"/>
            <a:ext cx="2714400" cy="2989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" descr="Благовещание"/>
          <p:cNvPicPr/>
          <p:nvPr/>
        </p:nvPicPr>
        <p:blipFill>
          <a:blip r:embed="rId2"/>
          <a:stretch/>
        </p:blipFill>
        <p:spPr>
          <a:xfrm>
            <a:off x="1357200" y="4143240"/>
            <a:ext cx="2571840" cy="25178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3" descr="рпрпр"/>
          <p:cNvPicPr/>
          <p:nvPr/>
        </p:nvPicPr>
        <p:blipFill>
          <a:blip r:embed="rId3"/>
          <a:stretch/>
        </p:blipFill>
        <p:spPr>
          <a:xfrm>
            <a:off x="5929200" y="4214880"/>
            <a:ext cx="2183040" cy="2428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1" descr="Вифлиемские младенцы"/>
          <p:cNvPicPr/>
          <p:nvPr/>
        </p:nvPicPr>
        <p:blipFill>
          <a:blip r:embed="rId4"/>
          <a:stretch/>
        </p:blipFill>
        <p:spPr>
          <a:xfrm>
            <a:off x="6286680" y="1285920"/>
            <a:ext cx="2398680" cy="3022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2" descr="Поклонение волхвов2"/>
          <p:cNvPicPr/>
          <p:nvPr/>
        </p:nvPicPr>
        <p:blipFill>
          <a:blip r:embed="rId5"/>
          <a:stretch/>
        </p:blipFill>
        <p:spPr>
          <a:xfrm>
            <a:off x="357120" y="1071720"/>
            <a:ext cx="24289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йди верный вход в лабиринт и помоги волхвам добраться до Вифлеемской звезды. По дороге ты узнаешь, что они сказали царю Ироду о Мессии (Евангелие от Матфея 2: 2 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8" descr=" "/>
          <p:cNvPicPr/>
          <p:nvPr/>
        </p:nvPicPr>
        <p:blipFill>
          <a:blip r:embed="rId1"/>
          <a:stretch/>
        </p:blipFill>
        <p:spPr>
          <a:xfrm>
            <a:off x="0" y="1785960"/>
            <a:ext cx="9078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ед вами фрагмент учения Иисуса Христа, т.н. «Нагорная проповедь». Вчитайтесь в текст. Напишите эссе «2000 лет спуст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14240" y="999720"/>
            <a:ext cx="77868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1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Увидев народ, Он взошел на гору; и, когда сел, приступили к Нему ученики Его.                                                                                                                                                               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2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 Он, отверзши уста Свои, учил их, говоря: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3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лаженны нищие духом, ибо их есть Царство Небесное.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4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лаженны плачущие, ибо они утешатся.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5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лаженны кроткие, ибо они наследуют землю. 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6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лаженны алчущие и жаждущие правды, ибо они насытятся.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7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лаженны милостивые, ибо они помилованы будут.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8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лаженны чистые сердцем, ибо они Бога узрят.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9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лаженны миротворцы, ибо они будут наречены сынами Божиими.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10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лаженны изгнанные за правду, ибо их есть Царство Небесное.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11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лаженны вы, когда будут поносить вас и гнать и всячески неправедно злословить за Меня. 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12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Радуйтесь и веселитесь, ибо велика ваша награда на небесах: так гнали </a:t>
            </a:r>
            <a:r>
              <a:rPr b="1" i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пророков, бывших прежде вас.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14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Вы - свет мира. Не может укрыться город, стоящий на верху горы. 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15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, зажегши свечу, не ставят ее под сосудом, но на подсвечнике, и светит всем в доме. 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16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Так да светит свет ваш пред людьми, чтобы они видели ваши добрые дела и прославляли Отца вашего Небесного. </a:t>
            </a:r>
            <a:br>
              <a:rPr sz="1400"/>
            </a:b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17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Не думайте, что Я пришел нарушить закон или пророков: не нарушить пришел Я, но исполнить.      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21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Вы слышали, что сказано древним: не убивай, кто же убьет, подлежит суду.  </a:t>
            </a:r>
            <a:r>
              <a:rPr b="1" lang="ru-RU" sz="1400" spc="-1" strike="noStrike" baseline="30000">
                <a:solidFill>
                  <a:srgbClr val="898989"/>
                </a:solidFill>
                <a:latin typeface="Times New Roman"/>
                <a:ea typeface="Times New Roman"/>
              </a:rPr>
              <a:t>22 </a:t>
            </a: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А Я говорю вам, что всякий, гневающийся на брата своего напрасно, подлежит суду; кто же скажет брату своему: "рака", подлежит синедриону; а кто скажет: "безумный", подлежит геенне огненной.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Блаженство – здесь «счасть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Рака – здесь «дурак», «безумны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0428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Геенна огненная -  символическое обозначение конечной погибели грешников в конце света и, как следствие, ада. Так  в Иерусалиме называли ров, где постоянно поддерживался  огонь, куда сбрасывали трупы умерших от болезней животн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760428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1-04-21T04:59:25Z</dcterms:modified>
  <cp:revision>107</cp:revision>
  <dc:subject/>
  <dc:title>Иудаизм в России</dc:title>
</cp:coreProperties>
</file>