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0.png" ContentType="image/png"/>
  <Override PartName="/ppt/media/image8.jpeg" ContentType="image/jpeg"/>
  <Override PartName="/ppt/media/image5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408CC-F186-48A6-B502-48752EAAA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1FE6F-2C9A-46AE-AA2F-7801B685A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9C3DA-22CC-4B6E-80D2-22B7E25DA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1AE63-8B3B-48F1-AD18-4593E4D61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10CDD-6DA9-46B1-8FF8-BDDF207D3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342E5-6ACB-4173-B639-DE421E7F3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5B0E8-487F-49FA-AE43-50F0640AF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0EA7F-A8C7-4E54-B8C5-6998574F6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6E0A1-29B8-46EC-B788-A0B2F9F58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BCA9A-B07B-44BB-AF47-279D7EE53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06E52-87D2-42A5-B868-0E6DF6AEA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D7416-3D82-497B-AC19-DBD5E47C2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8B8A8-F95F-4552-80EA-5403C56DA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942EE-0BB4-4098-9A1E-DDF8605B8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07E83-E31A-40E2-893A-D8EF2CC18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76DC6-62E3-44BA-ABA8-BC8D88E99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BAE40-4162-4B5B-976C-601652584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8E701-284B-443F-8868-921057481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4A9A8-FF00-4292-B900-2E4DA3E03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82387-B10F-48A9-8C73-39B86366E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45C77-5EC6-44F4-8F3B-130D9BCED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49AF2-6F1B-486A-99BF-8C883AE9E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4DE4B-EE59-440E-B66F-344465140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36BC1-7309-46E2-9721-4D4003776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72057-B3FA-4E8C-AE7F-1F1944A545C0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3C65F-1B2A-44E1-8829-E695F0883F57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Заголовок 1" descr=""/>
          <p:cNvPicPr/>
          <p:nvPr/>
        </p:nvPicPr>
        <p:blipFill>
          <a:blip r:embed="rId1"/>
          <a:stretch/>
        </p:blipFill>
        <p:spPr>
          <a:xfrm>
            <a:off x="781200" y="566640"/>
            <a:ext cx="7783200" cy="18846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371600" y="2786040"/>
            <a:ext cx="6400800" cy="285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Христианство </a:t>
            </a:r>
            <a:r>
              <a:rPr b="1" lang="en-US" sz="3200" spc="-1" strike="noStrike">
                <a:solidFill>
                  <a:srgbClr val="ffffff"/>
                </a:solidFill>
                <a:latin typeface="Book Antiqua"/>
              </a:rPr>
              <a:t>                                           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как мировая религия. </a:t>
            </a:r>
            <a:r>
              <a:rPr b="1" lang="en-US" sz="3200" spc="-1" strike="noStrike">
                <a:solidFill>
                  <a:srgbClr val="ffffff"/>
                </a:solidFill>
                <a:latin typeface="Book Antiqua"/>
              </a:rPr>
              <a:t>                                                  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Утверждение догматики и культа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Заголовок 3" descr=""/>
          <p:cNvPicPr/>
          <p:nvPr/>
        </p:nvPicPr>
        <p:blipFill>
          <a:blip r:embed="rId1"/>
          <a:stretch/>
        </p:blipFill>
        <p:spPr>
          <a:xfrm>
            <a:off x="450720" y="493560"/>
            <a:ext cx="8242560" cy="8604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 txBox="1"/>
          <p:nvPr/>
        </p:nvSpPr>
        <p:spPr>
          <a:xfrm>
            <a:off x="457200" y="214200"/>
            <a:ext cx="8229600" cy="59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ловарная работ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имвол веры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раткое изложение основных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     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гматов христианства, состоящее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з 12 пункто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гмат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–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ложение не подлежащее изменению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58320"/>
            <a:ext cx="8229600" cy="6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7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457200" y="714240"/>
          <a:ext cx="8229600" cy="549288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7859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НАЮ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аши ассоциации с изучаемой темой 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«Христианство»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ХОЧУ УЗНАТ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ЗНАЛ НА УРОК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eb966"/>
                    </a:solidFill>
                  </a:tcPr>
                </a:tc>
              </a:tr>
              <a:tr h="3706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исус Христос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вангели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ибли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тхий Завет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вый Завет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повед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«Христианство как мировая религия. Утверждение догматики и культа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мвол веры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ленский собор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гмат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тория превращения христианства в мировую религию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                                       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. На тему «Христианство» составить СИНКВЕЙН.                                                                                                 2. Подготовиться к обобщающему уроку по теме «Христианство»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9" name=""/>
          <p:cNvGraphicFramePr/>
          <p:nvPr/>
        </p:nvGraphicFramePr>
        <p:xfrm>
          <a:off x="1523880" y="1397160"/>
          <a:ext cx="6096240" cy="4010040"/>
        </p:xfrm>
        <a:graphic>
          <a:graphicData uri="http://schemas.openxmlformats.org/drawingml/2006/table">
            <a:tbl>
              <a:tblPr/>
              <a:tblGrid>
                <a:gridCol w="2032200"/>
                <a:gridCol w="1015920"/>
                <a:gridCol w="3048120"/>
              </a:tblGrid>
              <a:tr h="55980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spcAft>
                          <a:spcPts val="1001"/>
                        </a:spcAft>
                        <a:buClr>
                          <a:srgbClr val="ffffff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Епископ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.  Краткое изложение основных догматов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</a:tr>
              <a:tr h="55980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Клир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.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ожение, не подлежащее изменению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36828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Догмат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.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Уединенное жилище»)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</a:tr>
              <a:tr h="36828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Диакон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.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Старейшины» общин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55980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 Мирян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.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сшее должностное лицо в религиозной иерархи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</a:tr>
              <a:tr h="36828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 Монастырь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.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стые верующи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111924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 Символ веры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.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юди, помогающие пресвитерам выполнять богослужебные ритуалы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                 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</a:tr>
              <a:tr h="36828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 Пресвитер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.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ященнослужител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</a:tbl>
          </a:graphicData>
        </a:graphic>
      </p:graphicFrame>
      <p:sp>
        <p:nvSpPr>
          <p:cNvPr id="120" name="Rectangle 1"/>
          <p:cNvSpPr/>
          <p:nvPr/>
        </p:nvSpPr>
        <p:spPr>
          <a:xfrm>
            <a:off x="2092680" y="74880"/>
            <a:ext cx="495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ДАНИЕ: СООТНЕСИТЕ ТЕРМИНЫ С ИХ ЗНАЧЕНИЯМ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411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                                                                          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.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верка домашнего задания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                                          2.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екция учителя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Христианство как мировая религия. Утверждение догматики и культа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»                                                                                                                                      3. Домашнее задание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11120" indent="-411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. На тему «Христианство» составить СИНКВЕЙН.                                                                                                 2. Подготовиться к обобщающему уроку по теме «Христианство»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1112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11120" indent="-411120">
              <a:spcBef>
                <a:spcPts val="700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6" name=""/>
          <p:cNvGraphicFramePr/>
          <p:nvPr/>
        </p:nvGraphicFramePr>
        <p:xfrm>
          <a:off x="1571760" y="2214720"/>
          <a:ext cx="6095880" cy="3754440"/>
        </p:xfrm>
        <a:graphic>
          <a:graphicData uri="http://schemas.openxmlformats.org/drawingml/2006/table">
            <a:tbl>
              <a:tblPr/>
              <a:tblGrid>
                <a:gridCol w="2031840"/>
                <a:gridCol w="2032200"/>
                <a:gridCol w="2031840"/>
              </a:tblGrid>
              <a:tr h="3686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НАЮ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ХОЧУ УЗНАТ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ЗНАЛ НА УРОКЕ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eb966"/>
                    </a:solidFill>
                  </a:tcPr>
                </a:tc>
              </a:tr>
              <a:tr h="33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Заголовок 1" descr=""/>
          <p:cNvPicPr/>
          <p:nvPr/>
        </p:nvPicPr>
        <p:blipFill>
          <a:blip r:embed="rId1"/>
          <a:stretch/>
        </p:blipFill>
        <p:spPr>
          <a:xfrm>
            <a:off x="450720" y="79200"/>
            <a:ext cx="8242560" cy="1000440"/>
          </a:xfrm>
          <a:prstGeom prst="rect">
            <a:avLst/>
          </a:prstGeom>
          <a:ln w="0">
            <a:noFill/>
          </a:ln>
        </p:spPr>
      </p:pic>
      <p:pic>
        <p:nvPicPr>
          <p:cNvPr id="88" name="Содержимое 8" descr=""/>
          <p:cNvPicPr/>
          <p:nvPr/>
        </p:nvPicPr>
        <p:blipFill>
          <a:blip r:embed="rId2"/>
          <a:stretch/>
        </p:blipFill>
        <p:spPr>
          <a:xfrm>
            <a:off x="480960" y="622440"/>
            <a:ext cx="8266320" cy="55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5" descr=""/>
          <p:cNvPicPr/>
          <p:nvPr/>
        </p:nvPicPr>
        <p:blipFill>
          <a:blip r:embed="rId3"/>
          <a:stretch/>
        </p:blipFill>
        <p:spPr>
          <a:xfrm>
            <a:off x="1714680" y="-55440"/>
            <a:ext cx="5643360" cy="69134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6" descr=""/>
          <p:cNvPicPr/>
          <p:nvPr/>
        </p:nvPicPr>
        <p:blipFill>
          <a:blip r:embed="rId4"/>
          <a:stretch/>
        </p:blipFill>
        <p:spPr>
          <a:xfrm>
            <a:off x="1928880" y="0"/>
            <a:ext cx="5143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xit" presetID="5" presetSubtype="10">
                                  <p:stCondLst>
                                    <p:cond delay="1500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6500"/>
                            </p:stCondLst>
                            <p:childTnLst>
                              <p:par>
                                <p:cTn id="17" nodeType="afterEffect" fill="hold" presetClass="exit" presetID="5" presetSubtype="10">
                                  <p:stCondLst>
                                    <p:cond delay="1500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32000"/>
                            </p:stCondLst>
                            <p:childTnLst>
                              <p:par>
                                <p:cTn id="2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Заголовок 1" descr=""/>
          <p:cNvPicPr/>
          <p:nvPr/>
        </p:nvPicPr>
        <p:blipFill>
          <a:blip r:embed="rId1"/>
          <a:stretch/>
        </p:blipFill>
        <p:spPr>
          <a:xfrm>
            <a:off x="450720" y="96840"/>
            <a:ext cx="8242560" cy="13302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4" descr=""/>
          <p:cNvPicPr/>
          <p:nvPr/>
        </p:nvPicPr>
        <p:blipFill>
          <a:blip r:embed="rId2"/>
          <a:stretch/>
        </p:blipFill>
        <p:spPr>
          <a:xfrm>
            <a:off x="-47520" y="0"/>
            <a:ext cx="9191520" cy="68580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5" descr=""/>
          <p:cNvPicPr/>
          <p:nvPr/>
        </p:nvPicPr>
        <p:blipFill>
          <a:blip r:embed="rId3"/>
          <a:stretch/>
        </p:blipFill>
        <p:spPr>
          <a:xfrm>
            <a:off x="-103320" y="0"/>
            <a:ext cx="9345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" dur="5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8" presetSubtype="16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" presetSubtype="16">
                                  <p:stCondLst>
                                    <p:cond delay="150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Заголовок 3" descr=""/>
          <p:cNvPicPr/>
          <p:nvPr/>
        </p:nvPicPr>
        <p:blipFill>
          <a:blip r:embed="rId1"/>
          <a:stretch/>
        </p:blipFill>
        <p:spPr>
          <a:xfrm>
            <a:off x="420840" y="-6480"/>
            <a:ext cx="8242200" cy="1158840"/>
          </a:xfrm>
          <a:prstGeom prst="rect">
            <a:avLst/>
          </a:prstGeom>
          <a:ln w="0">
            <a:noFill/>
          </a:ln>
        </p:spPr>
      </p:pic>
      <p:sp>
        <p:nvSpPr>
          <p:cNvPr id="97" name="Прямоугольник 4"/>
          <p:cNvSpPr/>
          <p:nvPr/>
        </p:nvSpPr>
        <p:spPr>
          <a:xfrm>
            <a:off x="0" y="1143000"/>
            <a:ext cx="642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есвитеры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– «старейшины» общин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Прямоугольник 5"/>
          <p:cNvSpPr/>
          <p:nvPr/>
        </p:nvSpPr>
        <p:spPr>
          <a:xfrm>
            <a:off x="0" y="157176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иаконы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(греч. «прислужники»)- люди, помогающие пресвитерам выполнять богослужебные ритуалы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Прямоугольник 6"/>
          <p:cNvSpPr/>
          <p:nvPr/>
        </p:nvSpPr>
        <p:spPr>
          <a:xfrm>
            <a:off x="0" y="2428920"/>
            <a:ext cx="1143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Епископ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(букв. : «надзиратель») – высшее должностное лицо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Прямоугольник 7"/>
          <p:cNvSpPr/>
          <p:nvPr/>
        </p:nvSpPr>
        <p:spPr>
          <a:xfrm>
            <a:off x="0" y="2857680"/>
            <a:ext cx="914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итрополит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(греч. «человек из главного города») – епископы главных городов провинций, за которыми закрепилось право назначать других епископов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Прямоугольник 8"/>
          <p:cNvSpPr/>
          <p:nvPr/>
        </p:nvSpPr>
        <p:spPr>
          <a:xfrm>
            <a:off x="0" y="3857760"/>
            <a:ext cx="517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иряне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– простые верующие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Прямоугольник 9"/>
          <p:cNvSpPr/>
          <p:nvPr/>
        </p:nvSpPr>
        <p:spPr>
          <a:xfrm>
            <a:off x="0" y="43578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лир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(греч. «жребий», что может означать особое апостольское призвание, которое дано не каждому) - священнослужители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Прямоугольник 10"/>
          <p:cNvSpPr/>
          <p:nvPr/>
        </p:nvSpPr>
        <p:spPr>
          <a:xfrm>
            <a:off x="0" y="5000760"/>
            <a:ext cx="771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ерархия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(букв. с греч. – «священная власть»)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Прямоугольник 11"/>
          <p:cNvSpPr/>
          <p:nvPr/>
        </p:nvSpPr>
        <p:spPr>
          <a:xfrm>
            <a:off x="0" y="5357880"/>
            <a:ext cx="524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онах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(от греч. монос) – один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Прямоугольник 12"/>
          <p:cNvSpPr/>
          <p:nvPr/>
        </p:nvSpPr>
        <p:spPr>
          <a:xfrm>
            <a:off x="0" y="57862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онастырь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(от греч. монос – один; букв. «уединенное жилище»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" dur="80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" dur="80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" dur="80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200"/>
                            </p:stCondLst>
                            <p:childTnLst>
                              <p:par>
                                <p:cTn id="5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" dur="80"/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" dur="80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" dur="80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4600"/>
                            </p:stCondLst>
                            <p:childTnLst>
                              <p:par>
                                <p:cTn id="6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" dur="80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5" dur="80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" dur="80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6680"/>
                            </p:stCondLst>
                            <p:childTnLst>
                              <p:par>
                                <p:cTn id="6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" dur="8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" dur="8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" dur="8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1760"/>
                            </p:stCondLst>
                            <p:childTnLst>
                              <p:par>
                                <p:cTn id="7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6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7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2720"/>
                            </p:stCondLst>
                            <p:childTnLst>
                              <p:par>
                                <p:cTn id="8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2" dur="8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3" dur="8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" dur="8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6880"/>
                            </p:stCondLst>
                            <p:childTnLst>
                              <p:par>
                                <p:cTn id="8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8" dur="8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9" dur="8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" dur="8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8520"/>
                            </p:stCondLst>
                            <p:childTnLst>
                              <p:par>
                                <p:cTn id="9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4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5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9560"/>
                            </p:stCondLst>
                            <p:childTnLst>
                              <p:par>
                                <p:cTn id="9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0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1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4" descr=""/>
          <p:cNvPicPr/>
          <p:nvPr/>
        </p:nvPicPr>
        <p:blipFill>
          <a:blip r:embed="rId2"/>
          <a:stretch/>
        </p:blipFill>
        <p:spPr>
          <a:xfrm>
            <a:off x="1571760" y="0"/>
            <a:ext cx="6143400" cy="68580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5" descr=""/>
          <p:cNvPicPr/>
          <p:nvPr/>
        </p:nvPicPr>
        <p:blipFill>
          <a:blip r:embed="rId3"/>
          <a:stretch/>
        </p:blipFill>
        <p:spPr>
          <a:xfrm>
            <a:off x="1571760" y="0"/>
            <a:ext cx="6072120" cy="68515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6" descr=""/>
          <p:cNvPicPr/>
          <p:nvPr/>
        </p:nvPicPr>
        <p:blipFill>
          <a:blip r:embed="rId4"/>
          <a:stretch/>
        </p:blipFill>
        <p:spPr>
          <a:xfrm>
            <a:off x="1428840" y="0"/>
            <a:ext cx="6286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2" dur="2000" fill="hold"/>
                                        <p:tgtEl>
                                          <p:spTgt spid="107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113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771 -0.01042 L -0.26771 -0.01042 E">
                                      <p:cBhvr>
                                        <p:cTn id="114" dur="2000" fill="hold"/>
                                        <p:tgtEl>
                                          <p:spTgt spid="1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2500"/>
                            </p:stCondLst>
                            <p:childTnLst>
                              <p:par>
                                <p:cTn id="116" nodeType="afterEffect" fill="hold" presetClass="exit" presetID="5" presetSubtype="10">
                                  <p:stCondLst>
                                    <p:cond delay="500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1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8000"/>
                            </p:stCondLst>
                            <p:childTnLst>
                              <p:par>
                                <p:cTn id="12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8500"/>
                            </p:stCondLst>
                            <p:childTnLst>
                              <p:par>
                                <p:cTn id="12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5" dur="2000" fill="hold"/>
                                        <p:tgtEl>
                                          <p:spTgt spid="108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126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27" dur="2000" fill="hold"/>
                                        <p:tgtEl>
                                          <p:spTgt spid="1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500"/>
                            </p:stCondLst>
                            <p:childTnLst>
                              <p:par>
                                <p:cTn id="129" nodeType="afterEffect" fill="hold" presetClass="exit" presetID="5" presetSubtype="10">
                                  <p:stCondLst>
                                    <p:cond delay="500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3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3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Заголовок 1" descr=""/>
          <p:cNvPicPr/>
          <p:nvPr/>
        </p:nvPicPr>
        <p:blipFill>
          <a:blip r:embed="rId1"/>
          <a:stretch/>
        </p:blipFill>
        <p:spPr>
          <a:xfrm>
            <a:off x="450720" y="212760"/>
            <a:ext cx="8242560" cy="476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1" name=""/>
          <p:cNvGraphicFramePr/>
          <p:nvPr/>
        </p:nvGraphicFramePr>
        <p:xfrm>
          <a:off x="428760" y="714240"/>
          <a:ext cx="8072280" cy="5851800"/>
        </p:xfrm>
        <a:graphic>
          <a:graphicData uri="http://schemas.openxmlformats.org/drawingml/2006/table">
            <a:tbl>
              <a:tblPr/>
              <a:tblGrid>
                <a:gridCol w="2714400"/>
                <a:gridCol w="5357880"/>
              </a:tblGrid>
              <a:tr h="804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ера в единого рожденного от Бога-Отца и пришедшего на землю ради спасения всех людей;                                                                                                                  вера в  то, что Христос умер мученической смертью, как человек, принявший страдания за всех людей;                                                                                      вера в  то, что он воскрес на третий день, а затем вознесся на небеса;                         вера в то, что Христос придет на землю во второй раз, чтобы судить живых и мертвых, которые воскреснут, и т.д..                                                                                                                                                                             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.Верую во Единаго Бога Отца, Вседержателя, Творца небу и земли, видимым же всем и невидимым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. И во Единаго Иисуса Христа, Сына Божия Единороднаго, Иже отОтца рожденнаго прежде всех век. Света от Света, Бога истинна от Бога истинна, рожденна, несотворенна, единосущна Отцу, Им же вся быша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. Нас ради человек и нашего ради спасения сшедшаго с небес и воплотившагося от Духа Свята и Марии Девы и вочеловечшася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. Распятаго же при Понтийстем Пилате, и страдавша, и погребенна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. И воскресшаго в третий день по Писанием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. И возшедшаго на небеса, и седяща одесную Отца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. И паки грядущаго со славою судити живым и мертвым, Его же Царствию не будет конца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. И в Духа Святаго, Господа Животворящаго, Иже от Отца исходящаго, Иже со Отцем и Сыном споклоняема и сславима, глаголашаго пророки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. Во едину Святую, Соборную и Апостольскую Церковь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. Исповедую едино крещение во оставление грехов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1. Чаю воскресения мертвых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2. И жизни будущаго. Аминь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6T10:10:14Z</dcterms:created>
  <dc:creator>Admin</dc:creator>
  <dc:description/>
  <dc:language>en-US</dc:language>
  <cp:lastModifiedBy>Admin</cp:lastModifiedBy>
  <dcterms:modified xsi:type="dcterms:W3CDTF">2011-04-20T12:17:49Z</dcterms:modified>
  <cp:revision>133</cp:revision>
  <dc:subject/>
  <dc:title>ТЕМА УРОКА                                              «ЧТО ТАКОЕ РЕЛИГИЯ?» </dc:title>
</cp:coreProperties>
</file>