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987-5AFC-4CF8-A533-0498DFCF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58-8D83-4F03-B4A0-BAC34CE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0BE-4D1D-4434-B2CB-7C96080E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BC-3398-41F5-A4B7-47161C7E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3B63-D51F-4D22-9C9A-BE720AC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92D-6A86-463F-B350-6627654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10BA-1C13-4C85-8E51-D6099695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785-655A-4B56-835E-28A15DB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F01-441B-4CBD-9BF6-EEC707B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FAB-294A-4399-B97D-837EFC6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B4F-CE3F-4256-BE72-29DD233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C98-048C-4A04-91E9-C6A684DE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D5FA-6F3A-46E5-8A2A-E12283E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119-457B-4E92-94B8-A4C0D0D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DCE-1EB1-46E1-BB47-43248C0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F1A4-7EF6-471C-AC8F-6B1526AC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A66-871F-4E9C-AC42-7D5CE0C2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B0B-2F61-411B-8FCE-EFA4B49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C74-CD63-42CA-8498-432BDE5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9EA-5FAD-4389-BC90-64F47F9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8B4-0591-443D-BB8E-634265CD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EE3-CC40-46D8-BD4F-893CFD0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164-A499-48A8-BF75-E6DAE91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3DB-AF5C-4EE5-985D-5B7B8FA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FB3A-CEDE-4A2E-9F40-066DAB33B5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C872-F0A9-4E10-BFAA-03F4155F30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Иисус Христос и его учени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о такой И.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у учил Иисус 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его учение стало популяр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Кто такой Иисус Христос (Спасение)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ифологически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сторический подх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игиозны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Сформулируйте ответ на вопрос каждой точки з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жде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-3 в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фле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ифлеемская звезд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у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осиф, Ма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арет (назаретяни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749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316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 -начал стран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анн Креститель    (Предтеча- предшествовал Иисусу)совершил обряд крещения над Христом в водах реки Иор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омент крещения голос с небес возвестил: «Се есть Сын Мой возлюбленный!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733560" cy="453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ход в Иерусали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йная Вечер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135840" cy="3319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 учеников – апостолов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тр, Андрей, Иаков, Иоанн, Филипп, Варфоломей, Матфей, Фома, Иаков Алфеев, Иуда, Фаддей, Симон Зелот и Иуда Искарио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58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Учение И.Христа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и всех (и близких, и враг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сь прощать. «Не судите, да не судимы будет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упайте с людьми всегда так, как вы хотите, чтобы другие поступали с в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 делай незаметно, не жди поощр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литься, поститься и каяться нужно непоказ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стремись к богатству,  достаток, богатства и материальное благополучие достигай честным, добрым и нравственным пут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дите всех не по словам, а по де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ердо стойте на «камне веры»(следуйте своей вер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Использованные источни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mages.yand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рождение Хр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piritoflife.ru (Тайная Вечеря)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rttrans.com.ua (крещение Христа) Да Вин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 в Иерусалим(фрагмент фи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3-02-19T19:33:13Z</dcterms:modified>
  <cp:revision>30</cp:revision>
  <dc:subject/>
  <dc:title>Возникновение христианства. Основные христианские источники.</dc:title>
</cp:coreProperties>
</file>