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D04A-5643-4227-A82C-0D446C89F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380E-5AC6-47C5-A7DA-36CAE0C3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DC2A-956B-4725-B6D2-7274C25E6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FFDE-418A-48AB-8839-F316B05E2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625DB-E805-4A8E-B3C2-5440CE64A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E463-FF9D-4E46-BFCB-A0072ACC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53DB-6089-4F18-A0F8-A0D42B1A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9AE94-5895-410A-83B8-9C35E33F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7A06-552E-4627-842F-7E6D18CF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8931E-DA37-4F4E-8077-CFFEEAEA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F370-EFFF-43A2-838B-A14F18F8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7FF1-C211-4892-BF93-371DD53F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A537-856A-4ECA-B945-E686F327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60FE-3DB3-427F-B10F-36DEA205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D838-A650-45BA-9460-3D440B42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595B-8E81-4D90-B5FC-0B8E51862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D569-459A-439E-8ABA-63774CD66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81D8-0012-4039-B31B-1DD8C926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86CB-7993-46FD-8310-8C429D66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358B-1D85-410A-A42B-121DFD4E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E8A1-72A3-4F16-8D66-D7428CF6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D1A8-B33B-4416-8CC0-B3BAF31C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C721-72B7-4C65-9304-5B5D49F5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86AE-2CD2-4DD9-9773-B8310096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0DF6-A71B-490C-9152-EC5C0478919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624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2D69-A476-4373-BF9B-682343703A0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3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2205000"/>
            <a:ext cx="87854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Иисус Христос и его учение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732720" y="5013360"/>
            <a:ext cx="208728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Выполни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учитель истории и обществозн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Максимович Л.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92680" y="333360"/>
            <a:ext cx="725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33"/>
                </a:solidFill>
                <a:latin typeface="Arial"/>
              </a:rPr>
              <a:t>Муниципальное образовательное учреждение СОШ №1 г.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5445000"/>
            <a:ext cx="180000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г.Б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201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МОУ СОШ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Вопрос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7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то такой И.Христос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Чему учил Иисус Христос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чему его учение стало популярным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Кто такой Иисус Христос (Спасение)</a:t>
            </a: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Мифологический подх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Исторический подхо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Религиозный подх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Сформулируйте ответ на вопрос каждой точки зр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Рождение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403848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7-3 в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флее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Вифлеемская звезда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уд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осиф, Мар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зарет (назаретянин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716360" y="1268280"/>
            <a:ext cx="374976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Крещен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0" y="1628640"/>
            <a:ext cx="4316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лет -начал странств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оанн Креститель    (Предтеча- предшествовал Иисусу)совершил обряд крещения над Христом в водах реки Иорд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момент крещения голос с небес возвестил: «Се есть Сын Мой возлюбленный!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3733560" cy="4530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00000" y="6237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онардо Да Вин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Вход в Иерусалим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050920" y="184464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Тайная Вечер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47640" y="1197000"/>
            <a:ext cx="6135840" cy="33195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508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2 учеников – апостолов: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етр, Андрей, Иаков, Иоанн, Филипп, Варфоломей, Матфей, Фома, Иаков Алфеев, Иуда, Фаддей, Симон Зелот и Иуда Искариот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0920" y="458136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онардо Да Вин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Учение И.Христа.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42472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юби всех (и близких, и врагов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ись прощать. «Не судите, да не судимы будете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тупайте с людьми всегда так, как вы хотите, чтобы другие поступали с ва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бро делай незаметно, не жди поощр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олиться, поститься и каяться нужно непоказн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 стремись к богатству,  достаток, богатства и материальное благополучие достигай честным, добрым и нравственным путе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удите всех не по словам, а по дела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вердо стойте на «камне веры»(следуйте своей вере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Использованные источники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images.yande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(рождение Хрис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spiritoflife.ru (Тайная Вечеря) Да Вин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arttrans.com.ua (крещение Христа) Да Вин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ход в Иерусалим(фрагмент филь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4:29:33Z</dcterms:created>
  <dc:creator>Сергей</dc:creator>
  <dc:description/>
  <dc:language>en-US</dc:language>
  <cp:lastModifiedBy>user</cp:lastModifiedBy>
  <dcterms:modified xsi:type="dcterms:W3CDTF">2013-02-19T19:33:13Z</dcterms:modified>
  <cp:revision>30</cp:revision>
  <dc:subject/>
  <dc:title>Возникновение христианства. Основные христианские источники.</dc:title>
</cp:coreProperties>
</file>