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FC2-73F9-42EC-A18A-A9E21BAB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36C-1C5D-4BA8-9324-17F90651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3524-A675-4D8E-98A6-65D14E09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75B-B9CA-4456-AE71-E5EA4A0A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C4B6-F52D-4B86-9CAC-13F1B596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B90F-FD64-4C55-8C4E-9B7695FF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F076-48D7-40B3-A930-AE6C4CEC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731F-C855-49CD-8FB5-E073345E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91DC-5414-42CA-ADCE-0CDDFFD8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A50E-2842-44AF-9D66-B77ED1DB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487F-4BF2-418B-8722-5A6DB0B5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D3B-0152-4723-A14B-3BCF14C2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99D2-D078-4212-93B7-D43AB797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5CC3-4CAA-49ED-A721-419D99C6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AE2E-C3C1-4380-883B-3682E5F4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EE33-24ED-4611-8A1B-EA963C7C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FB8E-2AAD-44AE-97AD-C1FF5244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5E3C-A383-40F8-9475-F242AD56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D95-BAAA-4C75-999B-5A0B9DC0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FFF-3643-49B3-A4DD-4C3F73ED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134-548C-43AA-A148-11158C99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737F-99F6-4D2D-8B4C-2221C45F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EB8-28BD-404D-8099-523CA0D0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8FB-BD06-4726-868B-0011FA33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84C5-E20F-4880-A0AF-B3D74774E32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6D5D-279C-4E6F-A1B8-98EE9A0BAAD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205000"/>
            <a:ext cx="8785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Возникновение христианства. </a:t>
            </a:r>
            <a:br>
              <a:rPr sz="3600"/>
            </a:b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Основные христианские источники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32720" y="5013360"/>
            <a:ext cx="208728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учитель истории и общество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Максимович Л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92680" y="333360"/>
            <a:ext cx="725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Муниципальное образовательное учреждение СОШ №1 г.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5445000"/>
            <a:ext cx="180000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г.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МОУ 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Христианств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2000" y="1052640"/>
            <a:ext cx="87123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дна из мировых религ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воначально являлась единой религи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годня разделена на три ветви: католицизм, православие, протестантиз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х христиан объединяет вера в Иисуса Хрис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годня в мире насчитываетс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коло 1,5 -2 млрд. христи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404640"/>
            <a:ext cx="2590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ложение №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250920" y="476280"/>
            <a:ext cx="8566920" cy="5614920"/>
            <a:chOff x="250920" y="476280"/>
            <a:chExt cx="8566920" cy="5614920"/>
          </a:xfrm>
        </p:grpSpPr>
        <p:cxnSp>
          <p:nvCxnSpPr>
            <p:cNvPr id="94" name="_s22542"/>
            <p:cNvCxnSpPr>
              <a:stCxn id="95" idx="0"/>
              <a:endCxn id="96" idx="2"/>
            </p:cNvCxnSpPr>
            <p:nvPr/>
          </p:nvCxnSpPr>
          <p:spPr>
            <a:xfrm flipV="1" rot="16200000">
              <a:off x="5472000" y="1783800"/>
              <a:ext cx="1123200" cy="2999160"/>
            </a:xfrm>
            <a:prstGeom prst="bentConnector3">
              <a:avLst>
                <a:gd name="adj1" fmla="val 83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2541"/>
            <p:cNvCxnSpPr>
              <a:stCxn id="98" idx="0"/>
              <a:endCxn id="96" idx="2"/>
            </p:cNvCxnSpPr>
            <p:nvPr/>
          </p:nvCxnSpPr>
          <p:spPr>
            <a:xfrm flipV="1">
              <a:off x="4534200" y="2721960"/>
              <a:ext cx="3240" cy="112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2540"/>
            <p:cNvCxnSpPr>
              <a:stCxn id="100" idx="0"/>
              <a:endCxn id="96" idx="2"/>
            </p:cNvCxnSpPr>
            <p:nvPr/>
          </p:nvCxnSpPr>
          <p:spPr>
            <a:xfrm flipH="1" flipV="1" rot="5400000">
              <a:off x="2473200" y="1783800"/>
              <a:ext cx="1123200" cy="2999160"/>
            </a:xfrm>
            <a:prstGeom prst="bentConnector3">
              <a:avLst>
                <a:gd name="adj1" fmla="val 83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6" name="_s22536"/>
            <p:cNvSpPr/>
            <p:nvPr/>
          </p:nvSpPr>
          <p:spPr>
            <a:xfrm>
              <a:off x="3249360" y="476280"/>
              <a:ext cx="2570040" cy="22460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Условия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возникновения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христианств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2537"/>
            <p:cNvSpPr/>
            <p:nvPr/>
          </p:nvSpPr>
          <p:spPr>
            <a:xfrm>
              <a:off x="250920" y="3845160"/>
              <a:ext cx="2570040" cy="22460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Религиозны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исток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иудейское сектантств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ессеи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2538"/>
            <p:cNvSpPr/>
            <p:nvPr/>
          </p:nvSpPr>
          <p:spPr>
            <a:xfrm>
              <a:off x="3249360" y="3845160"/>
              <a:ext cx="2570040" cy="22460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Исторически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услови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риз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имской импе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2539"/>
            <p:cNvSpPr/>
            <p:nvPr/>
          </p:nvSpPr>
          <p:spPr>
            <a:xfrm>
              <a:off x="6247800" y="3845160"/>
              <a:ext cx="2570040" cy="22460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Идейны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предпосылк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идеи иудаизма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древних восточных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религий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античные философск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воззрения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589800" y="333360"/>
            <a:ext cx="2374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ложение №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69780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516720" y="351000"/>
            <a:ext cx="2448000" cy="34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ложение №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Источники христиан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бл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нонические книги Ветхого заве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канонические сочинения («Еваенелие от Николая», «Учение 12 апостолов..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чинения Отцов церкви раннехристианские мыслители (Юстиниан Мученик, Татиан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60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Garamond"/>
              </a:rPr>
              <a:t>Библия- Священное Писание, главная книга христиан.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26920" y="907920"/>
            <a:ext cx="7968960" cy="4608000"/>
            <a:chOff x="826920" y="907920"/>
            <a:chExt cx="7968960" cy="4608000"/>
          </a:xfrm>
        </p:grpSpPr>
        <p:cxnSp>
          <p:nvCxnSpPr>
            <p:cNvPr id="108" name="_s30773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4885200" y="3272040"/>
              <a:ext cx="419400" cy="2391840"/>
            </a:xfrm>
            <a:prstGeom prst="bentConnector3">
              <a:avLst>
                <a:gd name="adj1" fmla="val 241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30771"/>
            <p:cNvCxnSpPr>
              <a:stCxn id="112" idx="0"/>
              <a:endCxn id="110" idx="2"/>
            </p:cNvCxnSpPr>
            <p:nvPr/>
          </p:nvCxnSpPr>
          <p:spPr>
            <a:xfrm flipV="1" rot="16200000">
              <a:off x="4088880" y="4068360"/>
              <a:ext cx="419400" cy="799200"/>
            </a:xfrm>
            <a:prstGeom prst="bentConnector3">
              <a:avLst>
                <a:gd name="adj1" fmla="val 241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30769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3292920" y="4070880"/>
              <a:ext cx="419400" cy="794520"/>
            </a:xfrm>
            <a:prstGeom prst="bentConnector3">
              <a:avLst>
                <a:gd name="adj1" fmla="val 241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30767"/>
            <p:cNvCxnSpPr>
              <a:stCxn id="116" idx="0"/>
              <a:endCxn id="110" idx="2"/>
            </p:cNvCxnSpPr>
            <p:nvPr/>
          </p:nvCxnSpPr>
          <p:spPr>
            <a:xfrm flipH="1" flipV="1" rot="5400000">
              <a:off x="2495160" y="3273120"/>
              <a:ext cx="419400" cy="2390040"/>
            </a:xfrm>
            <a:prstGeom prst="bentConnector3">
              <a:avLst>
                <a:gd name="adj1" fmla="val 241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30765"/>
            <p:cNvCxnSpPr>
              <a:stCxn id="118" idx="1"/>
              <a:endCxn id="119" idx="2"/>
            </p:cNvCxnSpPr>
            <p:nvPr/>
          </p:nvCxnSpPr>
          <p:spPr>
            <a:xfrm rot="10800000">
              <a:off x="7202880" y="3001680"/>
              <a:ext cx="226440" cy="83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30763"/>
            <p:cNvCxnSpPr>
              <a:stCxn id="110" idx="3"/>
              <a:endCxn id="119" idx="2"/>
            </p:cNvCxnSpPr>
            <p:nvPr/>
          </p:nvCxnSpPr>
          <p:spPr>
            <a:xfrm flipV="1">
              <a:off x="4582440" y="3001680"/>
              <a:ext cx="2621160" cy="83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30747"/>
            <p:cNvCxnSpPr>
              <a:stCxn id="119" idx="0"/>
              <a:endCxn id="122" idx="2"/>
            </p:cNvCxnSpPr>
            <p:nvPr/>
          </p:nvCxnSpPr>
          <p:spPr>
            <a:xfrm flipV="1" rot="16200000">
              <a:off x="5569560" y="529920"/>
              <a:ext cx="419400" cy="2849040"/>
            </a:xfrm>
            <a:prstGeom prst="bentConnector3">
              <a:avLst>
                <a:gd name="adj1" fmla="val 241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30745"/>
            <p:cNvCxnSpPr>
              <a:stCxn id="124" idx="0"/>
              <a:endCxn id="122" idx="2"/>
            </p:cNvCxnSpPr>
            <p:nvPr/>
          </p:nvCxnSpPr>
          <p:spPr>
            <a:xfrm flipH="1" flipV="1" rot="5400000">
              <a:off x="2722680" y="531720"/>
              <a:ext cx="419400" cy="2845800"/>
            </a:xfrm>
            <a:prstGeom prst="bentConnector3">
              <a:avLst>
                <a:gd name="adj1" fmla="val 241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2" name="_s30741"/>
            <p:cNvSpPr/>
            <p:nvPr/>
          </p:nvSpPr>
          <p:spPr>
            <a:xfrm>
              <a:off x="3672000" y="90792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Библ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30742"/>
            <p:cNvSpPr/>
            <p:nvPr/>
          </p:nvSpPr>
          <p:spPr>
            <a:xfrm>
              <a:off x="826920" y="216468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етхий Зав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30744"/>
            <p:cNvSpPr/>
            <p:nvPr/>
          </p:nvSpPr>
          <p:spPr>
            <a:xfrm>
              <a:off x="6518520" y="216468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овый Зав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30762"/>
            <p:cNvSpPr/>
            <p:nvPr/>
          </p:nvSpPr>
          <p:spPr>
            <a:xfrm>
              <a:off x="3216600" y="342144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Евангел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30764"/>
            <p:cNvSpPr/>
            <p:nvPr/>
          </p:nvSpPr>
          <p:spPr>
            <a:xfrm>
              <a:off x="7429680" y="342144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3 книг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0766"/>
            <p:cNvSpPr/>
            <p:nvPr/>
          </p:nvSpPr>
          <p:spPr>
            <a:xfrm>
              <a:off x="826920" y="467820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т Матве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0768"/>
            <p:cNvSpPr/>
            <p:nvPr/>
          </p:nvSpPr>
          <p:spPr>
            <a:xfrm>
              <a:off x="2421000" y="467820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т Иоан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30770"/>
            <p:cNvSpPr/>
            <p:nvPr/>
          </p:nvSpPr>
          <p:spPr>
            <a:xfrm>
              <a:off x="4015080" y="467820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т Мар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30772"/>
            <p:cNvSpPr/>
            <p:nvPr/>
          </p:nvSpPr>
          <p:spPr>
            <a:xfrm>
              <a:off x="5609520" y="4678200"/>
              <a:ext cx="13644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т Лу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900000" y="5805360"/>
            <a:ext cx="2592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еники Иису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5805360"/>
            <a:ext cx="2808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еники уче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5589720"/>
            <a:ext cx="698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916000" y="5589720"/>
            <a:ext cx="142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551664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940360" y="5516640"/>
            <a:ext cx="287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77080" y="260280"/>
            <a:ext cx="19429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ложение №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опрос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ремя возникновения христиан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одина христиан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чины возникновения христиан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Что такое Библия, Ветхий Завет, Новый Завет, Евангел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4:29:33Z</dcterms:created>
  <dc:creator>Сергей</dc:creator>
  <dc:description/>
  <dc:language>en-US</dc:language>
  <cp:lastModifiedBy>user</cp:lastModifiedBy>
  <dcterms:modified xsi:type="dcterms:W3CDTF">2012-02-29T19:59:59Z</dcterms:modified>
  <cp:revision>24</cp:revision>
  <dc:subject/>
  <dc:title>Возникновение христианства. Основные христианские источники.</dc:title>
</cp:coreProperties>
</file>