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53B5-DA7E-4A30-A9FB-E777968C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C9C-EF9F-4F3A-BF6E-4A4A1B77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CD8-2AE8-478C-A4F8-6E74242E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AFF6-BD37-4235-91A9-12AE211F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F8C8-0714-46E9-B228-DCA28E71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2EE2-F61B-45F1-B5F3-3023F00D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A5F6-BA2E-4E43-A93E-F594B610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6698-FD7F-46A8-B64A-C946810F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C540-3ED6-4422-B5D0-9C57D046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DE4A-5E7B-48D0-BB0F-7F821FCC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2274-A2BF-4F57-9554-2AE8BDF9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538-3B40-4974-8656-969B6398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0BE9-5636-4142-9F27-D1AAA078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0C0B-F63B-4C34-BBBA-B307E71A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0D14-BB82-4D16-80E2-D1809F42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62C9-5DDC-4233-A143-907D7058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103D-F7CA-464A-9EE0-83451C20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839-DF54-4258-B1E6-16A1DCB6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F723-2775-4C52-AF17-DB4CD753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1ADF-51F1-4E81-8DA2-F0FA31B7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B86-4E93-46C5-A11E-5DB31A1E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5CC-6A5C-4A0E-810B-9E9E9174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076B-966E-45FF-9030-1B68FC4B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5F0-3780-4E8F-B516-EC9136A4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FFD8-F44C-46D3-8DB3-E14BDCF97A9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61E2-349B-408C-8869-A8C92A96705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205000"/>
            <a:ext cx="8785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Возникновение христианства. </a:t>
            </a:r>
            <a:br>
              <a:rPr sz="3600"/>
            </a:b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Основные христианские источники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32720" y="5013360"/>
            <a:ext cx="208728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учитель истории и общество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Максимович Л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92680" y="333360"/>
            <a:ext cx="725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Муниципальное образовательное учреждение СОШ №1 г.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5445000"/>
            <a:ext cx="180000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г.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МОУ 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Христианств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2000" y="1052640"/>
            <a:ext cx="87123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дна из мировых религ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воначально являлась единой религи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годня разделена на три ветви: католицизм, православие, протестантиз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х христиан объединяет вера в Иисуса Хрис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годня в мире насчитываетс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коло 1,5 -2 млрд. христи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404640"/>
            <a:ext cx="2590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ложение №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250920" y="476280"/>
            <a:ext cx="8566920" cy="5614920"/>
            <a:chOff x="250920" y="476280"/>
            <a:chExt cx="8566920" cy="5614920"/>
          </a:xfrm>
        </p:grpSpPr>
        <p:cxnSp>
          <p:nvCxnSpPr>
            <p:cNvPr id="94" name="_s22542"/>
            <p:cNvCxnSpPr>
              <a:stCxn id="95" idx="0"/>
              <a:endCxn id="96" idx="2"/>
            </p:cNvCxnSpPr>
            <p:nvPr/>
          </p:nvCxnSpPr>
          <p:spPr>
            <a:xfrm flipV="1" rot="16200000">
              <a:off x="5472000" y="1783800"/>
              <a:ext cx="1123200" cy="2999160"/>
            </a:xfrm>
            <a:prstGeom prst="bentConnector3">
              <a:avLst>
                <a:gd name="adj1" fmla="val 83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2541"/>
            <p:cNvCxnSpPr>
              <a:stCxn id="98" idx="0"/>
              <a:endCxn id="96" idx="2"/>
            </p:cNvCxnSpPr>
            <p:nvPr/>
          </p:nvCxnSpPr>
          <p:spPr>
            <a:xfrm flipV="1">
              <a:off x="4534200" y="2721960"/>
              <a:ext cx="3240" cy="112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2540"/>
            <p:cNvCxnSpPr>
              <a:stCxn id="100" idx="0"/>
              <a:endCxn id="96" idx="2"/>
            </p:cNvCxnSpPr>
            <p:nvPr/>
          </p:nvCxnSpPr>
          <p:spPr>
            <a:xfrm flipH="1" flipV="1" rot="5400000">
              <a:off x="2473200" y="1783800"/>
              <a:ext cx="1123200" cy="2999160"/>
            </a:xfrm>
            <a:prstGeom prst="bentConnector3">
              <a:avLst>
                <a:gd name="adj1" fmla="val 83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6" name="_s22536"/>
            <p:cNvSpPr/>
            <p:nvPr/>
          </p:nvSpPr>
          <p:spPr>
            <a:xfrm>
              <a:off x="3249360" y="476280"/>
              <a:ext cx="2570040" cy="22460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Условия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возникновения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христианств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2537"/>
            <p:cNvSpPr/>
            <p:nvPr/>
          </p:nvSpPr>
          <p:spPr>
            <a:xfrm>
              <a:off x="250920" y="3845160"/>
              <a:ext cx="2570040" cy="22460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Религиозны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исток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иудейское сектантств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ессеи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2538"/>
            <p:cNvSpPr/>
            <p:nvPr/>
          </p:nvSpPr>
          <p:spPr>
            <a:xfrm>
              <a:off x="3249360" y="3845160"/>
              <a:ext cx="2570040" cy="22460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Исторически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услови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риз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имской импе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2539"/>
            <p:cNvSpPr/>
            <p:nvPr/>
          </p:nvSpPr>
          <p:spPr>
            <a:xfrm>
              <a:off x="6247800" y="3845160"/>
              <a:ext cx="2570040" cy="22460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Идейны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предпосылк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идеи иудаизма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древних восточных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религий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античные философск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воззрения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589800" y="333360"/>
            <a:ext cx="2374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ложение №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69780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516720" y="351000"/>
            <a:ext cx="2448000" cy="34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ложение №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Источники христиан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бл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нонические книги Ветхого заве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канонические сочинения («Еваенелие от Николая», «Учение 12 апостолов..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чинения Отцов церкви раннехристианские мыслители (Юстиниан Мученик, Татиан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60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Garamond"/>
              </a:rPr>
              <a:t>Библия- Священное Писание, главная книга христиан.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26920" y="907920"/>
            <a:ext cx="7968960" cy="4608000"/>
            <a:chOff x="826920" y="907920"/>
            <a:chExt cx="7968960" cy="4608000"/>
          </a:xfrm>
        </p:grpSpPr>
        <p:cxnSp>
          <p:nvCxnSpPr>
            <p:cNvPr id="108" name="_s30773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4885200" y="3272040"/>
              <a:ext cx="419400" cy="2391840"/>
            </a:xfrm>
            <a:prstGeom prst="bentConnector3">
              <a:avLst>
                <a:gd name="adj1" fmla="val 241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30771"/>
            <p:cNvCxnSpPr>
              <a:stCxn id="112" idx="0"/>
              <a:endCxn id="110" idx="2"/>
            </p:cNvCxnSpPr>
            <p:nvPr/>
          </p:nvCxnSpPr>
          <p:spPr>
            <a:xfrm flipV="1" rot="16200000">
              <a:off x="4088880" y="4068360"/>
              <a:ext cx="419400" cy="799200"/>
            </a:xfrm>
            <a:prstGeom prst="bentConnector3">
              <a:avLst>
                <a:gd name="adj1" fmla="val 241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30769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3292920" y="4070880"/>
              <a:ext cx="419400" cy="794520"/>
            </a:xfrm>
            <a:prstGeom prst="bentConnector3">
              <a:avLst>
                <a:gd name="adj1" fmla="val 241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30767"/>
            <p:cNvCxnSpPr>
              <a:stCxn id="116" idx="0"/>
              <a:endCxn id="110" idx="2"/>
            </p:cNvCxnSpPr>
            <p:nvPr/>
          </p:nvCxnSpPr>
          <p:spPr>
            <a:xfrm flipH="1" flipV="1" rot="5400000">
              <a:off x="2495160" y="3273120"/>
              <a:ext cx="419400" cy="2390040"/>
            </a:xfrm>
            <a:prstGeom prst="bentConnector3">
              <a:avLst>
                <a:gd name="adj1" fmla="val 241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30765"/>
            <p:cNvCxnSpPr>
              <a:stCxn id="118" idx="1"/>
              <a:endCxn id="119" idx="2"/>
            </p:cNvCxnSpPr>
            <p:nvPr/>
          </p:nvCxnSpPr>
          <p:spPr>
            <a:xfrm rot="10800000">
              <a:off x="7202880" y="3001680"/>
              <a:ext cx="226440" cy="83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30763"/>
            <p:cNvCxnSpPr>
              <a:stCxn id="110" idx="3"/>
              <a:endCxn id="119" idx="2"/>
            </p:cNvCxnSpPr>
            <p:nvPr/>
          </p:nvCxnSpPr>
          <p:spPr>
            <a:xfrm flipV="1">
              <a:off x="4582440" y="3001680"/>
              <a:ext cx="2621160" cy="83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30747"/>
            <p:cNvCxnSpPr>
              <a:stCxn id="119" idx="0"/>
              <a:endCxn id="122" idx="2"/>
            </p:cNvCxnSpPr>
            <p:nvPr/>
          </p:nvCxnSpPr>
          <p:spPr>
            <a:xfrm flipV="1" rot="16200000">
              <a:off x="5569560" y="529920"/>
              <a:ext cx="419400" cy="2849040"/>
            </a:xfrm>
            <a:prstGeom prst="bentConnector3">
              <a:avLst>
                <a:gd name="adj1" fmla="val 241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30745"/>
            <p:cNvCxnSpPr>
              <a:stCxn id="124" idx="0"/>
              <a:endCxn id="122" idx="2"/>
            </p:cNvCxnSpPr>
            <p:nvPr/>
          </p:nvCxnSpPr>
          <p:spPr>
            <a:xfrm flipH="1" flipV="1" rot="5400000">
              <a:off x="2722680" y="531720"/>
              <a:ext cx="419400" cy="2845800"/>
            </a:xfrm>
            <a:prstGeom prst="bentConnector3">
              <a:avLst>
                <a:gd name="adj1" fmla="val 241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2" name="_s30741"/>
            <p:cNvSpPr/>
            <p:nvPr/>
          </p:nvSpPr>
          <p:spPr>
            <a:xfrm>
              <a:off x="3672000" y="90792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Библ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30742"/>
            <p:cNvSpPr/>
            <p:nvPr/>
          </p:nvSpPr>
          <p:spPr>
            <a:xfrm>
              <a:off x="826920" y="216468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етхий Зав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30744"/>
            <p:cNvSpPr/>
            <p:nvPr/>
          </p:nvSpPr>
          <p:spPr>
            <a:xfrm>
              <a:off x="6518520" y="216468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овый Зав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30762"/>
            <p:cNvSpPr/>
            <p:nvPr/>
          </p:nvSpPr>
          <p:spPr>
            <a:xfrm>
              <a:off x="3216600" y="342144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Евангел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30764"/>
            <p:cNvSpPr/>
            <p:nvPr/>
          </p:nvSpPr>
          <p:spPr>
            <a:xfrm>
              <a:off x="7429680" y="342144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3 книг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0766"/>
            <p:cNvSpPr/>
            <p:nvPr/>
          </p:nvSpPr>
          <p:spPr>
            <a:xfrm>
              <a:off x="826920" y="467820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т Матве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0768"/>
            <p:cNvSpPr/>
            <p:nvPr/>
          </p:nvSpPr>
          <p:spPr>
            <a:xfrm>
              <a:off x="2421000" y="467820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т Иоан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30770"/>
            <p:cNvSpPr/>
            <p:nvPr/>
          </p:nvSpPr>
          <p:spPr>
            <a:xfrm>
              <a:off x="4015080" y="467820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т Мар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30772"/>
            <p:cNvSpPr/>
            <p:nvPr/>
          </p:nvSpPr>
          <p:spPr>
            <a:xfrm>
              <a:off x="5609520" y="4678200"/>
              <a:ext cx="13644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т Лу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900000" y="5805360"/>
            <a:ext cx="2592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еники Иису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5805360"/>
            <a:ext cx="2808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еники уче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5589720"/>
            <a:ext cx="698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916000" y="5589720"/>
            <a:ext cx="142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551664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940360" y="5516640"/>
            <a:ext cx="287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77080" y="260280"/>
            <a:ext cx="19429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ложение №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опрос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ремя возникновения христиан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одина христиан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чины возникновения христиан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Что такое Библия, Ветхий Завет, Новый Завет, Евангел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4:29:33Z</dcterms:created>
  <dc:creator>Сергей</dc:creator>
  <dc:description/>
  <dc:language>en-US</dc:language>
  <cp:lastModifiedBy>user</cp:lastModifiedBy>
  <dcterms:modified xsi:type="dcterms:W3CDTF">2012-02-29T19:59:59Z</dcterms:modified>
  <cp:revision>24</cp:revision>
  <dc:subject/>
  <dc:title>Возникновение христианства. Основные христианские источники.</dc:title>
</cp:coreProperties>
</file>