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7D4-8D0D-4188-B22F-65ED7195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7AF-89E9-42BC-8259-FC4E27F6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764-831E-435D-B876-F6340F78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BAD-7A91-4F02-9D3D-04142A5E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9EB6-BD4F-4E80-A18E-47739B5B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7972-2347-45B3-ACD8-26C0E7B0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162C-0BFA-428C-9611-69BA2AE9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9D81-22CE-4E9B-87DF-C1E54CA4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7F8E-969A-47E8-8F4C-DBF4534B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409F-8684-4FE6-8BF0-DF81EF77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142A-4391-4CFF-AE65-202EEFBB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B79-19F9-49EE-AB4B-BBB255C5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FB50-A99A-473B-9187-0153AAEF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A2A3-D976-48A2-9E30-A95555D9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C415-0621-4035-A2E4-1EC05858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0AF2-3FCD-411D-9DD6-7865611D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3222-E810-4318-98D0-D0D8A1DD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C81-E88F-4BCF-9C94-70D9B6F6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3DA-B1BF-45AD-BCE9-69021906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594-D32B-4285-B9A3-B033B4E3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02C5-4027-498B-A1E4-C094A787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005-11CF-417B-81BD-A3E75FE4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96D-8FB9-4EA3-B8E4-CC67AA7B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36D-6F5E-4D65-95D0-71BC4D0C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3F33-4B4D-4832-9B89-5751348C76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F37E-4E30-4D6D-B570-5E09B0198E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 СОШ №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13880" y="2428560"/>
            <a:ext cx="7572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Буддизм в Росс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4143240" y="57150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1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пресс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838320" cy="45306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4788000" y="2133720"/>
            <a:ext cx="364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инство буддийского духовенства подверглось репрессиям: было арестовано, сослано в ГУЛАГ, расстреляно, тысячи буддийских священнослуж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зрождение буддизма в 1990 год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043520" cy="47512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4859280" y="2060640"/>
            <a:ext cx="3241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1990 года начинается новый период в истории буддизма в России. Возрождаются буддийские храмы в Бурятии, Туве и Калмыкии. А в 1994 году состоялось торжественное открытие главного храма в Бурят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Даши-Доржо Итиге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1571760" y="1341360"/>
            <a:ext cx="6215040" cy="4098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116000" y="59421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им из известных Хамбо-ламой был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аши-Доржо Итиге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мерть Даши-Доржо Итигел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052880" cy="4530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468360" y="2060640"/>
            <a:ext cx="352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2003 году сенсационным событием для верющих буддистов стала смерть Даши-Доржо Итигелова, который ушел из жизни в 1927 г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урок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999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ить знания учащихся по теме          «Вероучение и культ буддизма»; изучить появление буддизма в России и его положение в разные исторические эпох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Распространение буддизма в Росс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8" name="Прямая со стрелкой 4"/>
          <p:cNvCxnSpPr/>
          <p:nvPr/>
        </p:nvCxnSpPr>
        <p:spPr>
          <a:xfrm flipH="1">
            <a:off x="1499400" y="1285920"/>
            <a:ext cx="1143720" cy="107208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69" name="Прямая со стрелкой 6"/>
          <p:cNvCxnSpPr/>
          <p:nvPr/>
        </p:nvCxnSpPr>
        <p:spPr>
          <a:xfrm flipH="1">
            <a:off x="3712320" y="1357200"/>
            <a:ext cx="2520" cy="121536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70" name="Прямая со стрелкой 8"/>
          <p:cNvCxnSpPr/>
          <p:nvPr/>
        </p:nvCxnSpPr>
        <p:spPr>
          <a:xfrm flipH="1">
            <a:off x="5214600" y="1285560"/>
            <a:ext cx="2160" cy="121500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cxnSp>
        <p:nvCxnSpPr>
          <p:cNvPr id="171" name="Прямая со стрелкой 10"/>
          <p:cNvCxnSpPr/>
          <p:nvPr/>
        </p:nvCxnSpPr>
        <p:spPr>
          <a:xfrm>
            <a:off x="6429240" y="1285560"/>
            <a:ext cx="929520" cy="114372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arrow" w="med"/>
          </a:ln>
        </p:spPr>
      </p:cxnSp>
      <p:sp>
        <p:nvSpPr>
          <p:cNvPr id="172" name="TextBox 11"/>
          <p:cNvSpPr/>
          <p:nvPr/>
        </p:nvSpPr>
        <p:spPr>
          <a:xfrm>
            <a:off x="428760" y="2571840"/>
            <a:ext cx="171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урят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2"/>
          <p:cNvSpPr/>
          <p:nvPr/>
        </p:nvSpPr>
        <p:spPr>
          <a:xfrm>
            <a:off x="2857680" y="264312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ы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4857840" y="2643120"/>
            <a:ext cx="17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алмык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4"/>
          <p:cNvSpPr/>
          <p:nvPr/>
        </p:nvSpPr>
        <p:spPr>
          <a:xfrm>
            <a:off x="7000920" y="2571840"/>
            <a:ext cx="192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Забайкальский край, Иркут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зонхав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основатель школы гелук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357200" y="1785960"/>
            <a:ext cx="6143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00040" y="2142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41 г. –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указ Елизаветы Петровны, по которому буддизм в Бурятии признан в статусе государственной религии Ро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3" descr="1293691003_elizaveta-petrovna.jpg"/>
          <p:cNvPicPr/>
          <p:nvPr/>
        </p:nvPicPr>
        <p:blipFill>
          <a:blip r:embed="rId2"/>
          <a:stretch/>
        </p:blipFill>
        <p:spPr>
          <a:xfrm>
            <a:off x="500040" y="2143080"/>
            <a:ext cx="3500640" cy="43578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4"/>
          <p:cNvSpPr/>
          <p:nvPr/>
        </p:nvSpPr>
        <p:spPr>
          <a:xfrm>
            <a:off x="4214880" y="4572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ды правления Елизаветы Петровн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82120" y="328680"/>
            <a:ext cx="807876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амба-Даржа Заяе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4000680" y="1643040"/>
            <a:ext cx="4705200" cy="4657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250920" y="1628640"/>
            <a:ext cx="309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764 году настоятель Цонгольского дацана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амба-Даржа Заяев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был утвержден в звании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андито- хамбо ламы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есть главного духовного руководителя всех дацанов.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амба- Даржа Заяев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ервый бурятский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Хамбо-лама,  видный буддийский деятель, получивший образование в Тиб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гван Доржиев (1853-1938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751280" cy="45259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468360" y="2060640"/>
            <a:ext cx="2817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гван Доржие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был одним из высокообразован-ных лам, получившим образование в Тибете и обладавшим выдающимся дипломатическим да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уддийский храм в Питере, построенный Агваном Доржиевым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7645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литическая деятельность Агвана Доржие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143240" y="1785960"/>
            <a:ext cx="4362480" cy="4670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84360" y="2276640"/>
            <a:ext cx="266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революции 1917 года, Агван Доржиев посвятил себя политической и религиозно-реформаторск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1:50:52Z</dcterms:created>
  <dc:creator>XTreme</dc:creator>
  <dc:description/>
  <dc:language>en-US</dc:language>
  <cp:lastModifiedBy>Екатерина</cp:lastModifiedBy>
  <dcterms:modified xsi:type="dcterms:W3CDTF">2011-05-04T06:09:41Z</dcterms:modified>
  <cp:revision>8</cp:revision>
  <dc:subject/>
  <dc:title>Муниципальное образовательное учреждение</dc:title>
</cp:coreProperties>
</file>