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9C8-2757-4A7A-B6B3-F0F95F72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EB0-7441-49EA-B0BE-F6608934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28E-9ABA-4C50-8B33-6D22DA4E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06F-2E94-456B-ABD0-FA259539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4286-450B-43B1-A1F0-4EDC8114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7BC0-B05E-4E0F-8C13-BAC50BD0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7B8F-7168-4E50-B14A-EF3B19F7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748A-3A95-40F1-A4D4-37404869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CBAA-00E6-4C55-A9C6-050C70C2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EC1C-B4B1-494D-A752-70603BBB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895C-89F2-47CA-93D0-DD77438C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C2F-1691-430D-A9B9-0A077E42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DEFA-BAD1-4BFE-89C2-3DD5DA07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E619-A3A7-4EEA-A155-7C720FA5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CA63-CDA9-40D2-994A-3EBCAD76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0FB8-077D-41B7-BF70-E4BDA8E1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8A54-D115-4AA0-9589-0E97AF9B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D2CD-4FB6-4A27-B577-1F4A4FE8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A7E6-3053-4DED-85FF-E66350F3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14F-2C04-49C5-A189-6AC46810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8AB-D924-4655-AA34-C144FE5C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BFF-F5B6-4CAA-AD5E-EA2042E6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D7FA-9D0F-43E8-A01A-19799C15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C50-3EB5-4718-AAE8-B3C0B7FD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A927-E3EB-4BAF-B00A-75853C7285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30A7-7F33-438F-8498-EE81B74184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 СОШ №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13880" y="2428560"/>
            <a:ext cx="7572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Буддизм в Росс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4143240" y="57150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1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пресс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838320" cy="45306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4788000" y="2133720"/>
            <a:ext cx="364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инство буддийского духовенства подверглось репрессиям: было арестовано, сослано в ГУЛАГ, расстреляно, тысячи буддийских священнослуж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зрождение буддизма в 1990 год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043520" cy="47512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4859280" y="2060640"/>
            <a:ext cx="3241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1990 года начинается новый период в истории буддизма в России. Возрождаются буддийские храмы в Бурятии, Туве и Калмыкии. А в 1994 году состоялось торжественное открытие главного храма в Бурят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Даши-Доржо Итиге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1571760" y="1341360"/>
            <a:ext cx="6215040" cy="4098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1116000" y="59421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им из известных Хамбо-ламой был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аши-Доржо Итиге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мерть Даши-Доржо Итигел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4052880" cy="4530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468360" y="2060640"/>
            <a:ext cx="352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2003 году сенсационным событием для верющих буддистов стала смерть Даши-Доржо Итигелова, который ушел из жизни в 1927 г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урок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999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ить знания учащихся по теме          «Вероучение и культ буддизма»; изучить появление буддизма в России и его положение в разные исторические эпох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Распространение буддизма в Росс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8" name="Прямая со стрелкой 4"/>
          <p:cNvCxnSpPr/>
          <p:nvPr/>
        </p:nvCxnSpPr>
        <p:spPr>
          <a:xfrm flipH="1">
            <a:off x="1499400" y="1285920"/>
            <a:ext cx="1143720" cy="107208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69" name="Прямая со стрелкой 6"/>
          <p:cNvCxnSpPr/>
          <p:nvPr/>
        </p:nvCxnSpPr>
        <p:spPr>
          <a:xfrm flipH="1">
            <a:off x="3712320" y="1357200"/>
            <a:ext cx="2520" cy="121536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70" name="Прямая со стрелкой 8"/>
          <p:cNvCxnSpPr/>
          <p:nvPr/>
        </p:nvCxnSpPr>
        <p:spPr>
          <a:xfrm flipH="1">
            <a:off x="5214600" y="1285560"/>
            <a:ext cx="2160" cy="121500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71" name="Прямая со стрелкой 10"/>
          <p:cNvCxnSpPr/>
          <p:nvPr/>
        </p:nvCxnSpPr>
        <p:spPr>
          <a:xfrm>
            <a:off x="6429240" y="1285560"/>
            <a:ext cx="929520" cy="114372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sp>
        <p:nvSpPr>
          <p:cNvPr id="172" name="TextBox 11"/>
          <p:cNvSpPr/>
          <p:nvPr/>
        </p:nvSpPr>
        <p:spPr>
          <a:xfrm>
            <a:off x="428760" y="2571840"/>
            <a:ext cx="171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урят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2"/>
          <p:cNvSpPr/>
          <p:nvPr/>
        </p:nvSpPr>
        <p:spPr>
          <a:xfrm>
            <a:off x="2857680" y="264312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ы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4857840" y="2643120"/>
            <a:ext cx="171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алмык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4"/>
          <p:cNvSpPr/>
          <p:nvPr/>
        </p:nvSpPr>
        <p:spPr>
          <a:xfrm>
            <a:off x="7000920" y="2571840"/>
            <a:ext cx="192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Забайкальский край, Иркут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зонхав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основатель школы гелук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357200" y="1785960"/>
            <a:ext cx="6143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00040" y="2142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41 г. –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указ Елизаветы Петровны, по которому буддизм в Бурятии признан в статусе государственной религии Ро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3" descr="1293691003_elizaveta-petrovna.jpg"/>
          <p:cNvPicPr/>
          <p:nvPr/>
        </p:nvPicPr>
        <p:blipFill>
          <a:blip r:embed="rId2"/>
          <a:stretch/>
        </p:blipFill>
        <p:spPr>
          <a:xfrm>
            <a:off x="500040" y="2143080"/>
            <a:ext cx="3500640" cy="43578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4"/>
          <p:cNvSpPr/>
          <p:nvPr/>
        </p:nvSpPr>
        <p:spPr>
          <a:xfrm>
            <a:off x="4214880" y="4572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ды правления Елизаветы Петровн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82120" y="328680"/>
            <a:ext cx="807876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амба-Даржа Заяе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4000680" y="1643040"/>
            <a:ext cx="4705200" cy="4657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250920" y="1628640"/>
            <a:ext cx="309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764 году настоятель Цонгольского дацана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амба-Даржа Заяев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был утвержден в звани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андито- хамбо ламы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есть главного духовного руководителя всех дацанов.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амба- Даржа Заяев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ервый бурятский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Хамбо-лама,  видный буддийский деятель, получивший образование в Тиб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гван Доржиев (1853-193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751280" cy="45259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468360" y="2060640"/>
            <a:ext cx="2817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гван Доржие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 одним из высокообразован-ных лам, получившим образование в Тибете и обладавшим выдающимся дипломатическим да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ддийский храм в Питере, построенный Агваном Доржиевым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7645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литическая деятельность Агвана Доржие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143240" y="1785960"/>
            <a:ext cx="4362480" cy="4670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84360" y="2276640"/>
            <a:ext cx="266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революции 1917 года, Агван Доржиев посвятил себя политической и религиозно-реформаторск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1:50:52Z</dcterms:created>
  <dc:creator>XTreme</dc:creator>
  <dc:description/>
  <dc:language>en-US</dc:language>
  <cp:lastModifiedBy>Екатерина</cp:lastModifiedBy>
  <dcterms:modified xsi:type="dcterms:W3CDTF">2011-05-04T06:09:41Z</dcterms:modified>
  <cp:revision>8</cp:revision>
  <dc:subject/>
  <dc:title>Муниципальное образовательное учреждение</dc:title>
</cp:coreProperties>
</file>