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B82-4D99-425C-B947-49913480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BB2-2F5B-4703-AB58-98137E35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675-C1BF-49A9-BA1C-758D267F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535-C2C6-4D25-8420-77D3EBF6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5BD3-AAB0-4CDE-BED9-8EC1B2D0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762-8B37-452E-A21C-AC766B8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77EC-4E16-41CC-B49D-A61E923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C3A4-EE94-480C-9728-C03BA9C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A7D4-DF9C-4404-8D34-5B7861D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C6C9-674E-4270-B7C3-9D211105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8BD9-D4FE-48C8-8F26-85669E3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F48-0F0A-46DA-BF59-B4DB270F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2A63-7395-494B-B343-070526BB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7233-5A62-4C2A-84EB-3D0ADA6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A548-1DEC-42D7-8F35-05C99D50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637B-D9E5-43B1-87DF-79110646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6FD-8FD6-4731-B8EF-59292FF8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F74-10E7-4A45-9228-081324FC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628-C749-4ED3-9149-A647BC18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BC6-410C-44C9-AE6B-AB064BA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626-04DC-4BC3-80DF-ED03FE9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139-5B80-4ADC-A71C-A3C21B0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BAE-9E44-4BD3-9F38-B3C0E6E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BCF-8EAF-42EB-8B23-55C1CA77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8CC8-697B-41E5-93F7-791317DC26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E4FB-3F8D-4008-8C7C-49DFA35B43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ОШ №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13880" y="2428560"/>
            <a:ext cx="75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Буддизм в Росс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143240" y="5715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38320" cy="453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4788000" y="2133720"/>
            <a:ext cx="364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буддийского духовенства подверглось репрессиям: было арестовано, сослано в ГУЛАГ, расстреляно, тысячи буддийских священнослу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зрождение буддизма в 1990 год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43520" cy="4751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4859280" y="2060640"/>
            <a:ext cx="324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1990 года начинается новый период в истории буддизма в России. Возрождаются буддийские храмы в Бурятии, Туве и Калмыкии. А в 1994 году состоялось торжественное открытие главного храма в Буря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Даши-Доржо Итиге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1571760" y="1341360"/>
            <a:ext cx="6215040" cy="4098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116000" y="59421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им из известных Хамбо-ламой был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ши-Доржо Итиге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ерть Даши-Доржо Итиге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052880" cy="4530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468360" y="2060640"/>
            <a:ext cx="352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2003 году сенсационным событием для верющих буддистов стала смерть Даши-Доржо Итигелова, который ушел из жизни в 1927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знания учащихся по теме          «Вероучение и культ буддизма»; изучить появление буддизма в России и его положение в разные исторические эпо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аспространение буддизма в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Прямая со стрелкой 4"/>
          <p:cNvCxnSpPr/>
          <p:nvPr/>
        </p:nvCxnSpPr>
        <p:spPr>
          <a:xfrm flipH="1">
            <a:off x="1499400" y="1285920"/>
            <a:ext cx="1143720" cy="1072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3712320" y="1357200"/>
            <a:ext cx="2520" cy="121536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 flipH="1">
            <a:off x="5214600" y="1285560"/>
            <a:ext cx="2160" cy="12150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6429240" y="1285560"/>
            <a:ext cx="929520" cy="11437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sp>
        <p:nvSpPr>
          <p:cNvPr id="172" name="TextBox 11"/>
          <p:cNvSpPr/>
          <p:nvPr/>
        </p:nvSpPr>
        <p:spPr>
          <a:xfrm>
            <a:off x="428760" y="2571840"/>
            <a:ext cx="171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ря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2857680" y="26431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ы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4857840" y="264312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алмык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7000920" y="2571840"/>
            <a:ext cx="192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байкальский край, Иркут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зонха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основатель школы гелук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143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214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41 г.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каз Елизаветы Петровны, по которому буддизм в Бурятии признан в статусе государственной религии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3" descr="1293691003_elizaveta-petrovna.jpg"/>
          <p:cNvPicPr/>
          <p:nvPr/>
        </p:nvPicPr>
        <p:blipFill>
          <a:blip r:embed="rId2"/>
          <a:stretch/>
        </p:blipFill>
        <p:spPr>
          <a:xfrm>
            <a:off x="500040" y="2143080"/>
            <a:ext cx="3500640" cy="4357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4214880" y="4572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ы правления Елизаветы Петров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2120" y="328680"/>
            <a:ext cx="80787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амба-Даржа Зая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000680" y="1643040"/>
            <a:ext cx="4705200" cy="4657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50920" y="1628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64 году настоятель Цонгольского дацан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Даржа Заяе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ыл утвержден в звани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андито- хамбо ламы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есть главного духовного руководителя всех дацанов.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 Даржа Заяев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ервый бурятский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амбо-лама,  видный буддийский деятель, получивший образование в Тиб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гван Доржиев (1853-193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751280" cy="4525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68360" y="2060640"/>
            <a:ext cx="281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гван Доржи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 одним из высокообразован-ных лам, получившим образование в Тибете и обладавшим выдающимся дипломатическим да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дийский храм в Питере, построенный Агваном Доржиевы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645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итическая деятельность Агвана Доржие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143240" y="1785960"/>
            <a:ext cx="4362480" cy="4670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84360" y="227664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революции 1917 года, Агван Доржиев посвятил себя политической и религиозно-реформаторск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1:50:52Z</dcterms:created>
  <dc:creator>XTreme</dc:creator>
  <dc:description/>
  <dc:language>en-US</dc:language>
  <cp:lastModifiedBy>Екатерина</cp:lastModifiedBy>
  <dcterms:modified xsi:type="dcterms:W3CDTF">2011-05-04T06:09:41Z</dcterms:modified>
  <cp:revision>8</cp:revision>
  <dc:subject/>
  <dc:title>Муниципальное образовательное учреждение</dc:title>
</cp:coreProperties>
</file>