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83B-9C23-4CCF-A19B-14B92321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2D7-4E20-4870-8A61-57ECCFC5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47E-48DA-4F6A-AB27-F33C9CBD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BA7-7F74-4382-A78C-013FECF9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9955-1607-4624-92C1-AFEC96ED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1A19-5846-482D-A06C-0BC0D1E8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CCD0-3F70-43CE-A0B6-95708B5A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662D-5468-48B5-BCF5-11C1CBDB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E581-471A-4D96-B231-3B80A1D5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FE44-2AD6-474D-977C-921CC4D6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6CCE-325F-405E-B07B-4CCEB811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AF9-4B8C-4DC9-81AF-EBD5D276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39BD-B4DA-4195-B9B7-7AF1951F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2BAB-ECEA-4CD6-9AC1-1D921A90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DF65-07B0-48C7-88D9-4A0C4C56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85C7-D3D7-4B45-B17A-853BFD9B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DBE8-07BB-4435-A82F-94633BC6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091-EC0D-4C41-A0C1-564BC713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C31-8B42-4432-9D55-0588558B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5A3-48C7-497B-B6BE-D98E221F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1B0-B585-43C5-9FC6-CEDB60EE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1B3-4690-4B48-89F0-D55C8F59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E2D-2893-4E68-A7F0-3BB924DD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122-3D16-402E-B35B-B2083958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B874-5F1E-48D6-9F2E-F517C14F31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C160-8961-407D-AE4A-8A175960E6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Священные книги иудеев. Вероучени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56360" y="4941360"/>
            <a:ext cx="27367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Учитель истории 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г.Б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2009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64680" y="333360"/>
            <a:ext cx="65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e7ff"/>
                </a:solidFill>
                <a:latin typeface="Arial"/>
              </a:rPr>
              <a:t>Муниципальное образовательное учреждение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Где появился иудаизм ?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799308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Как связаны с иудаизмом слова, выражения?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х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вр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. до н.э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емля обетованна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лес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ис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. Иорд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409080" cy="4761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Что представлено на слайде,</a:t>
            </a:r>
            <a:br>
              <a:rPr sz="2800"/>
            </a:b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 как изображение связано с иудаизмом?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265800" cy="5213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Tahoma"/>
              </a:rPr>
              <a:t>Что представлено на слайде,</a:t>
            </a:r>
            <a:br>
              <a:rPr sz="2800"/>
            </a:br>
            <a:r>
              <a:rPr b="1" lang="en-US" sz="2800" spc="-1" strike="noStrike">
                <a:solidFill>
                  <a:srgbClr val="b7e7ff"/>
                </a:solidFill>
                <a:latin typeface="Tahoma"/>
              </a:rPr>
              <a:t> как изображение связано с иудаизм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24000" y="260280"/>
            <a:ext cx="8171640" cy="5774760"/>
            <a:chOff x="324000" y="260280"/>
            <a:chExt cx="8171640" cy="5774760"/>
          </a:xfrm>
        </p:grpSpPr>
        <p:cxnSp>
          <p:nvCxnSpPr>
            <p:cNvPr id="95" name="_s52258"/>
            <p:cNvCxnSpPr>
              <a:stCxn id="96" idx="1"/>
              <a:endCxn id="97" idx="2"/>
            </p:cNvCxnSpPr>
            <p:nvPr/>
          </p:nvCxnSpPr>
          <p:spPr>
            <a:xfrm rot="10800000">
              <a:off x="5771160" y="2322000"/>
              <a:ext cx="389520" cy="206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52256"/>
            <p:cNvCxnSpPr>
              <a:stCxn id="99" idx="1"/>
              <a:endCxn id="97" idx="2"/>
            </p:cNvCxnSpPr>
            <p:nvPr/>
          </p:nvCxnSpPr>
          <p:spPr>
            <a:xfrm rot="10800000">
              <a:off x="5771160" y="2322000"/>
              <a:ext cx="389520" cy="825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52254"/>
            <p:cNvCxnSpPr>
              <a:stCxn id="101" idx="3"/>
              <a:endCxn id="102" idx="2"/>
            </p:cNvCxnSpPr>
            <p:nvPr/>
          </p:nvCxnSpPr>
          <p:spPr>
            <a:xfrm flipV="1">
              <a:off x="2658600" y="2322360"/>
              <a:ext cx="389520" cy="330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52252"/>
            <p:cNvCxnSpPr>
              <a:stCxn id="104" idx="3"/>
              <a:endCxn id="102" idx="2"/>
            </p:cNvCxnSpPr>
            <p:nvPr/>
          </p:nvCxnSpPr>
          <p:spPr>
            <a:xfrm flipV="1">
              <a:off x="2658600" y="2322000"/>
              <a:ext cx="389520" cy="206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52250"/>
            <p:cNvCxnSpPr>
              <a:stCxn id="106" idx="3"/>
              <a:endCxn id="102" idx="2"/>
            </p:cNvCxnSpPr>
            <p:nvPr/>
          </p:nvCxnSpPr>
          <p:spPr>
            <a:xfrm flipV="1">
              <a:off x="2658600" y="2322000"/>
              <a:ext cx="389520" cy="825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52245"/>
            <p:cNvCxnSpPr>
              <a:stCxn id="97" idx="0"/>
              <a:endCxn id="108" idx="2"/>
            </p:cNvCxnSpPr>
            <p:nvPr/>
          </p:nvCxnSpPr>
          <p:spPr>
            <a:xfrm flipV="1" rot="16200000">
              <a:off x="4884120" y="609120"/>
              <a:ext cx="412920" cy="1362960"/>
            </a:xfrm>
            <a:prstGeom prst="bentConnector3">
              <a:avLst>
                <a:gd name="adj1" fmla="val 380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52244"/>
            <p:cNvCxnSpPr>
              <a:stCxn id="102" idx="0"/>
              <a:endCxn id="108" idx="2"/>
            </p:cNvCxnSpPr>
            <p:nvPr/>
          </p:nvCxnSpPr>
          <p:spPr>
            <a:xfrm flipH="1" flipV="1" rot="5400000">
              <a:off x="3522240" y="609840"/>
              <a:ext cx="412920" cy="1362240"/>
            </a:xfrm>
            <a:prstGeom prst="bentConnector3">
              <a:avLst>
                <a:gd name="adj1" fmla="val 380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52240"/>
            <p:cNvSpPr/>
            <p:nvPr/>
          </p:nvSpPr>
          <p:spPr>
            <a:xfrm>
              <a:off x="3242160" y="26028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</a:rPr>
                <a:t>Священные  книг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</a:rPr>
                <a:t>иудее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52241"/>
            <p:cNvSpPr/>
            <p:nvPr/>
          </p:nvSpPr>
          <p:spPr>
            <a:xfrm>
              <a:off x="1880280" y="149760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ТАНАХ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52242"/>
            <p:cNvSpPr/>
            <p:nvPr/>
          </p:nvSpPr>
          <p:spPr>
            <a:xfrm>
              <a:off x="4604400" y="149760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Book Antiqua"/>
                </a:rPr>
                <a:t>ТАЛМУД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2249"/>
            <p:cNvSpPr/>
            <p:nvPr/>
          </p:nvSpPr>
          <p:spPr>
            <a:xfrm>
              <a:off x="324000" y="273528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ТО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2251"/>
            <p:cNvSpPr/>
            <p:nvPr/>
          </p:nvSpPr>
          <p:spPr>
            <a:xfrm>
              <a:off x="324000" y="397260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ПРОРО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52253"/>
            <p:cNvSpPr/>
            <p:nvPr/>
          </p:nvSpPr>
          <p:spPr>
            <a:xfrm>
              <a:off x="324000" y="521028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ПИС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52255"/>
            <p:cNvSpPr/>
            <p:nvPr/>
          </p:nvSpPr>
          <p:spPr>
            <a:xfrm>
              <a:off x="6161040" y="273528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МИШН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52257"/>
            <p:cNvSpPr/>
            <p:nvPr/>
          </p:nvSpPr>
          <p:spPr>
            <a:xfrm>
              <a:off x="6161040" y="397260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ГЕРМАН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Догматы (основы вероучения) иудаизм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19280" y="1557000"/>
            <a:ext cx="5545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Вера в единого Бога Яхв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Иегова)-творец и властитель всего. Бессмертен, веч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Вера в месс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сланец Бога, призванный установить на земле справедливост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Вера в конец све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воскреснут умершие, будет совершен суд над живыми и мертвы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Вера в богоизбран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еврейского наро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Бог через Моисея предложил иудеям союз и дал ему Закон(Тору), который должен выполня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3276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Десять заповедей - Декалог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392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Почитать единого Б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создавать себе ку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поминать имени Бога без необходим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Уважать суббо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Уважать род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уби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Воздерживаться от лишн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кр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лжесвидетельств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желать того, что принадлежит друг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428004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7:12:23Z</dcterms:created>
  <dc:creator>Сергей</dc:creator>
  <dc:description/>
  <dc:language>en-US</dc:language>
  <cp:lastModifiedBy>папа</cp:lastModifiedBy>
  <dcterms:modified xsi:type="dcterms:W3CDTF">2011-03-16T17:51:57Z</dcterms:modified>
  <cp:revision>21</cp:revision>
  <dc:subject/>
  <dc:title>Всемирный потоп Древо познаний Запретный плод сладок Земля обетованная </dc:title>
</cp:coreProperties>
</file>