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90C-A950-4856-937A-FADFC107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479-8E11-4B48-99C1-7952BFA1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472-4887-4928-9F2A-5334A3F8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D64-DDF6-400D-9B78-DF7D7BA3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DB1B-D146-42E9-9A96-A30EDF89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BD8-4653-44BD-80EA-3DD7C53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5125-CCC7-41BE-8100-4CAF0A2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384C-2E11-4DAD-AC6A-5AB71476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E287-DA4A-4226-83E9-9FE0263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5B07-04D5-494A-AB5D-954884D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7E8-FEC3-4050-8C11-24BEDB9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5CD-6FBF-40AB-B787-F34765BC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2783-7CB3-440E-94B6-A3E6346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C80-5166-4F49-ADDE-17AD7965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CC7-7F47-4053-86BC-6908A30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F6CC-C8E4-4518-AA73-BDACA150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2686-F1CA-4E0A-B6DC-59A8971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1AD-20FB-4EC4-9975-89D6D56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9A5-0167-4E41-BC4D-1B30FC0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2D0-E81B-4D85-9D18-891F035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F9D-3BB2-483E-B7B5-127FEC2F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3C3-F60F-4BC1-A4D8-0497178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63B-D190-429B-8707-03A5861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8A2-927A-4A3E-B0B3-88B2D8D0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522-6C75-47B1-9D0E-47BF59456E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E7E7-CF3B-4109-84A4-A7F2EACA1A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Священные книги иудеев. Вероуче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6360" y="4941360"/>
            <a:ext cx="2736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Учитель истории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4680" y="33336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e7ff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Где появился иудаизм 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99308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Как связаны с иудаизмом слова, выражения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вр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. до н.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емля обетованна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ле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ис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Иор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409080" cy="4761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265800" cy="521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260280"/>
            <a:ext cx="8171640" cy="5774760"/>
            <a:chOff x="324000" y="260280"/>
            <a:chExt cx="8171640" cy="5774760"/>
          </a:xfrm>
        </p:grpSpPr>
        <p:cxnSp>
          <p:nvCxnSpPr>
            <p:cNvPr id="95" name="_s52258"/>
            <p:cNvCxnSpPr>
              <a:stCxn id="96" idx="1"/>
              <a:endCxn id="97" idx="2"/>
            </p:cNvCxnSpPr>
            <p:nvPr/>
          </p:nvCxnSpPr>
          <p:spPr>
            <a:xfrm rot="10800000">
              <a:off x="577116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52256"/>
            <p:cNvCxnSpPr>
              <a:stCxn id="99" idx="1"/>
              <a:endCxn id="97" idx="2"/>
            </p:cNvCxnSpPr>
            <p:nvPr/>
          </p:nvCxnSpPr>
          <p:spPr>
            <a:xfrm rot="10800000">
              <a:off x="577116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52254"/>
            <p:cNvCxnSpPr>
              <a:stCxn id="101" idx="3"/>
              <a:endCxn id="102" idx="2"/>
            </p:cNvCxnSpPr>
            <p:nvPr/>
          </p:nvCxnSpPr>
          <p:spPr>
            <a:xfrm flipV="1">
              <a:off x="2658600" y="2322360"/>
              <a:ext cx="389520" cy="330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52"/>
            <p:cNvCxnSpPr>
              <a:stCxn id="104" idx="3"/>
              <a:endCxn id="102" idx="2"/>
            </p:cNvCxnSpPr>
            <p:nvPr/>
          </p:nvCxnSpPr>
          <p:spPr>
            <a:xfrm flipV="1">
              <a:off x="265860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52250"/>
            <p:cNvCxnSpPr>
              <a:stCxn id="106" idx="3"/>
              <a:endCxn id="102" idx="2"/>
            </p:cNvCxnSpPr>
            <p:nvPr/>
          </p:nvCxnSpPr>
          <p:spPr>
            <a:xfrm flipV="1">
              <a:off x="265860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52245"/>
            <p:cNvCxnSpPr>
              <a:stCxn id="97" idx="0"/>
              <a:endCxn id="108" idx="2"/>
            </p:cNvCxnSpPr>
            <p:nvPr/>
          </p:nvCxnSpPr>
          <p:spPr>
            <a:xfrm flipV="1" rot="16200000">
              <a:off x="4884120" y="609120"/>
              <a:ext cx="412920" cy="136296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52244"/>
            <p:cNvCxnSpPr>
              <a:stCxn id="102" idx="0"/>
              <a:endCxn id="108" idx="2"/>
            </p:cNvCxnSpPr>
            <p:nvPr/>
          </p:nvCxnSpPr>
          <p:spPr>
            <a:xfrm flipH="1" flipV="1" rot="5400000">
              <a:off x="3522240" y="609840"/>
              <a:ext cx="412920" cy="136224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52240"/>
            <p:cNvSpPr/>
            <p:nvPr/>
          </p:nvSpPr>
          <p:spPr>
            <a:xfrm>
              <a:off x="3242160" y="26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Священные  книг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иудее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41"/>
            <p:cNvSpPr/>
            <p:nvPr/>
          </p:nvSpPr>
          <p:spPr>
            <a:xfrm>
              <a:off x="188028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АНА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42"/>
            <p:cNvSpPr/>
            <p:nvPr/>
          </p:nvSpPr>
          <p:spPr>
            <a:xfrm>
              <a:off x="460440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Book Antiqua"/>
                </a:rPr>
                <a:t>ТАЛМУД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2249"/>
            <p:cNvSpPr/>
            <p:nvPr/>
          </p:nvSpPr>
          <p:spPr>
            <a:xfrm>
              <a:off x="32400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51"/>
            <p:cNvSpPr/>
            <p:nvPr/>
          </p:nvSpPr>
          <p:spPr>
            <a:xfrm>
              <a:off x="32400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РОРО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52253"/>
            <p:cNvSpPr/>
            <p:nvPr/>
          </p:nvSpPr>
          <p:spPr>
            <a:xfrm>
              <a:off x="324000" y="521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ИС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2255"/>
            <p:cNvSpPr/>
            <p:nvPr/>
          </p:nvSpPr>
          <p:spPr>
            <a:xfrm>
              <a:off x="616104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МИШ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52257"/>
            <p:cNvSpPr/>
            <p:nvPr/>
          </p:nvSpPr>
          <p:spPr>
            <a:xfrm>
              <a:off x="616104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ГЕРМА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огматы (основы вероучения) иудаизм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19280" y="1557000"/>
            <a:ext cx="554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единого Бога Яхв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Иегова)-творец и властитель всего. Бессмертен, веч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месс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сланец Бога, призванный установить на земле справедлив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конец с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оскреснут умершие, будет совершен суд над живыми и мертв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богоизбран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еврейского на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Бог через Моисея предложил иудеям союз и дал ему Закон(Тору), который должен выполня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3276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есять заповедей - Декалог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39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Почитать единого Б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создавать себе ку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поминать имени Бога без необх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субб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уб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Воздерживаться от лиш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кр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лжесвидетельс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желать того, что принадлежит друг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2800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12:23Z</dcterms:created>
  <dc:creator>Сергей</dc:creator>
  <dc:description/>
  <dc:language>en-US</dc:language>
  <cp:lastModifiedBy>папа</cp:lastModifiedBy>
  <dcterms:modified xsi:type="dcterms:W3CDTF">2011-03-16T17:51:57Z</dcterms:modified>
  <cp:revision>21</cp:revision>
  <dc:subject/>
  <dc:title>Всемирный потоп Древо познаний Запретный плод сладок Земля обетованная </dc:title>
</cp:coreProperties>
</file>