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DE2-1793-4939-B289-EAA0A4C3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1E8-5C7B-433A-8B2C-1BE87D39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74EC-2222-4083-90DD-5B7C9F9C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F72-D7F3-4A1A-836D-2041A680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34F6-54DE-4CFF-A49B-E19F0DCF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5E29-682E-440A-AEB9-289B2F86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A88C-0E94-42DD-97E6-1A2486FC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67BB-262E-47E1-B991-E7FF2789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24DE-9D48-41D2-9695-BFCC542F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3D7F-EA71-4E6D-B26A-B5405BF4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8CC3-774C-420E-946C-AB2E3C3F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3377-1245-4E4B-A45B-CCF2BB1F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9EAD-9D9C-485F-B431-47097938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9661-3538-4248-86BE-AD1641DA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9432-6C20-4626-9CAC-00BCE197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1B4F-BD90-413A-BCAE-77B929A9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4922-F154-4060-A3A5-2ED5E855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EEBE-10B3-48E1-8297-23BB54B1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FCB-8457-49F6-92D3-F131C901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6BC4-B17B-4D60-BA5D-38E588C7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4909-4BCD-4E5F-93F3-FA0E3ADA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C796-BF69-4BD4-9980-A58D6858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14C-2B22-42FA-9192-AB2F39B9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E249-81B6-443A-8E5A-AA9B9DFE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A09F-F59D-4B8E-B921-D2A32D47982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AC62-7C4D-4EF2-85EE-5A93753260C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9034560" cy="3427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928680" y="3785760"/>
            <a:ext cx="464364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da533"/>
                </a:solidFill>
                <a:latin typeface="Arial Black"/>
              </a:rPr>
              <a:t>Выполнил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da533"/>
                </a:solidFill>
                <a:latin typeface="Arial Black"/>
              </a:rPr>
              <a:t>Учитель МОУ ООШ №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da533"/>
                </a:solidFill>
                <a:latin typeface="Arial Black"/>
              </a:rPr>
              <a:t>г. Б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da533"/>
                </a:solidFill>
                <a:latin typeface="Arial Black"/>
              </a:rPr>
              <a:t>Саблукова Е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da533"/>
                </a:solidFill>
                <a:latin typeface="Arial Black"/>
              </a:rPr>
              <a:t>г. Б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da533"/>
                </a:solidFill>
                <a:latin typeface="Arial Black"/>
              </a:rPr>
              <a:t>20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58760" y="-12600"/>
            <a:ext cx="8918640" cy="3725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85840" y="3714480"/>
            <a:ext cx="85723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 u="sng">
                <a:solidFill>
                  <a:srgbClr val="ffc000"/>
                </a:solidFill>
                <a:uFillTx/>
                <a:latin typeface="Arial Black"/>
              </a:rPr>
              <a:t>Задачи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000"/>
                </a:solidFill>
                <a:latin typeface="Arial Black"/>
              </a:rPr>
              <a:t>    </a:t>
            </a:r>
            <a:r>
              <a:rPr b="0" lang="en-US" sz="2500" spc="-1" strike="noStrike">
                <a:solidFill>
                  <a:srgbClr val="ffc000"/>
                </a:solidFill>
                <a:latin typeface="Arial Black"/>
              </a:rPr>
              <a:t>-</a:t>
            </a:r>
            <a:r>
              <a:rPr b="0" lang="ru-RU" sz="2500" spc="-1" strike="noStrike">
                <a:solidFill>
                  <a:srgbClr val="ffc000"/>
                </a:solidFill>
                <a:latin typeface="Arial Black"/>
              </a:rPr>
              <a:t>дать определение термину «язычество»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000"/>
                </a:solidFill>
                <a:latin typeface="Arial Black"/>
              </a:rPr>
              <a:t>    </a:t>
            </a:r>
            <a:r>
              <a:rPr b="0" lang="ru-RU" sz="2500" spc="-1" strike="noStrike">
                <a:solidFill>
                  <a:srgbClr val="ffc000"/>
                </a:solidFill>
                <a:latin typeface="Arial Black"/>
              </a:rPr>
              <a:t>-познакомиться с историческими</a:t>
            </a:r>
            <a:r>
              <a:rPr b="0" lang="en-US" sz="25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ru-RU" sz="2500" spc="-1" strike="noStrike">
                <a:solidFill>
                  <a:srgbClr val="ffc000"/>
                </a:solidFill>
                <a:latin typeface="Arial Black"/>
              </a:rPr>
              <a:t>источниками  изучения религии  древних славян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000"/>
                </a:solidFill>
                <a:latin typeface="Arial Black"/>
              </a:rPr>
              <a:t>    </a:t>
            </a:r>
            <a:r>
              <a:rPr b="0" lang="ru-RU" sz="2500" spc="-1" strike="noStrike">
                <a:solidFill>
                  <a:srgbClr val="ffc000"/>
                </a:solidFill>
                <a:latin typeface="Arial Black"/>
              </a:rPr>
              <a:t>-выяснить исторические условия возникновения религии древних славян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-6480" y="6480"/>
            <a:ext cx="8699760" cy="1420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ADMIN\Мои документы\Мои рисунки\slavyane.jpg"/>
          <p:cNvPicPr/>
          <p:nvPr/>
        </p:nvPicPr>
        <p:blipFill>
          <a:blip r:embed="rId2"/>
          <a:stretch/>
        </p:blipFill>
        <p:spPr>
          <a:xfrm>
            <a:off x="714240" y="1285920"/>
            <a:ext cx="7500960" cy="5286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242560" cy="203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ADMIN\Рабочий стол\Фотографии Любы\Новая папка\4124_2.jpg"/>
          <p:cNvPicPr/>
          <p:nvPr/>
        </p:nvPicPr>
        <p:blipFill>
          <a:blip r:embed="rId2"/>
          <a:stretch/>
        </p:blipFill>
        <p:spPr>
          <a:xfrm>
            <a:off x="285840" y="1643040"/>
            <a:ext cx="4738680" cy="4525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0" name="Picture 3" descr="C:\Documents and Settings\ADMIN\Мои документы\Мои рисунки\009300.jpg"/>
          <p:cNvPicPr/>
          <p:nvPr/>
        </p:nvPicPr>
        <p:blipFill>
          <a:blip r:embed="rId3"/>
          <a:stretch/>
        </p:blipFill>
        <p:spPr>
          <a:xfrm>
            <a:off x="1857240" y="1643040"/>
            <a:ext cx="4286520" cy="4500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1" name="Picture 4" descr="C:\Documents and Settings\ADMIN\Мои документы\Мои рисунки\0_56ee_15c37b41_XL.jpeg"/>
          <p:cNvPicPr/>
          <p:nvPr/>
        </p:nvPicPr>
        <p:blipFill>
          <a:blip r:embed="rId4"/>
          <a:stretch/>
        </p:blipFill>
        <p:spPr>
          <a:xfrm>
            <a:off x="3429000" y="1643040"/>
            <a:ext cx="4500720" cy="44816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2" name="Picture 5" descr="C:\Documents and Settings\ADMIN\Рабочий стол\Фотографии Любы\Новая папка\01-10453.jpg"/>
          <p:cNvPicPr/>
          <p:nvPr/>
        </p:nvPicPr>
        <p:blipFill>
          <a:blip r:embed="rId5"/>
          <a:stretch/>
        </p:blipFill>
        <p:spPr>
          <a:xfrm>
            <a:off x="5214960" y="1714680"/>
            <a:ext cx="3457440" cy="4429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-231840"/>
            <a:ext cx="8242560" cy="2384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Documents and Settings\ADMIN\Мои документы\Мои рисунки\poselok.jpg"/>
          <p:cNvPicPr/>
          <p:nvPr/>
        </p:nvPicPr>
        <p:blipFill>
          <a:blip r:embed="rId2"/>
          <a:stretch/>
        </p:blipFill>
        <p:spPr>
          <a:xfrm>
            <a:off x="369720" y="2214720"/>
            <a:ext cx="8202960" cy="4357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3" descr="370"/>
          <p:cNvPicPr/>
          <p:nvPr/>
        </p:nvPicPr>
        <p:blipFill>
          <a:blip r:embed="rId2"/>
          <a:stretch/>
        </p:blipFill>
        <p:spPr>
          <a:xfrm>
            <a:off x="3714840" y="1643040"/>
            <a:ext cx="4000320" cy="3143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7" name="Рисунок 4" descr="2992_f"/>
          <p:cNvPicPr/>
          <p:nvPr/>
        </p:nvPicPr>
        <p:blipFill>
          <a:blip r:embed="rId3"/>
          <a:stretch/>
        </p:blipFill>
        <p:spPr>
          <a:xfrm>
            <a:off x="4000680" y="2428920"/>
            <a:ext cx="4214520" cy="3429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8" name="Picture 2" descr="C:\Documents and Settings\ADMIN\Рабочий стол\Фотографии Любы\Новая папка\k6.jpg"/>
          <p:cNvPicPr/>
          <p:nvPr/>
        </p:nvPicPr>
        <p:blipFill>
          <a:blip r:embed="rId4"/>
          <a:stretch/>
        </p:blipFill>
        <p:spPr>
          <a:xfrm>
            <a:off x="214200" y="1643040"/>
            <a:ext cx="3357720" cy="5000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9" name="Picture 3" descr="C:\Documents and Settings\ADMIN\Рабочий стол\Фотографии Любы\Новая папка\4c04356197d8.jpg"/>
          <p:cNvPicPr/>
          <p:nvPr/>
        </p:nvPicPr>
        <p:blipFill>
          <a:blip r:embed="rId5"/>
          <a:stretch/>
        </p:blipFill>
        <p:spPr>
          <a:xfrm>
            <a:off x="4500720" y="3000240"/>
            <a:ext cx="4163760" cy="35006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Documents and Settings\ADMIN\Рабочий стол\Фотографии Любы\Новая папка\alldon_karavay8.jpg"/>
          <p:cNvPicPr/>
          <p:nvPr/>
        </p:nvPicPr>
        <p:blipFill>
          <a:blip r:embed="rId2"/>
          <a:stretch/>
        </p:blipFill>
        <p:spPr>
          <a:xfrm>
            <a:off x="285840" y="1214280"/>
            <a:ext cx="3214440" cy="2786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02" name="Picture 4" descr="C:\Documents and Settings\ADMIN\Рабочий стол\Фотографии Любы\Новая папка\62.jpg"/>
          <p:cNvPicPr/>
          <p:nvPr/>
        </p:nvPicPr>
        <p:blipFill>
          <a:blip r:embed="rId3"/>
          <a:stretch/>
        </p:blipFill>
        <p:spPr>
          <a:xfrm>
            <a:off x="5715000" y="1143000"/>
            <a:ext cx="2847960" cy="2857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03" name="Picture 5" descr="C:\Documents and Settings\ADMIN\Рабочий стол\Фотографии Любы\Новая папка\0_53e47_c56ee7d_XL.jpeg"/>
          <p:cNvPicPr/>
          <p:nvPr/>
        </p:nvPicPr>
        <p:blipFill>
          <a:blip r:embed="rId4"/>
          <a:stretch/>
        </p:blipFill>
        <p:spPr>
          <a:xfrm>
            <a:off x="285840" y="4143240"/>
            <a:ext cx="3643200" cy="25005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04" name="Picture 6" descr="C:\Documents and Settings\ADMIN\Рабочий стол\Фотографии Любы\Новая папка\kolyadovanie_2.jpg"/>
          <p:cNvPicPr/>
          <p:nvPr/>
        </p:nvPicPr>
        <p:blipFill>
          <a:blip r:embed="rId5"/>
          <a:stretch/>
        </p:blipFill>
        <p:spPr>
          <a:xfrm>
            <a:off x="4643280" y="4143240"/>
            <a:ext cx="3996000" cy="25005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Arial Black"/>
              </a:rPr>
              <a:t>Источники изучения религии древних славян: археологически, письменные (летописи, труды византийских и арабских авторов), фольклор, христианские учения, направленные против язычеств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Arial Black"/>
              </a:rPr>
              <a:t>Славянская религия свидетельствует о том, что основная масса славян занималась земледелием и вела оседлый образ жизни, зависела от сил природы, поэтому обожествляла их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25T18:48:13Z</dcterms:modified>
  <cp:revision>10</cp:revision>
  <dc:subject/>
  <dc:title>Источники изучения и исторические условия возникновения религии древних славян</dc:title>
</cp:coreProperties>
</file>