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E8C-7D8D-4696-9962-663C26E6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37-BD8F-4514-8212-355954C5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6E8-CE16-434F-A4B5-12C1B795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8A9-F2C3-4934-9A7F-2CCB2D32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D57-892C-4EF9-BD58-547EEA4B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937F-D8EA-4DCC-98FA-EFC0E74D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227E-5F76-473D-81DC-DAA65840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8F8-3987-42A7-949A-9BE62909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7C69-B09A-4769-B558-A880CC7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DCB5-1F35-4102-B3BE-D9714BD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FAB-E2BB-491F-B03B-8C1A597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FF9-EE54-4739-8E90-5BFCDBC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AFF6-19C4-483A-99D8-582D387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3420-F58E-444F-97E8-40CED49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828-5272-49CF-8D99-AF194F6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E61A-3611-4D2F-BADF-2F60C96F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610-A804-42E8-BB1D-3409658C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E4D-A1C2-4BF6-85D3-0DF401F4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79C-7ED1-4401-A6AB-46C56FC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AF2-98EA-4E31-B863-29BD3BDF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1FA-768E-4D4B-93AE-C75B0B3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6F8-5F1E-431C-9E5D-9282D62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76A-6D7E-4E5C-9871-FE4EAC9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B2E-7448-4512-B185-A43F94E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673-EA4C-4B82-B674-A7E883C1BBC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28C-7BC7-4CB5-81AA-D7C66687F82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34560" cy="3427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28680" y="3785760"/>
            <a:ext cx="46436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Учитель МОУ ООШ №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г. 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Саблукова Е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г. 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58760" y="-12600"/>
            <a:ext cx="8918640" cy="3725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85840" y="3714480"/>
            <a:ext cx="85723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ffc000"/>
                </a:solidFill>
                <a:uFillTx/>
                <a:latin typeface="Arial Black"/>
              </a:rPr>
              <a:t>Задачи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-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дать определение термину «язычество»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-познакомиться с историческими</a:t>
            </a: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источниками  изучения религии  древних славян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-выяснить исторические условия возникновения религии древних славян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-6480" y="6480"/>
            <a:ext cx="8699760" cy="142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Мои рисунки\slavyane.jpg"/>
          <p:cNvPicPr/>
          <p:nvPr/>
        </p:nvPicPr>
        <p:blipFill>
          <a:blip r:embed="rId2"/>
          <a:stretch/>
        </p:blipFill>
        <p:spPr>
          <a:xfrm>
            <a:off x="714240" y="1285920"/>
            <a:ext cx="7500960" cy="5286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203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Рабочий стол\Фотографии Любы\Новая папка\4124_2.jpg"/>
          <p:cNvPicPr/>
          <p:nvPr/>
        </p:nvPicPr>
        <p:blipFill>
          <a:blip r:embed="rId2"/>
          <a:stretch/>
        </p:blipFill>
        <p:spPr>
          <a:xfrm>
            <a:off x="285840" y="1643040"/>
            <a:ext cx="4738680" cy="4525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0" name="Picture 3" descr="C:\Documents and Settings\ADMIN\Мои документы\Мои рисунки\009300.jpg"/>
          <p:cNvPicPr/>
          <p:nvPr/>
        </p:nvPicPr>
        <p:blipFill>
          <a:blip r:embed="rId3"/>
          <a:stretch/>
        </p:blipFill>
        <p:spPr>
          <a:xfrm>
            <a:off x="1857240" y="1643040"/>
            <a:ext cx="4286520" cy="4500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1" name="Picture 4" descr="C:\Documents and Settings\ADMIN\Мои документы\Мои рисунки\0_56ee_15c37b41_XL.jpeg"/>
          <p:cNvPicPr/>
          <p:nvPr/>
        </p:nvPicPr>
        <p:blipFill>
          <a:blip r:embed="rId4"/>
          <a:stretch/>
        </p:blipFill>
        <p:spPr>
          <a:xfrm>
            <a:off x="3429000" y="1643040"/>
            <a:ext cx="4500720" cy="4481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Picture 5" descr="C:\Documents and Settings\ADMIN\Рабочий стол\Фотографии Любы\Новая папка\01-10453.jpg"/>
          <p:cNvPicPr/>
          <p:nvPr/>
        </p:nvPicPr>
        <p:blipFill>
          <a:blip r:embed="rId5"/>
          <a:stretch/>
        </p:blipFill>
        <p:spPr>
          <a:xfrm>
            <a:off x="5214960" y="1714680"/>
            <a:ext cx="3457440" cy="4429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242560" cy="238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\Мои документы\Мои рисунки\poselok.jpg"/>
          <p:cNvPicPr/>
          <p:nvPr/>
        </p:nvPicPr>
        <p:blipFill>
          <a:blip r:embed="rId2"/>
          <a:stretch/>
        </p:blipFill>
        <p:spPr>
          <a:xfrm>
            <a:off x="369720" y="2214720"/>
            <a:ext cx="8202960" cy="435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370"/>
          <p:cNvPicPr/>
          <p:nvPr/>
        </p:nvPicPr>
        <p:blipFill>
          <a:blip r:embed="rId2"/>
          <a:stretch/>
        </p:blipFill>
        <p:spPr>
          <a:xfrm>
            <a:off x="3714840" y="1643040"/>
            <a:ext cx="4000320" cy="3143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7" name="Рисунок 4" descr="2992_f"/>
          <p:cNvPicPr/>
          <p:nvPr/>
        </p:nvPicPr>
        <p:blipFill>
          <a:blip r:embed="rId3"/>
          <a:stretch/>
        </p:blipFill>
        <p:spPr>
          <a:xfrm>
            <a:off x="4000680" y="2428920"/>
            <a:ext cx="4214520" cy="342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8" name="Picture 2" descr="C:\Documents and Settings\ADMIN\Рабочий стол\Фотографии Любы\Новая папка\k6.jpg"/>
          <p:cNvPicPr/>
          <p:nvPr/>
        </p:nvPicPr>
        <p:blipFill>
          <a:blip r:embed="rId4"/>
          <a:stretch/>
        </p:blipFill>
        <p:spPr>
          <a:xfrm>
            <a:off x="214200" y="1643040"/>
            <a:ext cx="3357720" cy="5000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9" name="Picture 3" descr="C:\Documents and Settings\ADMIN\Рабочий стол\Фотографии Любы\Новая папка\4c04356197d8.jpg"/>
          <p:cNvPicPr/>
          <p:nvPr/>
        </p:nvPicPr>
        <p:blipFill>
          <a:blip r:embed="rId5"/>
          <a:stretch/>
        </p:blipFill>
        <p:spPr>
          <a:xfrm>
            <a:off x="4500720" y="3000240"/>
            <a:ext cx="4163760" cy="3500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ADMIN\Рабочий стол\Фотографии Любы\Новая папка\alldon_karavay8.jpg"/>
          <p:cNvPicPr/>
          <p:nvPr/>
        </p:nvPicPr>
        <p:blipFill>
          <a:blip r:embed="rId2"/>
          <a:stretch/>
        </p:blipFill>
        <p:spPr>
          <a:xfrm>
            <a:off x="285840" y="1214280"/>
            <a:ext cx="3214440" cy="278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2" name="Picture 4" descr="C:\Documents and Settings\ADMIN\Рабочий стол\Фотографии Любы\Новая папка\62.jpg"/>
          <p:cNvPicPr/>
          <p:nvPr/>
        </p:nvPicPr>
        <p:blipFill>
          <a:blip r:embed="rId3"/>
          <a:stretch/>
        </p:blipFill>
        <p:spPr>
          <a:xfrm>
            <a:off x="5715000" y="1143000"/>
            <a:ext cx="2847960" cy="285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3" name="Picture 5" descr="C:\Documents and Settings\ADMIN\Рабочий стол\Фотографии Любы\Новая папка\0_53e47_c56ee7d_XL.jpeg"/>
          <p:cNvPicPr/>
          <p:nvPr/>
        </p:nvPicPr>
        <p:blipFill>
          <a:blip r:embed="rId4"/>
          <a:stretch/>
        </p:blipFill>
        <p:spPr>
          <a:xfrm>
            <a:off x="285840" y="4143240"/>
            <a:ext cx="3643200" cy="25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Picture 6" descr="C:\Documents and Settings\ADMIN\Рабочий стол\Фотографии Любы\Новая папка\kolyadovanie_2.jpg"/>
          <p:cNvPicPr/>
          <p:nvPr/>
        </p:nvPicPr>
        <p:blipFill>
          <a:blip r:embed="rId5"/>
          <a:stretch/>
        </p:blipFill>
        <p:spPr>
          <a:xfrm>
            <a:off x="4643280" y="4143240"/>
            <a:ext cx="3996000" cy="25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Arial Black"/>
              </a:rPr>
              <a:t>Источники изучения религии древних славян: археологически, письменные (летописи, труды византийских и арабских авторов), фольклор, христианские учения, направленные против язычест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Arial Black"/>
              </a:rPr>
              <a:t>Славянская религия свидетельствует о том, что основная масса славян занималась земледелием и вела оседлый образ жизни, зависела от сил природы, поэтому обожествляла и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8:48:13Z</dcterms:modified>
  <cp:revision>10</cp:revision>
  <dc:subject/>
  <dc:title>Источники изучения и исторические условия возникновения религии древних славян</dc:title>
</cp:coreProperties>
</file>