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41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8C3-495F-467E-AA97-8BC45D02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749-D7E8-4380-A2AA-034D9AB8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DC5-FC55-4051-8B95-7392CC6D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192-3E30-4712-9FAE-D36E5D54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9122-338A-4A8D-B595-0C622024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F31D-171A-4523-B829-7A5A543B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A4233-D446-41D9-95FB-DBE07C9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F630-C435-4261-8A9E-41E80755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E1F5-5114-4A4E-A2B0-CCBC6379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33EC3-A6DF-41A5-A42D-4F8B5EC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C653-5DA5-42CC-9A7B-81F9F5D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6D1-1859-4716-BD38-E6A33DE1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3058-E9ED-4BEA-AD26-34D5D7F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84F87-3D09-42D3-BF5A-02FEF0D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F22B5-7BE8-4AA5-A29C-FE5DFDD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F4D1-2C3E-451F-9FA2-E8EF2329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07E30-7C1C-4AB4-A6A9-BF968294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B5DB-F16E-4E9E-B46D-CFD8359B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7248-658D-4710-B049-1C4F954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6F34-007E-47DD-A23E-E1C6132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7AB1-96F0-470A-AB41-D649C5F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34EB-75DA-47FC-A7D2-59A378A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EC3-4FC1-4309-939E-A0C477B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387C-9F8D-49A5-94F2-C8617155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4DA1-FAE8-4382-9A66-3973D71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B889-3DA8-4DD5-9945-63E1084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6570-D8C8-45AB-995B-142715A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7E62-39A8-4006-8B04-26316D3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C872-2CC3-46D8-B2FB-05A7040E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64D3-F84A-4DF3-A550-EAA27F8A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25E60-2D7F-4B8F-845D-C3F2EA01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3DE1E-BB96-4671-BEBF-1A501E14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269F2-40CC-40E6-9DE9-3C0D516C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7EE-0AC0-4F89-AF09-1C30BF8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7FF4E-87BC-449E-BBA9-0F295420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BC3D8-C8DC-47DF-A0EA-19A197E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DFA95-DBCA-4631-B769-EF9F987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C97EF-192A-4B93-BD0B-30D4A58A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71E06-9A66-4A6B-862A-F798269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C8E28-3636-4906-96F5-3E75467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1274A-919A-47E2-AA92-EA33E2FA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8DED5-ABF0-4D31-97DD-CE092267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FD149-2E47-4253-84A8-2DB9E783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463FB-83AC-4E96-A0BF-0C4F6FA4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72A-36B4-4317-A5F3-32551AAA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9A7A1-F6CF-49B4-BA4C-648ECF44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6784F-46A6-403F-B4A6-CD49635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42904-EA28-45E4-A467-5DEC94C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A0C4D-7046-4722-9A4E-796E0E9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1F1C-1796-49CD-A06E-96E5C457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50235-D00C-41A4-B02B-BFB0986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1DB04-FB57-4F34-B69D-6B089A8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7474D-D85C-41DD-BB0A-1DC3DCA4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30417-258C-4E6B-BB82-58CD8C6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3545A-D2E0-4EC3-9A5B-C0159B33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054-9A85-4F22-94E6-9B6393E3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234E4-A335-43DD-B5FA-BBBE24EF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394EC-1C6F-46A3-94ED-A0DEF0DD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2B6FD-9E99-44B2-894B-46CA2D7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C57B4-13F5-4677-8DF4-1728E42A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B304E-9BAF-400C-993D-9EEEE21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BE619-5B4D-4D7A-92FC-88EF13E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67FAB-22E0-4263-B10F-30EF4B3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7FD0F-6B41-4925-B9D4-F511C25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75F08-F4BB-4E34-BDA4-8B880A2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C368C-A05B-4A09-9279-1D10F99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E0B-47C0-4541-B584-44F656A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22935-5BD6-4457-902A-C66A3C9E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6ED4E-AA41-4347-81BD-6BCB3C4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C61F2-ECAB-4340-A03B-A54E226D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6BE-7F9B-4867-A54B-AD801CE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577-4ACF-4B2F-914B-B3CCE8D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A5D0-E10D-420B-9B20-1FEA57F2B75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24A9-1B10-4FB6-A182-91A631FD9DB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953-B27A-43B0-8FE6-55296297FB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B71-8907-4663-B7FC-2E5D75E454D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719-8C3A-4607-9BBC-2E0892E41A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86E0-FE73-4C09-95E3-E3A80F79AF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714480" y="3571920"/>
            <a:ext cx="40575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Выполнил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Учитель МОУ ООШ №2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Саблукова Е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848520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643360" y="2356920"/>
            <a:ext cx="3500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читание богов – покровителей плодород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Documents and Settings\ADMIN\Мои документы\Мои рисунки\f261f69b6b88a23f2ac48b93e6fb8b71.jpg"/>
          <p:cNvPicPr/>
          <p:nvPr/>
        </p:nvPicPr>
        <p:blipFill>
          <a:blip r:embed="rId2"/>
          <a:stretch/>
        </p:blipFill>
        <p:spPr>
          <a:xfrm>
            <a:off x="357120" y="1428840"/>
            <a:ext cx="276552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Picture 3" descr="C:\Documents and Settings\ADMIN\Мои документы\Мои рисунки\3b5a11b991c5e3a67d57bee3d82.jpg"/>
          <p:cNvPicPr/>
          <p:nvPr/>
        </p:nvPicPr>
        <p:blipFill>
          <a:blip r:embed="rId3"/>
          <a:stretch/>
        </p:blipFill>
        <p:spPr>
          <a:xfrm>
            <a:off x="1285920" y="1643040"/>
            <a:ext cx="26766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2" descr="C:\Documents and Settings\ADMIN\Мои документы\Мои рисунки\98f32e7fe9b0.jpg"/>
          <p:cNvPicPr/>
          <p:nvPr/>
        </p:nvPicPr>
        <p:blipFill>
          <a:blip r:embed="rId4"/>
          <a:stretch/>
        </p:blipFill>
        <p:spPr>
          <a:xfrm>
            <a:off x="2000160" y="2000160"/>
            <a:ext cx="28083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Picture 4" descr="C:\Documents and Settings\ADMIN\Мои документы\Мои рисунки\3d282-5878cb824a67.jpg"/>
          <p:cNvPicPr/>
          <p:nvPr/>
        </p:nvPicPr>
        <p:blipFill>
          <a:blip r:embed="rId5"/>
          <a:stretch/>
        </p:blipFill>
        <p:spPr>
          <a:xfrm>
            <a:off x="2857680" y="2357280"/>
            <a:ext cx="3000240" cy="39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143680" y="1143000"/>
            <a:ext cx="36432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ru-RU" sz="3600" spc="-1" strike="noStrike">
                <a:solidFill>
                  <a:srgbClr val="fefac9"/>
                </a:solidFill>
                <a:latin typeface="Comic Sans MS"/>
              </a:rPr>
              <a:t>Преклонение перед тем или иным растением, восприятие его как священного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ADMIN\Мои документы\Мои рисунки\44810241_073208_558.jpg"/>
          <p:cNvPicPr/>
          <p:nvPr/>
        </p:nvPicPr>
        <p:blipFill>
          <a:blip r:embed="rId2"/>
          <a:stretch/>
        </p:blipFill>
        <p:spPr>
          <a:xfrm>
            <a:off x="428760" y="1214280"/>
            <a:ext cx="2286000" cy="32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4" descr="C:\Documents and Settings\ADMIN\Мои документы\Мои рисунки\3223835_large.jpg"/>
          <p:cNvPicPr/>
          <p:nvPr/>
        </p:nvPicPr>
        <p:blipFill>
          <a:blip r:embed="rId3"/>
          <a:stretch/>
        </p:blipFill>
        <p:spPr>
          <a:xfrm>
            <a:off x="3071880" y="1143000"/>
            <a:ext cx="20718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Picture 5" descr="C:\Documents and Settings\ADMIN\Мои документы\Мои рисунки\quararibea_blossom_maya.jpg"/>
          <p:cNvPicPr/>
          <p:nvPr/>
        </p:nvPicPr>
        <p:blipFill>
          <a:blip r:embed="rId4"/>
          <a:stretch/>
        </p:blipFill>
        <p:spPr>
          <a:xfrm>
            <a:off x="428760" y="4643280"/>
            <a:ext cx="4857480" cy="20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643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Фетишизм - вера в магические свойства предметов: куски дерева, различные фигурки, камни, амулеты и т. п.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Documents and Settings\ADMIN\Мои документы\Старые документы\Мои документы\Лена\Религии России\картинки\Drevnii_Hudojnik.jpg"/>
          <p:cNvPicPr/>
          <p:nvPr/>
        </p:nvPicPr>
        <p:blipFill>
          <a:blip r:embed="rId2"/>
          <a:stretch/>
        </p:blipFill>
        <p:spPr>
          <a:xfrm>
            <a:off x="357120" y="1857240"/>
            <a:ext cx="30672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857320" y="1213920"/>
            <a:ext cx="607212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fac9"/>
                </a:solidFill>
                <a:latin typeface="Comic Sans MS"/>
              </a:rPr>
              <a:t>Фетиш – </a:t>
            </a:r>
            <a:r>
              <a:rPr b="1" lang="ru-RU" sz="2400" spc="-1" strike="noStrike">
                <a:solidFill>
                  <a:srgbClr val="fefac9"/>
                </a:solidFill>
                <a:latin typeface="Comic Sans MS"/>
              </a:rPr>
              <a:t>это предмет, наделенный человеком таинственной  сверхъестественной силой. Древний человек верил в то, что фетиш может защищать от болезней, нечистой силы, приносить удачу, победу. Фетишем мог стать любой предмет, с которым человеку однажды пришла удача. Фетиш мог иметь не только личный, но и общественный характер (гора, дерево, валун и др.), он оберегал и защищал все племя, целый народ. Позднее стали создавать искусственные фетиш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Documents and Settings\ADMIN\Мои документы\Старые документы\Мои документы\Лена\Религии России\картинки\f65eaec0f850.jpg"/>
          <p:cNvPicPr/>
          <p:nvPr/>
        </p:nvPicPr>
        <p:blipFill>
          <a:blip r:embed="rId2"/>
          <a:stretch/>
        </p:blipFill>
        <p:spPr>
          <a:xfrm>
            <a:off x="285840" y="4143240"/>
            <a:ext cx="264312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Picture 4" descr="C:\Documents and Settings\ADMIN\Мои документы\Старые документы\Мои документы\Лена\Религии России\картинки\letkam4.jpg"/>
          <p:cNvPicPr/>
          <p:nvPr/>
        </p:nvPicPr>
        <p:blipFill>
          <a:blip r:embed="rId3"/>
          <a:stretch/>
        </p:blipFill>
        <p:spPr>
          <a:xfrm>
            <a:off x="214200" y="1357200"/>
            <a:ext cx="264348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14520" y="1523520"/>
            <a:ext cx="4714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Предметы, обладающие магической силой, стали называться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амулетами (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от латинского «отстранять», «отвращать»), которые  оберегали своего хозяина от бед и несчаст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\Мои документы\Старые документы\Мои документы\Лена\Религии России\картинки\1267832849315810034.jpg"/>
          <p:cNvPicPr/>
          <p:nvPr/>
        </p:nvPicPr>
        <p:blipFill>
          <a:blip r:embed="rId2"/>
          <a:srcRect l="0" t="0" r="0" b="14764"/>
          <a:stretch/>
        </p:blipFill>
        <p:spPr>
          <a:xfrm>
            <a:off x="357120" y="1571760"/>
            <a:ext cx="3522600" cy="43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714480" y="1523520"/>
            <a:ext cx="542916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Способность предотвращать беду и приносить удачу приписывали и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талисманам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 (греч. «посвящение»). Различие заключалось в том, что амулеты носили открыто, а талисманы прятали от посторонних гла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Мои документы\Старые документы\Мои документы\Лена\Религии России\картинки\pl03.jpg"/>
          <p:cNvPicPr/>
          <p:nvPr/>
        </p:nvPicPr>
        <p:blipFill>
          <a:blip r:embed="rId2"/>
          <a:stretch/>
        </p:blipFill>
        <p:spPr>
          <a:xfrm>
            <a:off x="571680" y="1571760"/>
            <a:ext cx="321444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f3a447"/>
                </a:solidFill>
                <a:latin typeface="Comic Sans MS"/>
              </a:rPr>
              <a:t>Задачи урок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ыяснить, что такое анимизм, тотемизм, фетишиз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Узнать, что такое первобытные культы, как они появилис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667720" cy="208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5800" y="1599840"/>
            <a:ext cx="4643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ервобытные верования – первая ступень в развитии религий. Как разнообразна природа и занятия людей, так разнообразны и причудливы верования первобытных люд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08080" y="146160"/>
            <a:ext cx="848520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Старые документы\Мои документы\Лена\Религии России\картинки\ohota.jpg"/>
          <p:cNvPicPr/>
          <p:nvPr/>
        </p:nvPicPr>
        <p:blipFill>
          <a:blip r:embed="rId2">
            <a:lum bright="-26000"/>
          </a:blip>
          <a:stretch/>
        </p:blipFill>
        <p:spPr>
          <a:xfrm>
            <a:off x="214200" y="1785960"/>
            <a:ext cx="314352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2" descr="C:\Documents and Settings\ADMIN\Мои документы\Старые документы\Мои документы\Лена\Религии России\картинки\drevn.gif"/>
          <p:cNvPicPr/>
          <p:nvPr/>
        </p:nvPicPr>
        <p:blipFill>
          <a:blip r:embed="rId3"/>
          <a:stretch/>
        </p:blipFill>
        <p:spPr>
          <a:xfrm>
            <a:off x="1357200" y="3714840"/>
            <a:ext cx="267012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5776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Тотемизм – это обряды и верования, связанные с поклонением древнего человека животным и растениям как своим мифическим предкам и защитника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Documents and Settings\ADMIN\Мои документы\Старые документы\Мои документы\Лена\Религии России\картинки\f_15414243.jpg"/>
          <p:cNvPicPr/>
          <p:nvPr/>
        </p:nvPicPr>
        <p:blipFill>
          <a:blip r:embed="rId2"/>
          <a:stretch/>
        </p:blipFill>
        <p:spPr>
          <a:xfrm>
            <a:off x="357120" y="1428840"/>
            <a:ext cx="3286080" cy="39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Picture 3" descr="C:\Documents and Settings\ADMIN\Мои документы\Старые документы\Мои документы\Лена\Религии России\картинки\totem.jpg"/>
          <p:cNvPicPr/>
          <p:nvPr/>
        </p:nvPicPr>
        <p:blipFill>
          <a:blip r:embed="rId3"/>
          <a:stretch/>
        </p:blipFill>
        <p:spPr>
          <a:xfrm>
            <a:off x="1928880" y="3929040"/>
            <a:ext cx="198576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00360" y="1643040"/>
            <a:ext cx="415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Анимизм – это обряды и верования, основанные на вере в существование духов и душ, населяющих м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\Мои документы\Старые документы\Мои документы\Лена\Религии России\картинки\анимизм.JPG"/>
          <p:cNvPicPr/>
          <p:nvPr/>
        </p:nvPicPr>
        <p:blipFill>
          <a:blip r:embed="rId2"/>
          <a:stretch/>
        </p:blipFill>
        <p:spPr>
          <a:xfrm>
            <a:off x="214200" y="1785960"/>
            <a:ext cx="385776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Picture 3" descr="C:\Documents and Settings\ADMIN\Мои документы\Старые документы\Мои документы\Лена\Религии России\картинки\Dusha.jpg"/>
          <p:cNvPicPr/>
          <p:nvPr/>
        </p:nvPicPr>
        <p:blipFill>
          <a:blip r:embed="rId3"/>
          <a:srcRect l="7086" t="5670" r="7086" b="5670"/>
          <a:stretch/>
        </p:blipFill>
        <p:spPr>
          <a:xfrm>
            <a:off x="2714760" y="4214880"/>
            <a:ext cx="185724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928760" y="1214280"/>
            <a:ext cx="40006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ытаясь защитить себя от грозных сил природы, неудач человек создает культы – обряды и верования, в основе которых лежит почитание какого-либо объ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086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Documents and Settings\ADMIN\Мои документы\Мои рисунки\image.jpg"/>
          <p:cNvPicPr/>
          <p:nvPr/>
        </p:nvPicPr>
        <p:blipFill>
          <a:blip r:embed="rId2"/>
          <a:stretch/>
        </p:blipFill>
        <p:spPr>
          <a:xfrm>
            <a:off x="285840" y="1285920"/>
            <a:ext cx="278604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Picture 3" descr="C:\Documents and Settings\ADMIN\Мои документы\Мои рисунки\0a259c4295f3307cf4dcb2d4631d1d01.jpeg"/>
          <p:cNvPicPr/>
          <p:nvPr/>
        </p:nvPicPr>
        <p:blipFill>
          <a:blip r:embed="rId3"/>
          <a:stretch/>
        </p:blipFill>
        <p:spPr>
          <a:xfrm>
            <a:off x="2357280" y="3714840"/>
            <a:ext cx="278640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3286080" y="1285920"/>
            <a:ext cx="178596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2" descr="C:\Documents and Settings\ADMIN\Мои документы\Мои рисунки\3b5a11b991c5e3a67d57bee3d82.jpg"/>
          <p:cNvPicPr/>
          <p:nvPr/>
        </p:nvPicPr>
        <p:blipFill>
          <a:blip r:embed="rId5"/>
          <a:stretch/>
        </p:blipFill>
        <p:spPr>
          <a:xfrm>
            <a:off x="285840" y="3714840"/>
            <a:ext cx="18572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929200" y="1523880"/>
            <a:ext cx="32148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ерования, связан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с погребением умерших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ADMIN\Мои документы\Мои рисунки\ancient-tomb-5.jpg"/>
          <p:cNvPicPr/>
          <p:nvPr/>
        </p:nvPicPr>
        <p:blipFill>
          <a:blip r:embed="rId2"/>
          <a:stretch/>
        </p:blipFill>
        <p:spPr>
          <a:xfrm>
            <a:off x="3357720" y="1500120"/>
            <a:ext cx="2657160" cy="478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Picture 4" descr="C:\Documents and Settings\ADMIN\Мои документы\Мои рисунки\1556157.jpg"/>
          <p:cNvPicPr/>
          <p:nvPr/>
        </p:nvPicPr>
        <p:blipFill>
          <a:blip r:embed="rId3"/>
          <a:stretch/>
        </p:blipFill>
        <p:spPr>
          <a:xfrm>
            <a:off x="285840" y="4000680"/>
            <a:ext cx="2928960" cy="228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Documents and Settings\ADMIN\Мои документы\Мои рисунки\image.jpg"/>
          <p:cNvPicPr/>
          <p:nvPr/>
        </p:nvPicPr>
        <p:blipFill>
          <a:blip r:embed="rId4"/>
          <a:stretch/>
        </p:blipFill>
        <p:spPr>
          <a:xfrm>
            <a:off x="357120" y="1500120"/>
            <a:ext cx="271476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714560" y="1523880"/>
            <a:ext cx="3971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и поверья, связанные с охотничьим и рыболовным промысл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Documents and Settings\ADMIN\Мои документы\Мои рисунки\0a259c4295f3307cf4dcb2d4631d1d01.jpeg"/>
          <p:cNvPicPr/>
          <p:nvPr/>
        </p:nvPicPr>
        <p:blipFill>
          <a:blip r:embed="rId2"/>
          <a:stretch/>
        </p:blipFill>
        <p:spPr>
          <a:xfrm>
            <a:off x="357120" y="1357200"/>
            <a:ext cx="385776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C:\Documents and Settings\ADMIN\Мои документы\Мои рисунки\etn3.jpg"/>
          <p:cNvPicPr/>
          <p:nvPr/>
        </p:nvPicPr>
        <p:blipFill>
          <a:blip r:embed="rId3"/>
          <a:stretch/>
        </p:blipFill>
        <p:spPr>
          <a:xfrm>
            <a:off x="2786040" y="4714920"/>
            <a:ext cx="29289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785840" y="1214280"/>
            <a:ext cx="3900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клонение тем или иным животным, вера в их особую связь с миром духов и бог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Мои документы\Мои рисунки\21c6edda1f82.jpg"/>
          <p:cNvPicPr/>
          <p:nvPr/>
        </p:nvPicPr>
        <p:blipFill>
          <a:blip r:embed="rId2"/>
          <a:stretch/>
        </p:blipFill>
        <p:spPr>
          <a:xfrm>
            <a:off x="5000760" y="4500720"/>
            <a:ext cx="357192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4" descr="C:\Documents and Settings\ADMIN\Мои документы\Мои рисунки\1240829271_rrrs.jpg"/>
          <p:cNvPicPr/>
          <p:nvPr/>
        </p:nvPicPr>
        <p:blipFill>
          <a:blip r:embed="rId3"/>
          <a:stretch/>
        </p:blipFill>
        <p:spPr>
          <a:xfrm>
            <a:off x="357120" y="1285920"/>
            <a:ext cx="20718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2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2643120" y="2071800"/>
            <a:ext cx="221472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9:10:28Z</dcterms:modified>
  <cp:revision>95</cp:revision>
  <dc:subject/>
  <dc:title>Религиозные представления первобытной эпохи. Тотемизм. Анимизм. Фетишизм.</dc:title>
</cp:coreProperties>
</file>